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A26-90FD-4A18-893A-7823B0AC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0E3-5B8F-4C4B-916F-211B171B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B27-3672-4343-83C1-0BB8664F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6CB-52E9-4238-B355-26D90625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D85A-5439-41C3-8A9A-36C21722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EBF-EEA7-482D-9B46-B3E9E34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7AF1-6FEC-445D-8602-AB8ECA5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31A-D8A2-4E7F-8094-5F5F02ED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43D9-3E9F-43F1-891B-77CD539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BF37-60E1-4565-BE32-BF75141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824B-9E6D-4089-9A65-4AE34EB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B34-885A-4EAF-9BE5-C39AF4B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3C8-5167-43DD-B11C-AB60E5EE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7D9C-ECF5-4468-AE2A-84505F5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E34B-6230-4C25-91FC-0D88967C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427C-E55D-48D6-AFA0-80A3C92F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916D-214E-4EA0-B60B-A13D7E04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BB3-F51C-46D4-A0B5-2A568E88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70F-A0D7-4EB7-8AAB-84D914A4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2AA-7B49-47F2-9627-0B64CE98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8E1-5B86-4BA6-9594-541A20B7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C1A-9982-42FB-B58A-1690D84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072-FBBF-4B68-8CB2-FF02A92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97F-6527-4D47-8201-18E80F0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F63-7169-4D47-B973-417F4FD94C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63D-D5E8-4685-880F-945396D576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d6d8c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d6d8c0"/>
                </a:solidFill>
                <a:latin typeface="Arial"/>
              </a:rPr>
              <a:t>Tuesday, November 25th</a:t>
            </a:r>
            <a:endParaRPr b="0" lang="en-US" sz="49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if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 – co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cs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3170160"/>
            <a:ext cx="303120" cy="285840"/>
          </a:xfrm>
          <a:custGeom>
            <a:avLst/>
            <a:gdLst/>
            <a:ahLst/>
            <a:rect l="l" t="t" r="r" b="b"/>
            <a:pathLst>
              <a:path w="844" h="794">
                <a:moveTo>
                  <a:pt x="7144" y="9203"/>
                </a:moveTo>
                <a:cubicBezTo>
                  <a:pt x="7240" y="9203"/>
                  <a:pt x="7304" y="9217"/>
                  <a:pt x="7392" y="9227"/>
                </a:cubicBezTo>
                <a:cubicBezTo>
                  <a:pt x="7468" y="9236"/>
                  <a:pt x="7518" y="9228"/>
                  <a:pt x="7590" y="9252"/>
                </a:cubicBezTo>
              </a:path>
              <a:path w="844" h="794">
                <a:moveTo>
                  <a:pt x="7987" y="8806"/>
                </a:moveTo>
                <a:cubicBezTo>
                  <a:pt x="7987" y="8935"/>
                  <a:pt x="7980" y="9053"/>
                  <a:pt x="7962" y="9178"/>
                </a:cubicBezTo>
                <a:cubicBezTo>
                  <a:pt x="7943" y="9309"/>
                  <a:pt x="7979" y="9479"/>
                  <a:pt x="7938" y="9575"/>
                </a:cubicBezTo>
                <a:cubicBezTo>
                  <a:pt x="7938" y="9602"/>
                  <a:pt x="7940" y="9608"/>
                  <a:pt x="7962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4880" y="3133800"/>
            <a:ext cx="125280" cy="411120"/>
          </a:xfrm>
          <a:custGeom>
            <a:avLst/>
            <a:gdLst/>
            <a:ahLst/>
            <a:rect l="l" t="t" r="r" b="b"/>
            <a:pathLst>
              <a:path w="349" h="1142">
                <a:moveTo>
                  <a:pt x="8806" y="8706"/>
                </a:moveTo>
                <a:cubicBezTo>
                  <a:pt x="8785" y="8758"/>
                  <a:pt x="8739" y="8825"/>
                  <a:pt x="8706" y="8880"/>
                </a:cubicBezTo>
                <a:cubicBezTo>
                  <a:pt x="8643" y="8984"/>
                  <a:pt x="8553" y="9090"/>
                  <a:pt x="8508" y="9203"/>
                </a:cubicBezTo>
                <a:cubicBezTo>
                  <a:pt x="8465" y="9310"/>
                  <a:pt x="8458" y="9412"/>
                  <a:pt x="8458" y="9525"/>
                </a:cubicBezTo>
                <a:cubicBezTo>
                  <a:pt x="8458" y="9619"/>
                  <a:pt x="8452" y="9692"/>
                  <a:pt x="8508" y="9773"/>
                </a:cubicBezTo>
                <a:cubicBezTo>
                  <a:pt x="8542" y="9822"/>
                  <a:pt x="8597" y="9855"/>
                  <a:pt x="8657" y="9847"/>
                </a:cubicBezTo>
                <a:cubicBezTo>
                  <a:pt x="8690" y="9839"/>
                  <a:pt x="8723" y="9831"/>
                  <a:pt x="8756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7720" y="3170160"/>
            <a:ext cx="36360" cy="357120"/>
          </a:xfrm>
          <a:custGeom>
            <a:avLst/>
            <a:gdLst/>
            <a:ahLst/>
            <a:rect l="l" t="t" r="r" b="b"/>
            <a:pathLst>
              <a:path w="100" h="993">
                <a:moveTo>
                  <a:pt x="9426" y="8806"/>
                </a:moveTo>
                <a:cubicBezTo>
                  <a:pt x="9406" y="8941"/>
                  <a:pt x="9369" y="9069"/>
                  <a:pt x="9351" y="9203"/>
                </a:cubicBezTo>
                <a:cubicBezTo>
                  <a:pt x="9337" y="9310"/>
                  <a:pt x="9327" y="9415"/>
                  <a:pt x="9327" y="9525"/>
                </a:cubicBezTo>
                <a:cubicBezTo>
                  <a:pt x="9327" y="9616"/>
                  <a:pt x="9327" y="9707"/>
                  <a:pt x="9327" y="9798"/>
                </a:cubicBezTo>
                <a:cubicBezTo>
                  <a:pt x="9376" y="9760"/>
                  <a:pt x="9361" y="9782"/>
                  <a:pt x="9401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43200" y="3116160"/>
            <a:ext cx="1652760" cy="482760"/>
          </a:xfrm>
          <a:custGeom>
            <a:avLst/>
            <a:gdLst/>
            <a:ahLst/>
            <a:rect l="l" t="t" r="r" b="b"/>
            <a:pathLst>
              <a:path w="4590" h="1340">
                <a:moveTo>
                  <a:pt x="10319" y="8979"/>
                </a:moveTo>
                <a:cubicBezTo>
                  <a:pt x="10355" y="9076"/>
                  <a:pt x="10331" y="9104"/>
                  <a:pt x="10319" y="9203"/>
                </a:cubicBezTo>
                <a:cubicBezTo>
                  <a:pt x="10308" y="9295"/>
                  <a:pt x="10280" y="9388"/>
                  <a:pt x="10269" y="9475"/>
                </a:cubicBezTo>
                <a:cubicBezTo>
                  <a:pt x="10264" y="9518"/>
                  <a:pt x="10267" y="9642"/>
                  <a:pt x="10294" y="9674"/>
                </a:cubicBezTo>
                <a:cubicBezTo>
                  <a:pt x="10319" y="9674"/>
                  <a:pt x="10327" y="9674"/>
                  <a:pt x="10319" y="9699"/>
                </a:cubicBezTo>
              </a:path>
              <a:path w="4590" h="1340">
                <a:moveTo>
                  <a:pt x="10120" y="9426"/>
                </a:moveTo>
                <a:cubicBezTo>
                  <a:pt x="10240" y="9402"/>
                  <a:pt x="10345" y="9401"/>
                  <a:pt x="10468" y="9401"/>
                </a:cubicBezTo>
                <a:cubicBezTo>
                  <a:pt x="10542" y="9401"/>
                  <a:pt x="10567" y="9401"/>
                  <a:pt x="10616" y="9401"/>
                </a:cubicBezTo>
              </a:path>
              <a:path w="4590" h="1340">
                <a:moveTo>
                  <a:pt x="11162" y="9327"/>
                </a:moveTo>
                <a:cubicBezTo>
                  <a:pt x="11187" y="9351"/>
                  <a:pt x="11196" y="9359"/>
                  <a:pt x="11212" y="9376"/>
                </a:cubicBezTo>
                <a:cubicBezTo>
                  <a:pt x="11199" y="9359"/>
                  <a:pt x="11172" y="9283"/>
                  <a:pt x="11162" y="9277"/>
                </a:cubicBezTo>
                <a:cubicBezTo>
                  <a:pt x="11129" y="9255"/>
                  <a:pt x="11061" y="9284"/>
                  <a:pt x="11038" y="9302"/>
                </a:cubicBezTo>
                <a:cubicBezTo>
                  <a:pt x="10985" y="9344"/>
                  <a:pt x="10945" y="9393"/>
                  <a:pt x="10914" y="9451"/>
                </a:cubicBezTo>
                <a:cubicBezTo>
                  <a:pt x="10889" y="9497"/>
                  <a:pt x="10868" y="9596"/>
                  <a:pt x="10889" y="9649"/>
                </a:cubicBezTo>
                <a:cubicBezTo>
                  <a:pt x="10925" y="9741"/>
                  <a:pt x="10978" y="9748"/>
                  <a:pt x="11063" y="9748"/>
                </a:cubicBezTo>
                <a:cubicBezTo>
                  <a:pt x="11182" y="9748"/>
                  <a:pt x="11240" y="9693"/>
                  <a:pt x="11336" y="9624"/>
                </a:cubicBezTo>
              </a:path>
              <a:path w="4590" h="1340">
                <a:moveTo>
                  <a:pt x="11460" y="9376"/>
                </a:moveTo>
                <a:cubicBezTo>
                  <a:pt x="11410" y="9475"/>
                  <a:pt x="11385" y="9518"/>
                  <a:pt x="11385" y="9624"/>
                </a:cubicBezTo>
                <a:cubicBezTo>
                  <a:pt x="11385" y="9703"/>
                  <a:pt x="11457" y="9753"/>
                  <a:pt x="11534" y="9773"/>
                </a:cubicBezTo>
                <a:cubicBezTo>
                  <a:pt x="11598" y="9790"/>
                  <a:pt x="11705" y="9757"/>
                  <a:pt x="11757" y="9723"/>
                </a:cubicBezTo>
                <a:cubicBezTo>
                  <a:pt x="11823" y="9679"/>
                  <a:pt x="11853" y="9598"/>
                  <a:pt x="11857" y="9525"/>
                </a:cubicBezTo>
                <a:cubicBezTo>
                  <a:pt x="11862" y="9442"/>
                  <a:pt x="11773" y="9430"/>
                  <a:pt x="11708" y="9401"/>
                </a:cubicBezTo>
                <a:cubicBezTo>
                  <a:pt x="11658" y="9378"/>
                  <a:pt x="11520" y="9390"/>
                  <a:pt x="11559" y="9351"/>
                </a:cubicBezTo>
                <a:cubicBezTo>
                  <a:pt x="11594" y="9351"/>
                  <a:pt x="11611" y="9347"/>
                  <a:pt x="11633" y="9327"/>
                </a:cubicBezTo>
              </a:path>
              <a:path w="4590" h="1340">
                <a:moveTo>
                  <a:pt x="12055" y="9054"/>
                </a:moveTo>
                <a:cubicBezTo>
                  <a:pt x="12025" y="9193"/>
                  <a:pt x="12005" y="9309"/>
                  <a:pt x="12005" y="9451"/>
                </a:cubicBezTo>
                <a:cubicBezTo>
                  <a:pt x="12005" y="9567"/>
                  <a:pt x="12009" y="9662"/>
                  <a:pt x="12030" y="9773"/>
                </a:cubicBezTo>
                <a:cubicBezTo>
                  <a:pt x="12038" y="9814"/>
                  <a:pt x="12049" y="9837"/>
                  <a:pt x="12080" y="9847"/>
                </a:cubicBezTo>
              </a:path>
              <a:path w="4590" h="1340">
                <a:moveTo>
                  <a:pt x="11832" y="9426"/>
                </a:moveTo>
                <a:cubicBezTo>
                  <a:pt x="11923" y="9403"/>
                  <a:pt x="12018" y="9401"/>
                  <a:pt x="12105" y="9376"/>
                </a:cubicBezTo>
                <a:cubicBezTo>
                  <a:pt x="12121" y="9368"/>
                  <a:pt x="12138" y="9359"/>
                  <a:pt x="12154" y="9351"/>
                </a:cubicBezTo>
              </a:path>
              <a:path w="4590" h="1340">
                <a:moveTo>
                  <a:pt x="12427" y="8905"/>
                </a:moveTo>
                <a:cubicBezTo>
                  <a:pt x="12499" y="8883"/>
                  <a:pt x="12670" y="8816"/>
                  <a:pt x="12750" y="8880"/>
                </a:cubicBezTo>
                <a:cubicBezTo>
                  <a:pt x="12818" y="8934"/>
                  <a:pt x="12757" y="8999"/>
                  <a:pt x="12725" y="9029"/>
                </a:cubicBezTo>
                <a:cubicBezTo>
                  <a:pt x="12659" y="9092"/>
                  <a:pt x="12592" y="9142"/>
                  <a:pt x="12526" y="9203"/>
                </a:cubicBezTo>
                <a:cubicBezTo>
                  <a:pt x="12502" y="9227"/>
                  <a:pt x="12493" y="9236"/>
                  <a:pt x="12477" y="9252"/>
                </a:cubicBezTo>
                <a:cubicBezTo>
                  <a:pt x="12550" y="9326"/>
                  <a:pt x="12540" y="9337"/>
                  <a:pt x="12650" y="9376"/>
                </a:cubicBezTo>
                <a:cubicBezTo>
                  <a:pt x="12717" y="9398"/>
                  <a:pt x="12735" y="9403"/>
                  <a:pt x="12774" y="9426"/>
                </a:cubicBezTo>
              </a:path>
              <a:path w="4590" h="1340">
                <a:moveTo>
                  <a:pt x="12973" y="9426"/>
                </a:moveTo>
                <a:cubicBezTo>
                  <a:pt x="13019" y="9655"/>
                  <a:pt x="13020" y="9627"/>
                  <a:pt x="13221" y="9748"/>
                </a:cubicBezTo>
                <a:cubicBezTo>
                  <a:pt x="13301" y="9796"/>
                  <a:pt x="13375" y="9842"/>
                  <a:pt x="13469" y="9847"/>
                </a:cubicBezTo>
                <a:cubicBezTo>
                  <a:pt x="13536" y="9851"/>
                  <a:pt x="13531" y="9820"/>
                  <a:pt x="13568" y="9773"/>
                </a:cubicBezTo>
              </a:path>
              <a:path w="4590" h="1340">
                <a:moveTo>
                  <a:pt x="13295" y="9401"/>
                </a:moveTo>
                <a:cubicBezTo>
                  <a:pt x="13180" y="9502"/>
                  <a:pt x="13057" y="9596"/>
                  <a:pt x="12973" y="9723"/>
                </a:cubicBezTo>
                <a:cubicBezTo>
                  <a:pt x="12964" y="9736"/>
                  <a:pt x="12916" y="9865"/>
                  <a:pt x="12923" y="9872"/>
                </a:cubicBezTo>
                <a:cubicBezTo>
                  <a:pt x="12945" y="9893"/>
                  <a:pt x="12987" y="9833"/>
                  <a:pt x="12998" y="9823"/>
                </a:cubicBezTo>
              </a:path>
              <a:path w="4590" h="1340">
                <a:moveTo>
                  <a:pt x="13246" y="8657"/>
                </a:moveTo>
                <a:cubicBezTo>
                  <a:pt x="13404" y="8704"/>
                  <a:pt x="13462" y="8747"/>
                  <a:pt x="13568" y="8880"/>
                </a:cubicBezTo>
                <a:cubicBezTo>
                  <a:pt x="13693" y="9036"/>
                  <a:pt x="13749" y="9182"/>
                  <a:pt x="13791" y="9376"/>
                </a:cubicBezTo>
                <a:cubicBezTo>
                  <a:pt x="13824" y="9528"/>
                  <a:pt x="13814" y="9627"/>
                  <a:pt x="13767" y="9773"/>
                </a:cubicBezTo>
                <a:cubicBezTo>
                  <a:pt x="13735" y="9871"/>
                  <a:pt x="13672" y="9947"/>
                  <a:pt x="13568" y="9971"/>
                </a:cubicBezTo>
                <a:cubicBezTo>
                  <a:pt x="13502" y="9986"/>
                  <a:pt x="13480" y="9986"/>
                  <a:pt x="13419" y="9971"/>
                </a:cubicBezTo>
                <a:cubicBezTo>
                  <a:pt x="13435" y="9860"/>
                  <a:pt x="13469" y="9877"/>
                  <a:pt x="13593" y="9773"/>
                </a:cubicBezTo>
              </a:path>
              <a:path w="4590" h="1340">
                <a:moveTo>
                  <a:pt x="14238" y="9277"/>
                </a:moveTo>
                <a:cubicBezTo>
                  <a:pt x="14391" y="9277"/>
                  <a:pt x="14427" y="9275"/>
                  <a:pt x="14536" y="9302"/>
                </a:cubicBezTo>
              </a:path>
              <a:path w="4590" h="1340">
                <a:moveTo>
                  <a:pt x="14213" y="9575"/>
                </a:moveTo>
                <a:cubicBezTo>
                  <a:pt x="14344" y="9613"/>
                  <a:pt x="14477" y="9656"/>
                  <a:pt x="14610" y="9674"/>
                </a:cubicBezTo>
                <a:cubicBezTo>
                  <a:pt x="14662" y="9674"/>
                  <a:pt x="14680" y="9673"/>
                  <a:pt x="14709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01960" y="3875040"/>
            <a:ext cx="428760" cy="357120"/>
          </a:xfrm>
          <a:custGeom>
            <a:avLst/>
            <a:gdLst/>
            <a:ahLst/>
            <a:rect l="l" t="t" r="r" b="b"/>
            <a:pathLst>
              <a:path w="1191" h="993">
                <a:moveTo>
                  <a:pt x="8062" y="11212"/>
                </a:moveTo>
                <a:cubicBezTo>
                  <a:pt x="8139" y="11228"/>
                  <a:pt x="8202" y="11237"/>
                  <a:pt x="8285" y="11237"/>
                </a:cubicBezTo>
                <a:cubicBezTo>
                  <a:pt x="8390" y="11237"/>
                  <a:pt x="8555" y="11231"/>
                  <a:pt x="8657" y="11261"/>
                </a:cubicBezTo>
                <a:cubicBezTo>
                  <a:pt x="8695" y="11272"/>
                  <a:pt x="8686" y="11286"/>
                  <a:pt x="8731" y="11286"/>
                </a:cubicBezTo>
                <a:cubicBezTo>
                  <a:pt x="8718" y="11248"/>
                  <a:pt x="8706" y="11266"/>
                  <a:pt x="8706" y="11212"/>
                </a:cubicBezTo>
              </a:path>
              <a:path w="1191" h="993">
                <a:moveTo>
                  <a:pt x="9252" y="10765"/>
                </a:moveTo>
                <a:cubicBezTo>
                  <a:pt x="9252" y="10819"/>
                  <a:pt x="9231" y="10866"/>
                  <a:pt x="9227" y="10914"/>
                </a:cubicBezTo>
                <a:cubicBezTo>
                  <a:pt x="9214" y="11073"/>
                  <a:pt x="9222" y="11227"/>
                  <a:pt x="9203" y="11385"/>
                </a:cubicBezTo>
                <a:cubicBezTo>
                  <a:pt x="9194" y="11461"/>
                  <a:pt x="9202" y="11537"/>
                  <a:pt x="9178" y="11609"/>
                </a:cubicBezTo>
                <a:cubicBezTo>
                  <a:pt x="9160" y="11663"/>
                  <a:pt x="9153" y="11678"/>
                  <a:pt x="9153" y="11733"/>
                </a:cubicBezTo>
                <a:cubicBezTo>
                  <a:pt x="9153" y="11771"/>
                  <a:pt x="9125" y="11770"/>
                  <a:pt x="9153" y="11733"/>
                </a:cubicBezTo>
                <a:cubicBezTo>
                  <a:pt x="9161" y="11725"/>
                  <a:pt x="9170" y="11716"/>
                  <a:pt x="9178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0280" y="4081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723" y="11336"/>
                </a:moveTo>
                <a:lnTo>
                  <a:pt x="9723" y="1133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59120" y="3884760"/>
            <a:ext cx="965160" cy="347400"/>
          </a:xfrm>
          <a:custGeom>
            <a:avLst/>
            <a:gdLst/>
            <a:ahLst/>
            <a:rect l="l" t="t" r="r" b="b"/>
            <a:pathLst>
              <a:path w="2680" h="968">
                <a:moveTo>
                  <a:pt x="10765" y="11137"/>
                </a:moveTo>
                <a:cubicBezTo>
                  <a:pt x="10815" y="11188"/>
                  <a:pt x="10832" y="11223"/>
                  <a:pt x="10889" y="11237"/>
                </a:cubicBezTo>
                <a:cubicBezTo>
                  <a:pt x="10889" y="11187"/>
                  <a:pt x="10871" y="11154"/>
                  <a:pt x="10840" y="11112"/>
                </a:cubicBezTo>
                <a:cubicBezTo>
                  <a:pt x="10794" y="11051"/>
                  <a:pt x="10758" y="11010"/>
                  <a:pt x="10691" y="11038"/>
                </a:cubicBezTo>
                <a:cubicBezTo>
                  <a:pt x="10615" y="11070"/>
                  <a:pt x="10592" y="11152"/>
                  <a:pt x="10542" y="11212"/>
                </a:cubicBezTo>
                <a:cubicBezTo>
                  <a:pt x="10485" y="11280"/>
                  <a:pt x="10448" y="11345"/>
                  <a:pt x="10443" y="11435"/>
                </a:cubicBezTo>
                <a:cubicBezTo>
                  <a:pt x="10438" y="11531"/>
                  <a:pt x="10447" y="11551"/>
                  <a:pt x="10517" y="11609"/>
                </a:cubicBezTo>
                <a:cubicBezTo>
                  <a:pt x="10590" y="11670"/>
                  <a:pt x="10693" y="11702"/>
                  <a:pt x="10790" y="11683"/>
                </a:cubicBezTo>
                <a:cubicBezTo>
                  <a:pt x="10904" y="11661"/>
                  <a:pt x="10993" y="11597"/>
                  <a:pt x="11088" y="11534"/>
                </a:cubicBezTo>
              </a:path>
              <a:path w="2680" h="968">
                <a:moveTo>
                  <a:pt x="11361" y="11162"/>
                </a:moveTo>
                <a:cubicBezTo>
                  <a:pt x="11267" y="11169"/>
                  <a:pt x="11145" y="11161"/>
                  <a:pt x="11063" y="11212"/>
                </a:cubicBezTo>
                <a:cubicBezTo>
                  <a:pt x="11038" y="11237"/>
                  <a:pt x="11030" y="11245"/>
                  <a:pt x="11013" y="11261"/>
                </a:cubicBezTo>
                <a:cubicBezTo>
                  <a:pt x="11034" y="11335"/>
                  <a:pt x="11098" y="11371"/>
                  <a:pt x="11162" y="11435"/>
                </a:cubicBezTo>
                <a:cubicBezTo>
                  <a:pt x="11220" y="11493"/>
                  <a:pt x="11274" y="11556"/>
                  <a:pt x="11286" y="11633"/>
                </a:cubicBezTo>
                <a:cubicBezTo>
                  <a:pt x="11286" y="11641"/>
                  <a:pt x="11286" y="11650"/>
                  <a:pt x="11286" y="11658"/>
                </a:cubicBezTo>
                <a:cubicBezTo>
                  <a:pt x="11212" y="11673"/>
                  <a:pt x="11209" y="11693"/>
                  <a:pt x="11137" y="11658"/>
                </a:cubicBezTo>
                <a:cubicBezTo>
                  <a:pt x="11093" y="11637"/>
                  <a:pt x="11059" y="11618"/>
                  <a:pt x="11013" y="11609"/>
                </a:cubicBezTo>
                <a:cubicBezTo>
                  <a:pt x="11054" y="11444"/>
                  <a:pt x="11212" y="11459"/>
                  <a:pt x="11385" y="11385"/>
                </a:cubicBezTo>
              </a:path>
              <a:path w="2680" h="968">
                <a:moveTo>
                  <a:pt x="11881" y="11162"/>
                </a:moveTo>
                <a:cubicBezTo>
                  <a:pt x="11881" y="11202"/>
                  <a:pt x="11881" y="11249"/>
                  <a:pt x="11857" y="11261"/>
                </a:cubicBezTo>
                <a:cubicBezTo>
                  <a:pt x="11837" y="11271"/>
                  <a:pt x="11788" y="11237"/>
                  <a:pt x="11757" y="11237"/>
                </a:cubicBezTo>
                <a:cubicBezTo>
                  <a:pt x="11693" y="11237"/>
                  <a:pt x="11637" y="11334"/>
                  <a:pt x="11609" y="11385"/>
                </a:cubicBezTo>
                <a:cubicBezTo>
                  <a:pt x="11569" y="11458"/>
                  <a:pt x="11559" y="11502"/>
                  <a:pt x="11559" y="11584"/>
                </a:cubicBezTo>
                <a:cubicBezTo>
                  <a:pt x="11559" y="11661"/>
                  <a:pt x="11660" y="11694"/>
                  <a:pt x="11733" y="11708"/>
                </a:cubicBezTo>
                <a:cubicBezTo>
                  <a:pt x="11826" y="11726"/>
                  <a:pt x="11877" y="11696"/>
                  <a:pt x="11931" y="11633"/>
                </a:cubicBezTo>
              </a:path>
              <a:path w="2680" h="968">
                <a:moveTo>
                  <a:pt x="12154" y="10790"/>
                </a:moveTo>
                <a:cubicBezTo>
                  <a:pt x="12249" y="10790"/>
                  <a:pt x="12322" y="10758"/>
                  <a:pt x="12328" y="10864"/>
                </a:cubicBezTo>
                <a:cubicBezTo>
                  <a:pt x="12333" y="10951"/>
                  <a:pt x="12271" y="10994"/>
                  <a:pt x="12204" y="11038"/>
                </a:cubicBezTo>
                <a:cubicBezTo>
                  <a:pt x="12160" y="11060"/>
                  <a:pt x="12148" y="11063"/>
                  <a:pt x="12129" y="11088"/>
                </a:cubicBezTo>
                <a:cubicBezTo>
                  <a:pt x="12176" y="11133"/>
                  <a:pt x="12208" y="11151"/>
                  <a:pt x="12278" y="11162"/>
                </a:cubicBezTo>
                <a:cubicBezTo>
                  <a:pt x="12330" y="11162"/>
                  <a:pt x="12348" y="11163"/>
                  <a:pt x="12378" y="11187"/>
                </a:cubicBezTo>
              </a:path>
              <a:path w="2680" h="968">
                <a:moveTo>
                  <a:pt x="12601" y="11261"/>
                </a:moveTo>
                <a:cubicBezTo>
                  <a:pt x="12634" y="11450"/>
                  <a:pt x="12624" y="11481"/>
                  <a:pt x="12774" y="11584"/>
                </a:cubicBezTo>
                <a:cubicBezTo>
                  <a:pt x="12841" y="11630"/>
                  <a:pt x="12964" y="11693"/>
                  <a:pt x="13047" y="11708"/>
                </a:cubicBezTo>
                <a:cubicBezTo>
                  <a:pt x="13072" y="11708"/>
                  <a:pt x="13097" y="11708"/>
                  <a:pt x="13122" y="11708"/>
                </a:cubicBezTo>
              </a:path>
              <a:path w="2680" h="968">
                <a:moveTo>
                  <a:pt x="12998" y="11286"/>
                </a:moveTo>
                <a:cubicBezTo>
                  <a:pt x="12921" y="11376"/>
                  <a:pt x="12817" y="11528"/>
                  <a:pt x="12725" y="11609"/>
                </a:cubicBezTo>
                <a:cubicBezTo>
                  <a:pt x="12673" y="11655"/>
                  <a:pt x="12650" y="11657"/>
                  <a:pt x="12650" y="11733"/>
                </a:cubicBezTo>
                <a:cubicBezTo>
                  <a:pt x="12650" y="11757"/>
                  <a:pt x="12650" y="11765"/>
                  <a:pt x="12675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7120" y="407196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4238" y="11336"/>
                </a:moveTo>
                <a:cubicBezTo>
                  <a:pt x="14286" y="11336"/>
                  <a:pt x="14442" y="11367"/>
                  <a:pt x="14461" y="11311"/>
                </a:cubicBezTo>
              </a:path>
              <a:path w="472" h="423">
                <a:moveTo>
                  <a:pt x="13990" y="11534"/>
                </a:moveTo>
                <a:cubicBezTo>
                  <a:pt x="14147" y="11615"/>
                  <a:pt x="14271" y="11682"/>
                  <a:pt x="14436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74960" y="4456080"/>
            <a:ext cx="447840" cy="339840"/>
          </a:xfrm>
          <a:custGeom>
            <a:avLst/>
            <a:gdLst/>
            <a:ahLst/>
            <a:rect l="l" t="t" r="r" b="b"/>
            <a:pathLst>
              <a:path w="1241" h="943">
                <a:moveTo>
                  <a:pt x="7987" y="12898"/>
                </a:moveTo>
                <a:cubicBezTo>
                  <a:pt x="8033" y="13002"/>
                  <a:pt x="8080" y="13122"/>
                  <a:pt x="8136" y="13221"/>
                </a:cubicBezTo>
                <a:cubicBezTo>
                  <a:pt x="8165" y="13272"/>
                  <a:pt x="8199" y="13284"/>
                  <a:pt x="8235" y="13320"/>
                </a:cubicBezTo>
                <a:cubicBezTo>
                  <a:pt x="8263" y="13276"/>
                  <a:pt x="8301" y="13221"/>
                  <a:pt x="8334" y="13171"/>
                </a:cubicBezTo>
                <a:cubicBezTo>
                  <a:pt x="8443" y="13004"/>
                  <a:pt x="8498" y="12853"/>
                  <a:pt x="8657" y="12725"/>
                </a:cubicBezTo>
                <a:cubicBezTo>
                  <a:pt x="8795" y="12614"/>
                  <a:pt x="8926" y="12558"/>
                  <a:pt x="9079" y="12477"/>
                </a:cubicBezTo>
                <a:cubicBezTo>
                  <a:pt x="9153" y="12427"/>
                  <a:pt x="9177" y="12411"/>
                  <a:pt x="922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4572000"/>
            <a:ext cx="1276560" cy="357120"/>
          </a:xfrm>
          <a:custGeom>
            <a:avLst/>
            <a:gdLst/>
            <a:ahLst/>
            <a:rect l="l" t="t" r="r" b="b"/>
            <a:pathLst>
              <a:path w="3548" h="993">
                <a:moveTo>
                  <a:pt x="10344" y="13246"/>
                </a:moveTo>
                <a:cubicBezTo>
                  <a:pt x="10526" y="13246"/>
                  <a:pt x="10714" y="13262"/>
                  <a:pt x="10889" y="13221"/>
                </a:cubicBezTo>
              </a:path>
              <a:path w="3548" h="993">
                <a:moveTo>
                  <a:pt x="11435" y="13097"/>
                </a:moveTo>
                <a:cubicBezTo>
                  <a:pt x="11486" y="13133"/>
                  <a:pt x="11517" y="13154"/>
                  <a:pt x="11559" y="13196"/>
                </a:cubicBezTo>
                <a:cubicBezTo>
                  <a:pt x="11559" y="13145"/>
                  <a:pt x="11566" y="13112"/>
                  <a:pt x="11534" y="13072"/>
                </a:cubicBezTo>
                <a:cubicBezTo>
                  <a:pt x="11488" y="13014"/>
                  <a:pt x="11476" y="13016"/>
                  <a:pt x="11410" y="13047"/>
                </a:cubicBezTo>
                <a:cubicBezTo>
                  <a:pt x="11329" y="13086"/>
                  <a:pt x="11284" y="13149"/>
                  <a:pt x="11237" y="13221"/>
                </a:cubicBezTo>
                <a:cubicBezTo>
                  <a:pt x="11193" y="13289"/>
                  <a:pt x="11137" y="13356"/>
                  <a:pt x="11162" y="13444"/>
                </a:cubicBezTo>
                <a:cubicBezTo>
                  <a:pt x="11186" y="13531"/>
                  <a:pt x="11236" y="13556"/>
                  <a:pt x="11311" y="13593"/>
                </a:cubicBezTo>
                <a:cubicBezTo>
                  <a:pt x="11437" y="13656"/>
                  <a:pt x="11520" y="13581"/>
                  <a:pt x="11633" y="13519"/>
                </a:cubicBezTo>
              </a:path>
              <a:path w="3548" h="993">
                <a:moveTo>
                  <a:pt x="11981" y="13122"/>
                </a:moveTo>
                <a:cubicBezTo>
                  <a:pt x="11904" y="13127"/>
                  <a:pt x="11874" y="13133"/>
                  <a:pt x="11807" y="13146"/>
                </a:cubicBezTo>
                <a:cubicBezTo>
                  <a:pt x="11807" y="13217"/>
                  <a:pt x="11831" y="13242"/>
                  <a:pt x="11881" y="13295"/>
                </a:cubicBezTo>
                <a:cubicBezTo>
                  <a:pt x="11961" y="13380"/>
                  <a:pt x="12067" y="13466"/>
                  <a:pt x="12080" y="13593"/>
                </a:cubicBezTo>
                <a:cubicBezTo>
                  <a:pt x="12086" y="13651"/>
                  <a:pt x="11997" y="13689"/>
                  <a:pt x="11956" y="13692"/>
                </a:cubicBezTo>
                <a:cubicBezTo>
                  <a:pt x="11905" y="13695"/>
                  <a:pt x="11810" y="13668"/>
                  <a:pt x="11782" y="13618"/>
                </a:cubicBezTo>
                <a:cubicBezTo>
                  <a:pt x="11782" y="13583"/>
                  <a:pt x="11787" y="13565"/>
                  <a:pt x="11807" y="13543"/>
                </a:cubicBezTo>
              </a:path>
              <a:path w="3548" h="993">
                <a:moveTo>
                  <a:pt x="12576" y="13246"/>
                </a:moveTo>
                <a:cubicBezTo>
                  <a:pt x="12584" y="13262"/>
                  <a:pt x="12593" y="13279"/>
                  <a:pt x="12601" y="13295"/>
                </a:cubicBezTo>
                <a:cubicBezTo>
                  <a:pt x="12578" y="13266"/>
                  <a:pt x="12566" y="13214"/>
                  <a:pt x="12526" y="13196"/>
                </a:cubicBezTo>
                <a:cubicBezTo>
                  <a:pt x="12456" y="13164"/>
                  <a:pt x="12396" y="13232"/>
                  <a:pt x="12353" y="13271"/>
                </a:cubicBezTo>
                <a:cubicBezTo>
                  <a:pt x="12294" y="13325"/>
                  <a:pt x="12303" y="13397"/>
                  <a:pt x="12303" y="13469"/>
                </a:cubicBezTo>
                <a:cubicBezTo>
                  <a:pt x="12303" y="13535"/>
                  <a:pt x="12399" y="13572"/>
                  <a:pt x="12452" y="13593"/>
                </a:cubicBezTo>
                <a:cubicBezTo>
                  <a:pt x="12519" y="13616"/>
                  <a:pt x="12537" y="13627"/>
                  <a:pt x="12576" y="13593"/>
                </a:cubicBezTo>
              </a:path>
              <a:path w="3548" h="993">
                <a:moveTo>
                  <a:pt x="12948" y="12700"/>
                </a:moveTo>
                <a:cubicBezTo>
                  <a:pt x="13063" y="12739"/>
                  <a:pt x="13112" y="12719"/>
                  <a:pt x="13097" y="12799"/>
                </a:cubicBezTo>
                <a:cubicBezTo>
                  <a:pt x="13078" y="12864"/>
                  <a:pt x="13041" y="12908"/>
                  <a:pt x="12973" y="12948"/>
                </a:cubicBezTo>
                <a:cubicBezTo>
                  <a:pt x="12929" y="12970"/>
                  <a:pt x="12917" y="12973"/>
                  <a:pt x="12898" y="12998"/>
                </a:cubicBezTo>
                <a:cubicBezTo>
                  <a:pt x="12914" y="13060"/>
                  <a:pt x="12958" y="13070"/>
                  <a:pt x="13022" y="13072"/>
                </a:cubicBezTo>
                <a:cubicBezTo>
                  <a:pt x="13063" y="13072"/>
                  <a:pt x="13105" y="13072"/>
                  <a:pt x="13146" y="13072"/>
                </a:cubicBezTo>
              </a:path>
              <a:path w="3548" h="993">
                <a:moveTo>
                  <a:pt x="13444" y="13196"/>
                </a:moveTo>
                <a:cubicBezTo>
                  <a:pt x="13533" y="13357"/>
                  <a:pt x="13571" y="13420"/>
                  <a:pt x="13742" y="13494"/>
                </a:cubicBezTo>
                <a:cubicBezTo>
                  <a:pt x="13816" y="13519"/>
                  <a:pt x="13841" y="13527"/>
                  <a:pt x="13891" y="13543"/>
                </a:cubicBezTo>
              </a:path>
              <a:path w="3548" h="993">
                <a:moveTo>
                  <a:pt x="13816" y="13146"/>
                </a:moveTo>
                <a:cubicBezTo>
                  <a:pt x="13704" y="13240"/>
                  <a:pt x="13563" y="13332"/>
                  <a:pt x="13469" y="13444"/>
                </a:cubicBezTo>
                <a:cubicBezTo>
                  <a:pt x="13427" y="13494"/>
                  <a:pt x="13389" y="13560"/>
                  <a:pt x="13370" y="13618"/>
                </a:cubicBezTo>
                <a:cubicBezTo>
                  <a:pt x="13428" y="13618"/>
                  <a:pt x="13462" y="13591"/>
                  <a:pt x="13519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7960" y="4741920"/>
            <a:ext cx="142920" cy="71280"/>
          </a:xfrm>
          <a:custGeom>
            <a:avLst/>
            <a:gdLst/>
            <a:ahLst/>
            <a:rect l="l" t="t" r="r" b="b"/>
            <a:pathLst>
              <a:path w="397" h="200">
                <a:moveTo>
                  <a:pt x="14412" y="13171"/>
                </a:moveTo>
                <a:cubicBezTo>
                  <a:pt x="14499" y="13176"/>
                  <a:pt x="14655" y="13229"/>
                  <a:pt x="14734" y="13221"/>
                </a:cubicBezTo>
                <a:cubicBezTo>
                  <a:pt x="14774" y="13201"/>
                  <a:pt x="14781" y="13192"/>
                  <a:pt x="14808" y="13196"/>
                </a:cubicBezTo>
              </a:path>
              <a:path w="397" h="200">
                <a:moveTo>
                  <a:pt x="14436" y="13320"/>
                </a:moveTo>
                <a:cubicBezTo>
                  <a:pt x="14538" y="13356"/>
                  <a:pt x="14660" y="13425"/>
                  <a:pt x="14709" y="13271"/>
                </a:cubicBezTo>
                <a:cubicBezTo>
                  <a:pt x="14709" y="13246"/>
                  <a:pt x="14709" y="13221"/>
                  <a:pt x="14709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</a:t>
            </a:r>
            <a:br>
              <a:rPr sz="4000"/>
            </a:b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+ 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 = sec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(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)</a:t>
            </a:r>
            <a:endParaRPr b="0" lang="en-US" sz="35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45000" y="2197080"/>
            <a:ext cx="206280" cy="1332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2675" y="6102"/>
                </a:moveTo>
                <a:cubicBezTo>
                  <a:pt x="12765" y="6102"/>
                  <a:pt x="12836" y="6115"/>
                  <a:pt x="12923" y="6127"/>
                </a:cubicBezTo>
                <a:cubicBezTo>
                  <a:pt x="12985" y="6136"/>
                  <a:pt x="13182" y="6096"/>
                  <a:pt x="13196" y="6152"/>
                </a:cubicBezTo>
                <a:cubicBezTo>
                  <a:pt x="13196" y="6160"/>
                  <a:pt x="13196" y="6168"/>
                  <a:pt x="13196" y="6176"/>
                </a:cubicBezTo>
              </a:path>
              <a:path w="571" h="373">
                <a:moveTo>
                  <a:pt x="12626" y="6449"/>
                </a:moveTo>
                <a:cubicBezTo>
                  <a:pt x="12679" y="6490"/>
                  <a:pt x="12683" y="6453"/>
                  <a:pt x="12750" y="6449"/>
                </a:cubicBezTo>
                <a:cubicBezTo>
                  <a:pt x="12837" y="6444"/>
                  <a:pt x="12917" y="6435"/>
                  <a:pt x="12998" y="6424"/>
                </a:cubicBezTo>
                <a:cubicBezTo>
                  <a:pt x="13023" y="6424"/>
                  <a:pt x="13047" y="6424"/>
                  <a:pt x="13072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64040" y="2089080"/>
            <a:ext cx="2982960" cy="393840"/>
          </a:xfrm>
          <a:custGeom>
            <a:avLst/>
            <a:gdLst/>
            <a:ahLst/>
            <a:rect l="l" t="t" r="r" b="b"/>
            <a:pathLst>
              <a:path w="8286" h="1093">
                <a:moveTo>
                  <a:pt x="14139" y="6052"/>
                </a:moveTo>
                <a:cubicBezTo>
                  <a:pt x="14100" y="6041"/>
                  <a:pt x="14012" y="6009"/>
                  <a:pt x="13965" y="6028"/>
                </a:cubicBezTo>
                <a:cubicBezTo>
                  <a:pt x="13915" y="6048"/>
                  <a:pt x="13883" y="6060"/>
                  <a:pt x="13841" y="6102"/>
                </a:cubicBezTo>
                <a:cubicBezTo>
                  <a:pt x="13821" y="6122"/>
                  <a:pt x="13799" y="6170"/>
                  <a:pt x="13816" y="6201"/>
                </a:cubicBezTo>
                <a:cubicBezTo>
                  <a:pt x="13842" y="6248"/>
                  <a:pt x="13902" y="6265"/>
                  <a:pt x="13940" y="6300"/>
                </a:cubicBezTo>
                <a:cubicBezTo>
                  <a:pt x="13990" y="6346"/>
                  <a:pt x="14039" y="6369"/>
                  <a:pt x="13990" y="6424"/>
                </a:cubicBezTo>
                <a:cubicBezTo>
                  <a:pt x="13963" y="6454"/>
                  <a:pt x="13907" y="6471"/>
                  <a:pt x="13866" y="6474"/>
                </a:cubicBezTo>
                <a:cubicBezTo>
                  <a:pt x="13824" y="6474"/>
                  <a:pt x="13816" y="6474"/>
                  <a:pt x="13791" y="6474"/>
                </a:cubicBezTo>
              </a:path>
              <a:path w="8286" h="1093">
                <a:moveTo>
                  <a:pt x="14387" y="6226"/>
                </a:moveTo>
                <a:cubicBezTo>
                  <a:pt x="14431" y="6259"/>
                  <a:pt x="14453" y="6251"/>
                  <a:pt x="14511" y="6251"/>
                </a:cubicBezTo>
                <a:cubicBezTo>
                  <a:pt x="14588" y="6251"/>
                  <a:pt x="14643" y="6247"/>
                  <a:pt x="14709" y="6201"/>
                </a:cubicBezTo>
                <a:cubicBezTo>
                  <a:pt x="14745" y="6176"/>
                  <a:pt x="14777" y="6134"/>
                  <a:pt x="14808" y="6102"/>
                </a:cubicBezTo>
                <a:cubicBezTo>
                  <a:pt x="14733" y="6102"/>
                  <a:pt x="14676" y="6143"/>
                  <a:pt x="14610" y="6176"/>
                </a:cubicBezTo>
                <a:cubicBezTo>
                  <a:pt x="14535" y="6213"/>
                  <a:pt x="14436" y="6262"/>
                  <a:pt x="14412" y="6350"/>
                </a:cubicBezTo>
                <a:cubicBezTo>
                  <a:pt x="14393" y="6421"/>
                  <a:pt x="14444" y="6462"/>
                  <a:pt x="14511" y="6474"/>
                </a:cubicBezTo>
                <a:cubicBezTo>
                  <a:pt x="14611" y="6492"/>
                  <a:pt x="14715" y="6482"/>
                  <a:pt x="14808" y="6474"/>
                </a:cubicBezTo>
                <a:cubicBezTo>
                  <a:pt x="14866" y="6474"/>
                  <a:pt x="14891" y="6474"/>
                  <a:pt x="14932" y="6474"/>
                </a:cubicBezTo>
              </a:path>
              <a:path w="8286" h="1093">
                <a:moveTo>
                  <a:pt x="15453" y="6201"/>
                </a:moveTo>
                <a:cubicBezTo>
                  <a:pt x="15445" y="6168"/>
                  <a:pt x="15415" y="6135"/>
                  <a:pt x="15379" y="6127"/>
                </a:cubicBezTo>
                <a:cubicBezTo>
                  <a:pt x="15310" y="6112"/>
                  <a:pt x="15288" y="6161"/>
                  <a:pt x="15255" y="6201"/>
                </a:cubicBezTo>
                <a:cubicBezTo>
                  <a:pt x="15211" y="6255"/>
                  <a:pt x="15120" y="6446"/>
                  <a:pt x="15205" y="6499"/>
                </a:cubicBezTo>
                <a:cubicBezTo>
                  <a:pt x="15237" y="6519"/>
                  <a:pt x="15311" y="6541"/>
                  <a:pt x="15354" y="6524"/>
                </a:cubicBezTo>
                <a:cubicBezTo>
                  <a:pt x="15400" y="6506"/>
                  <a:pt x="15449" y="6485"/>
                  <a:pt x="15503" y="6474"/>
                </a:cubicBezTo>
              </a:path>
              <a:path w="8286" h="1093">
                <a:moveTo>
                  <a:pt x="15652" y="5904"/>
                </a:moveTo>
                <a:cubicBezTo>
                  <a:pt x="15684" y="5880"/>
                  <a:pt x="15734" y="5865"/>
                  <a:pt x="15776" y="5854"/>
                </a:cubicBezTo>
                <a:cubicBezTo>
                  <a:pt x="15820" y="5843"/>
                  <a:pt x="15868" y="5847"/>
                  <a:pt x="15900" y="5879"/>
                </a:cubicBezTo>
                <a:cubicBezTo>
                  <a:pt x="15919" y="5898"/>
                  <a:pt x="15925" y="5914"/>
                  <a:pt x="15925" y="5953"/>
                </a:cubicBezTo>
                <a:cubicBezTo>
                  <a:pt x="15925" y="5977"/>
                  <a:pt x="15879" y="6027"/>
                  <a:pt x="15875" y="6028"/>
                </a:cubicBezTo>
                <a:cubicBezTo>
                  <a:pt x="15862" y="6031"/>
                  <a:pt x="15785" y="6041"/>
                  <a:pt x="15776" y="6052"/>
                </a:cubicBezTo>
                <a:cubicBezTo>
                  <a:pt x="15776" y="6060"/>
                  <a:pt x="15776" y="6069"/>
                  <a:pt x="15776" y="6077"/>
                </a:cubicBezTo>
                <a:cubicBezTo>
                  <a:pt x="15785" y="6104"/>
                  <a:pt x="15804" y="6140"/>
                  <a:pt x="15850" y="6152"/>
                </a:cubicBezTo>
                <a:cubicBezTo>
                  <a:pt x="15884" y="6161"/>
                  <a:pt x="15938" y="6152"/>
                  <a:pt x="15974" y="6152"/>
                </a:cubicBezTo>
              </a:path>
              <a:path w="8286" h="1093">
                <a:moveTo>
                  <a:pt x="16297" y="6052"/>
                </a:moveTo>
                <a:cubicBezTo>
                  <a:pt x="16305" y="6083"/>
                  <a:pt x="16310" y="6121"/>
                  <a:pt x="16321" y="6152"/>
                </a:cubicBezTo>
                <a:cubicBezTo>
                  <a:pt x="16345" y="6219"/>
                  <a:pt x="16353" y="6288"/>
                  <a:pt x="16396" y="6350"/>
                </a:cubicBezTo>
                <a:cubicBezTo>
                  <a:pt x="16427" y="6394"/>
                  <a:pt x="16457" y="6435"/>
                  <a:pt x="16495" y="6474"/>
                </a:cubicBezTo>
                <a:cubicBezTo>
                  <a:pt x="16530" y="6509"/>
                  <a:pt x="16576" y="6537"/>
                  <a:pt x="16619" y="6548"/>
                </a:cubicBezTo>
              </a:path>
              <a:path w="8286" h="1093">
                <a:moveTo>
                  <a:pt x="16768" y="6127"/>
                </a:moveTo>
                <a:cubicBezTo>
                  <a:pt x="16663" y="6195"/>
                  <a:pt x="16564" y="6267"/>
                  <a:pt x="16470" y="6350"/>
                </a:cubicBezTo>
                <a:cubicBezTo>
                  <a:pt x="16430" y="6385"/>
                  <a:pt x="16321" y="6468"/>
                  <a:pt x="16297" y="6524"/>
                </a:cubicBezTo>
                <a:cubicBezTo>
                  <a:pt x="16275" y="6575"/>
                  <a:pt x="16345" y="6573"/>
                  <a:pt x="16371" y="6573"/>
                </a:cubicBezTo>
              </a:path>
              <a:path w="8286" h="1093">
                <a:moveTo>
                  <a:pt x="17388" y="5854"/>
                </a:moveTo>
                <a:cubicBezTo>
                  <a:pt x="17377" y="5822"/>
                  <a:pt x="17370" y="5815"/>
                  <a:pt x="17338" y="5804"/>
                </a:cubicBezTo>
                <a:cubicBezTo>
                  <a:pt x="17273" y="5871"/>
                  <a:pt x="17224" y="5914"/>
                  <a:pt x="17190" y="6003"/>
                </a:cubicBezTo>
                <a:cubicBezTo>
                  <a:pt x="17152" y="6101"/>
                  <a:pt x="17119" y="6196"/>
                  <a:pt x="17115" y="6300"/>
                </a:cubicBezTo>
                <a:cubicBezTo>
                  <a:pt x="17112" y="6387"/>
                  <a:pt x="17132" y="6459"/>
                  <a:pt x="17190" y="6524"/>
                </a:cubicBezTo>
                <a:cubicBezTo>
                  <a:pt x="17237" y="6576"/>
                  <a:pt x="17320" y="6589"/>
                  <a:pt x="17388" y="6573"/>
                </a:cubicBezTo>
                <a:cubicBezTo>
                  <a:pt x="17452" y="6558"/>
                  <a:pt x="17523" y="6520"/>
                  <a:pt x="17587" y="6499"/>
                </a:cubicBezTo>
              </a:path>
              <a:path w="8286" h="1093">
                <a:moveTo>
                  <a:pt x="17934" y="5879"/>
                </a:moveTo>
                <a:cubicBezTo>
                  <a:pt x="17934" y="5935"/>
                  <a:pt x="17924" y="5957"/>
                  <a:pt x="17909" y="6003"/>
                </a:cubicBezTo>
                <a:cubicBezTo>
                  <a:pt x="17889" y="6062"/>
                  <a:pt x="17898" y="6140"/>
                  <a:pt x="17884" y="6201"/>
                </a:cubicBezTo>
                <a:cubicBezTo>
                  <a:pt x="17860" y="6306"/>
                  <a:pt x="17835" y="6390"/>
                  <a:pt x="17835" y="6499"/>
                </a:cubicBezTo>
                <a:cubicBezTo>
                  <a:pt x="17835" y="6544"/>
                  <a:pt x="17817" y="6552"/>
                  <a:pt x="17859" y="6524"/>
                </a:cubicBezTo>
              </a:path>
              <a:path w="8286" h="1093">
                <a:moveTo>
                  <a:pt x="18008" y="5879"/>
                </a:moveTo>
                <a:cubicBezTo>
                  <a:pt x="17964" y="5857"/>
                  <a:pt x="17932" y="5883"/>
                  <a:pt x="17884" y="5928"/>
                </a:cubicBezTo>
                <a:cubicBezTo>
                  <a:pt x="17845" y="5965"/>
                  <a:pt x="17791" y="6025"/>
                  <a:pt x="17785" y="6077"/>
                </a:cubicBezTo>
                <a:cubicBezTo>
                  <a:pt x="17785" y="6085"/>
                  <a:pt x="17785" y="6094"/>
                  <a:pt x="17785" y="6102"/>
                </a:cubicBezTo>
                <a:cubicBezTo>
                  <a:pt x="17930" y="6102"/>
                  <a:pt x="18070" y="6104"/>
                  <a:pt x="18207" y="6127"/>
                </a:cubicBezTo>
                <a:cubicBezTo>
                  <a:pt x="18223" y="6127"/>
                  <a:pt x="18240" y="6127"/>
                  <a:pt x="18256" y="6127"/>
                </a:cubicBezTo>
              </a:path>
              <a:path w="8286" h="1093">
                <a:moveTo>
                  <a:pt x="18529" y="5904"/>
                </a:moveTo>
                <a:cubicBezTo>
                  <a:pt x="18542" y="5954"/>
                  <a:pt x="18554" y="5967"/>
                  <a:pt x="18554" y="6028"/>
                </a:cubicBezTo>
                <a:cubicBezTo>
                  <a:pt x="18554" y="6127"/>
                  <a:pt x="18529" y="6222"/>
                  <a:pt x="18529" y="6325"/>
                </a:cubicBezTo>
                <a:cubicBezTo>
                  <a:pt x="18529" y="6408"/>
                  <a:pt x="18518" y="6481"/>
                  <a:pt x="18504" y="6548"/>
                </a:cubicBezTo>
                <a:cubicBezTo>
                  <a:pt x="18504" y="6590"/>
                  <a:pt x="18504" y="6598"/>
                  <a:pt x="18504" y="6623"/>
                </a:cubicBezTo>
              </a:path>
              <a:path w="8286" h="1093">
                <a:moveTo>
                  <a:pt x="18405" y="6226"/>
                </a:moveTo>
                <a:cubicBezTo>
                  <a:pt x="18478" y="6226"/>
                  <a:pt x="18544" y="6239"/>
                  <a:pt x="18604" y="6251"/>
                </a:cubicBezTo>
                <a:cubicBezTo>
                  <a:pt x="18648" y="6260"/>
                  <a:pt x="18707" y="6251"/>
                  <a:pt x="18752" y="6251"/>
                </a:cubicBezTo>
              </a:path>
              <a:path w="8286" h="1093">
                <a:moveTo>
                  <a:pt x="19000" y="6276"/>
                </a:moveTo>
                <a:cubicBezTo>
                  <a:pt x="18941" y="6354"/>
                  <a:pt x="18896" y="6436"/>
                  <a:pt x="18852" y="6524"/>
                </a:cubicBezTo>
                <a:cubicBezTo>
                  <a:pt x="18832" y="6564"/>
                  <a:pt x="18823" y="6570"/>
                  <a:pt x="18827" y="6598"/>
                </a:cubicBezTo>
                <a:cubicBezTo>
                  <a:pt x="18886" y="6583"/>
                  <a:pt x="18889" y="6547"/>
                  <a:pt x="18926" y="6499"/>
                </a:cubicBezTo>
                <a:cubicBezTo>
                  <a:pt x="18950" y="6467"/>
                  <a:pt x="18986" y="6422"/>
                  <a:pt x="19000" y="6400"/>
                </a:cubicBezTo>
                <a:cubicBezTo>
                  <a:pt x="19000" y="6375"/>
                  <a:pt x="19000" y="6367"/>
                  <a:pt x="19025" y="6375"/>
                </a:cubicBezTo>
                <a:cubicBezTo>
                  <a:pt x="19038" y="6425"/>
                  <a:pt x="19050" y="6438"/>
                  <a:pt x="19050" y="6499"/>
                </a:cubicBezTo>
                <a:cubicBezTo>
                  <a:pt x="19050" y="6525"/>
                  <a:pt x="19058" y="6586"/>
                  <a:pt x="19075" y="6598"/>
                </a:cubicBezTo>
                <a:cubicBezTo>
                  <a:pt x="19100" y="6598"/>
                  <a:pt x="19108" y="6598"/>
                  <a:pt x="19124" y="6598"/>
                </a:cubicBezTo>
              </a:path>
              <a:path w="8286" h="1093">
                <a:moveTo>
                  <a:pt x="19248" y="6375"/>
                </a:moveTo>
                <a:cubicBezTo>
                  <a:pt x="19220" y="6414"/>
                  <a:pt x="19244" y="6439"/>
                  <a:pt x="19224" y="6474"/>
                </a:cubicBezTo>
                <a:cubicBezTo>
                  <a:pt x="19201" y="6515"/>
                  <a:pt x="19199" y="6522"/>
                  <a:pt x="19199" y="6573"/>
                </a:cubicBezTo>
                <a:cubicBezTo>
                  <a:pt x="19226" y="6537"/>
                  <a:pt x="19238" y="6509"/>
                  <a:pt x="19273" y="6474"/>
                </a:cubicBezTo>
                <a:cubicBezTo>
                  <a:pt x="19342" y="6404"/>
                  <a:pt x="19350" y="6400"/>
                  <a:pt x="19447" y="6400"/>
                </a:cubicBezTo>
                <a:cubicBezTo>
                  <a:pt x="19495" y="6400"/>
                  <a:pt x="19532" y="6457"/>
                  <a:pt x="19546" y="6499"/>
                </a:cubicBezTo>
                <a:cubicBezTo>
                  <a:pt x="19562" y="6546"/>
                  <a:pt x="19538" y="6554"/>
                  <a:pt x="19571" y="6598"/>
                </a:cubicBezTo>
              </a:path>
              <a:path w="8286" h="1093">
                <a:moveTo>
                  <a:pt x="19745" y="6028"/>
                </a:moveTo>
                <a:cubicBezTo>
                  <a:pt x="19812" y="6028"/>
                  <a:pt x="19862" y="6034"/>
                  <a:pt x="19918" y="6052"/>
                </a:cubicBezTo>
                <a:cubicBezTo>
                  <a:pt x="19969" y="6068"/>
                  <a:pt x="19984" y="6081"/>
                  <a:pt x="19943" y="6127"/>
                </a:cubicBezTo>
                <a:cubicBezTo>
                  <a:pt x="19918" y="6155"/>
                  <a:pt x="19877" y="6190"/>
                  <a:pt x="19844" y="6201"/>
                </a:cubicBezTo>
                <a:cubicBezTo>
                  <a:pt x="19816" y="6210"/>
                  <a:pt x="19798" y="6219"/>
                  <a:pt x="19769" y="6226"/>
                </a:cubicBezTo>
                <a:cubicBezTo>
                  <a:pt x="19804" y="6252"/>
                  <a:pt x="19845" y="6273"/>
                  <a:pt x="19893" y="6276"/>
                </a:cubicBezTo>
                <a:cubicBezTo>
                  <a:pt x="19954" y="6280"/>
                  <a:pt x="19990" y="6287"/>
                  <a:pt x="20042" y="6300"/>
                </a:cubicBezTo>
              </a:path>
              <a:path w="8286" h="1093">
                <a:moveTo>
                  <a:pt x="20315" y="6300"/>
                </a:moveTo>
                <a:cubicBezTo>
                  <a:pt x="20365" y="6312"/>
                  <a:pt x="20365" y="6324"/>
                  <a:pt x="20365" y="6375"/>
                </a:cubicBezTo>
                <a:cubicBezTo>
                  <a:pt x="20365" y="6398"/>
                  <a:pt x="20379" y="6479"/>
                  <a:pt x="20389" y="6499"/>
                </a:cubicBezTo>
                <a:cubicBezTo>
                  <a:pt x="20408" y="6537"/>
                  <a:pt x="20432" y="6566"/>
                  <a:pt x="20464" y="6598"/>
                </a:cubicBezTo>
                <a:cubicBezTo>
                  <a:pt x="20494" y="6628"/>
                  <a:pt x="20510" y="6639"/>
                  <a:pt x="20538" y="6648"/>
                </a:cubicBezTo>
              </a:path>
              <a:path w="8286" h="1093">
                <a:moveTo>
                  <a:pt x="20563" y="6350"/>
                </a:moveTo>
                <a:cubicBezTo>
                  <a:pt x="20457" y="6435"/>
                  <a:pt x="20391" y="6479"/>
                  <a:pt x="20315" y="6573"/>
                </a:cubicBezTo>
                <a:cubicBezTo>
                  <a:pt x="20326" y="6606"/>
                  <a:pt x="20329" y="6596"/>
                  <a:pt x="20365" y="6623"/>
                </a:cubicBezTo>
              </a:path>
              <a:path w="8286" h="1093">
                <a:moveTo>
                  <a:pt x="20861" y="6449"/>
                </a:moveTo>
                <a:cubicBezTo>
                  <a:pt x="20906" y="6449"/>
                  <a:pt x="20920" y="6471"/>
                  <a:pt x="20960" y="6474"/>
                </a:cubicBezTo>
                <a:cubicBezTo>
                  <a:pt x="21016" y="6478"/>
                  <a:pt x="21056" y="6494"/>
                  <a:pt x="21109" y="6499"/>
                </a:cubicBezTo>
                <a:cubicBezTo>
                  <a:pt x="21134" y="6499"/>
                  <a:pt x="21142" y="6499"/>
                  <a:pt x="21158" y="6499"/>
                </a:cubicBezTo>
              </a:path>
              <a:path w="8286" h="1093">
                <a:moveTo>
                  <a:pt x="21481" y="6176"/>
                </a:moveTo>
                <a:cubicBezTo>
                  <a:pt x="21494" y="6140"/>
                  <a:pt x="21511" y="6152"/>
                  <a:pt x="21555" y="6152"/>
                </a:cubicBezTo>
                <a:cubicBezTo>
                  <a:pt x="21599" y="6152"/>
                  <a:pt x="21618" y="6193"/>
                  <a:pt x="21654" y="6201"/>
                </a:cubicBezTo>
                <a:cubicBezTo>
                  <a:pt x="21684" y="6207"/>
                  <a:pt x="21762" y="6225"/>
                  <a:pt x="21779" y="6251"/>
                </a:cubicBezTo>
                <a:cubicBezTo>
                  <a:pt x="21779" y="6259"/>
                  <a:pt x="21779" y="6268"/>
                  <a:pt x="21779" y="6276"/>
                </a:cubicBezTo>
                <a:cubicBezTo>
                  <a:pt x="21763" y="6322"/>
                  <a:pt x="21687" y="6321"/>
                  <a:pt x="21630" y="6325"/>
                </a:cubicBezTo>
                <a:cubicBezTo>
                  <a:pt x="21567" y="6330"/>
                  <a:pt x="21539" y="6305"/>
                  <a:pt x="21481" y="6300"/>
                </a:cubicBezTo>
                <a:cubicBezTo>
                  <a:pt x="21473" y="6300"/>
                  <a:pt x="21464" y="6300"/>
                  <a:pt x="21456" y="6300"/>
                </a:cubicBezTo>
                <a:cubicBezTo>
                  <a:pt x="21468" y="6335"/>
                  <a:pt x="21510" y="6329"/>
                  <a:pt x="21530" y="6375"/>
                </a:cubicBezTo>
                <a:cubicBezTo>
                  <a:pt x="21544" y="6407"/>
                  <a:pt x="21575" y="6401"/>
                  <a:pt x="21580" y="6449"/>
                </a:cubicBezTo>
                <a:cubicBezTo>
                  <a:pt x="21585" y="6493"/>
                  <a:pt x="21584" y="6516"/>
                  <a:pt x="21555" y="6548"/>
                </a:cubicBezTo>
                <a:cubicBezTo>
                  <a:pt x="21531" y="6575"/>
                  <a:pt x="21465" y="6633"/>
                  <a:pt x="21431" y="6648"/>
                </a:cubicBezTo>
                <a:cubicBezTo>
                  <a:pt x="21403" y="6661"/>
                  <a:pt x="21338" y="6648"/>
                  <a:pt x="21307" y="6648"/>
                </a:cubicBezTo>
              </a:path>
              <a:path w="8286" h="1093">
                <a:moveTo>
                  <a:pt x="21952" y="6077"/>
                </a:moveTo>
                <a:cubicBezTo>
                  <a:pt x="21981" y="6087"/>
                  <a:pt x="21995" y="6098"/>
                  <a:pt x="22027" y="6127"/>
                </a:cubicBezTo>
                <a:cubicBezTo>
                  <a:pt x="22052" y="6150"/>
                  <a:pt x="22065" y="6219"/>
                  <a:pt x="22076" y="6251"/>
                </a:cubicBezTo>
                <a:cubicBezTo>
                  <a:pt x="22101" y="6325"/>
                  <a:pt x="22064" y="6414"/>
                  <a:pt x="22051" y="6474"/>
                </a:cubicBezTo>
                <a:cubicBezTo>
                  <a:pt x="22033" y="6560"/>
                  <a:pt x="21988" y="6600"/>
                  <a:pt x="21903" y="6648"/>
                </a:cubicBezTo>
                <a:cubicBezTo>
                  <a:pt x="21827" y="6692"/>
                  <a:pt x="21752" y="6746"/>
                  <a:pt x="21679" y="6796"/>
                </a:cubicBezTo>
                <a:cubicBezTo>
                  <a:pt x="21628" y="6831"/>
                  <a:pt x="21605" y="6846"/>
                  <a:pt x="21555" y="6871"/>
                </a:cubicBezTo>
                <a:cubicBezTo>
                  <a:pt x="21517" y="6890"/>
                  <a:pt x="21504" y="6896"/>
                  <a:pt x="21456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31920" y="2044800"/>
            <a:ext cx="142920" cy="40140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3820" y="5705"/>
                </a:moveTo>
                <a:cubicBezTo>
                  <a:pt x="3764" y="5686"/>
                  <a:pt x="3812" y="5683"/>
                  <a:pt x="3746" y="5705"/>
                </a:cubicBezTo>
                <a:cubicBezTo>
                  <a:pt x="3707" y="5718"/>
                  <a:pt x="3657" y="5752"/>
                  <a:pt x="3621" y="5779"/>
                </a:cubicBezTo>
                <a:cubicBezTo>
                  <a:pt x="3564" y="5822"/>
                  <a:pt x="3523" y="5887"/>
                  <a:pt x="3497" y="5953"/>
                </a:cubicBezTo>
                <a:cubicBezTo>
                  <a:pt x="3456" y="6059"/>
                  <a:pt x="3426" y="6163"/>
                  <a:pt x="3423" y="6276"/>
                </a:cubicBezTo>
                <a:cubicBezTo>
                  <a:pt x="3420" y="6390"/>
                  <a:pt x="3424" y="6431"/>
                  <a:pt x="3473" y="6524"/>
                </a:cubicBezTo>
                <a:cubicBezTo>
                  <a:pt x="3514" y="6602"/>
                  <a:pt x="3533" y="6643"/>
                  <a:pt x="3597" y="6697"/>
                </a:cubicBezTo>
                <a:cubicBezTo>
                  <a:pt x="3660" y="6750"/>
                  <a:pt x="3631" y="6789"/>
                  <a:pt x="3721" y="6796"/>
                </a:cubicBezTo>
                <a:cubicBezTo>
                  <a:pt x="3749" y="6796"/>
                  <a:pt x="3759" y="6794"/>
                  <a:pt x="3770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2643120"/>
            <a:ext cx="1116360" cy="446040"/>
          </a:xfrm>
          <a:custGeom>
            <a:avLst/>
            <a:gdLst/>
            <a:ahLst/>
            <a:rect l="l" t="t" r="r" b="b"/>
            <a:pathLst>
              <a:path w="3102" h="1241">
                <a:moveTo>
                  <a:pt x="3621" y="7342"/>
                </a:moveTo>
                <a:cubicBezTo>
                  <a:pt x="3572" y="7348"/>
                  <a:pt x="3562" y="7335"/>
                  <a:pt x="3522" y="7367"/>
                </a:cubicBezTo>
                <a:cubicBezTo>
                  <a:pt x="3469" y="7409"/>
                  <a:pt x="3422" y="7442"/>
                  <a:pt x="3373" y="7491"/>
                </a:cubicBezTo>
                <a:cubicBezTo>
                  <a:pt x="3294" y="7571"/>
                  <a:pt x="3239" y="7659"/>
                  <a:pt x="3200" y="7764"/>
                </a:cubicBezTo>
                <a:cubicBezTo>
                  <a:pt x="3160" y="7871"/>
                  <a:pt x="3129" y="7972"/>
                  <a:pt x="3125" y="8086"/>
                </a:cubicBezTo>
                <a:cubicBezTo>
                  <a:pt x="3122" y="8169"/>
                  <a:pt x="3142" y="8259"/>
                  <a:pt x="3175" y="8334"/>
                </a:cubicBezTo>
                <a:cubicBezTo>
                  <a:pt x="3196" y="8382"/>
                  <a:pt x="3257" y="8478"/>
                  <a:pt x="3299" y="8508"/>
                </a:cubicBezTo>
                <a:cubicBezTo>
                  <a:pt x="3355" y="8548"/>
                  <a:pt x="3433" y="8568"/>
                  <a:pt x="3497" y="8582"/>
                </a:cubicBezTo>
                <a:cubicBezTo>
                  <a:pt x="3505" y="8582"/>
                  <a:pt x="3514" y="8582"/>
                  <a:pt x="3522" y="8582"/>
                </a:cubicBezTo>
              </a:path>
              <a:path w="3102" h="1241">
                <a:moveTo>
                  <a:pt x="3894" y="7491"/>
                </a:moveTo>
                <a:cubicBezTo>
                  <a:pt x="3882" y="7528"/>
                  <a:pt x="3870" y="7513"/>
                  <a:pt x="3870" y="7565"/>
                </a:cubicBezTo>
                <a:cubicBezTo>
                  <a:pt x="3870" y="7639"/>
                  <a:pt x="3847" y="7690"/>
                  <a:pt x="3845" y="7764"/>
                </a:cubicBezTo>
                <a:cubicBezTo>
                  <a:pt x="3842" y="7911"/>
                  <a:pt x="3838" y="8049"/>
                  <a:pt x="3870" y="8186"/>
                </a:cubicBezTo>
                <a:cubicBezTo>
                  <a:pt x="3870" y="8210"/>
                  <a:pt x="3870" y="8218"/>
                  <a:pt x="3870" y="8186"/>
                </a:cubicBezTo>
              </a:path>
              <a:path w="3102" h="1241">
                <a:moveTo>
                  <a:pt x="3721" y="7764"/>
                </a:moveTo>
                <a:cubicBezTo>
                  <a:pt x="3759" y="7793"/>
                  <a:pt x="3772" y="7789"/>
                  <a:pt x="3820" y="7789"/>
                </a:cubicBezTo>
                <a:cubicBezTo>
                  <a:pt x="3931" y="7789"/>
                  <a:pt x="4038" y="7782"/>
                  <a:pt x="4142" y="7813"/>
                </a:cubicBezTo>
              </a:path>
              <a:path w="3102" h="1241">
                <a:moveTo>
                  <a:pt x="4341" y="7888"/>
                </a:moveTo>
                <a:cubicBezTo>
                  <a:pt x="4323" y="7833"/>
                  <a:pt x="4305" y="7875"/>
                  <a:pt x="4266" y="7888"/>
                </a:cubicBezTo>
                <a:cubicBezTo>
                  <a:pt x="4206" y="7908"/>
                  <a:pt x="4174" y="7953"/>
                  <a:pt x="4142" y="8012"/>
                </a:cubicBezTo>
                <a:cubicBezTo>
                  <a:pt x="4098" y="8092"/>
                  <a:pt x="4075" y="8178"/>
                  <a:pt x="4118" y="8235"/>
                </a:cubicBezTo>
                <a:cubicBezTo>
                  <a:pt x="4162" y="8190"/>
                  <a:pt x="4208" y="8137"/>
                  <a:pt x="4242" y="8086"/>
                </a:cubicBezTo>
                <a:cubicBezTo>
                  <a:pt x="4286" y="8019"/>
                  <a:pt x="4288" y="7969"/>
                  <a:pt x="4366" y="7938"/>
                </a:cubicBezTo>
                <a:cubicBezTo>
                  <a:pt x="4400" y="7984"/>
                  <a:pt x="4390" y="8026"/>
                  <a:pt x="4390" y="8086"/>
                </a:cubicBezTo>
                <a:cubicBezTo>
                  <a:pt x="4390" y="8131"/>
                  <a:pt x="4368" y="8229"/>
                  <a:pt x="4415" y="8235"/>
                </a:cubicBezTo>
                <a:cubicBezTo>
                  <a:pt x="4448" y="8239"/>
                  <a:pt x="4451" y="8193"/>
                  <a:pt x="4465" y="8161"/>
                </a:cubicBezTo>
              </a:path>
              <a:path w="3102" h="1241">
                <a:moveTo>
                  <a:pt x="4638" y="7888"/>
                </a:moveTo>
                <a:cubicBezTo>
                  <a:pt x="4627" y="7933"/>
                  <a:pt x="4623" y="7961"/>
                  <a:pt x="4614" y="8012"/>
                </a:cubicBezTo>
                <a:cubicBezTo>
                  <a:pt x="4602" y="8078"/>
                  <a:pt x="4589" y="8228"/>
                  <a:pt x="4589" y="8161"/>
                </a:cubicBezTo>
                <a:cubicBezTo>
                  <a:pt x="4624" y="8103"/>
                  <a:pt x="4626" y="8027"/>
                  <a:pt x="4663" y="7962"/>
                </a:cubicBezTo>
                <a:cubicBezTo>
                  <a:pt x="4698" y="7900"/>
                  <a:pt x="4753" y="7909"/>
                  <a:pt x="4787" y="7962"/>
                </a:cubicBezTo>
                <a:cubicBezTo>
                  <a:pt x="4819" y="8011"/>
                  <a:pt x="4834" y="8079"/>
                  <a:pt x="4837" y="8136"/>
                </a:cubicBezTo>
                <a:cubicBezTo>
                  <a:pt x="4841" y="8201"/>
                  <a:pt x="4833" y="8186"/>
                  <a:pt x="4887" y="8186"/>
                </a:cubicBezTo>
              </a:path>
              <a:path w="3102" h="1241">
                <a:moveTo>
                  <a:pt x="5035" y="7491"/>
                </a:moveTo>
                <a:cubicBezTo>
                  <a:pt x="5100" y="7452"/>
                  <a:pt x="5122" y="7472"/>
                  <a:pt x="5184" y="7491"/>
                </a:cubicBezTo>
                <a:cubicBezTo>
                  <a:pt x="5213" y="7500"/>
                  <a:pt x="5259" y="7520"/>
                  <a:pt x="5234" y="7565"/>
                </a:cubicBezTo>
                <a:cubicBezTo>
                  <a:pt x="5208" y="7611"/>
                  <a:pt x="5133" y="7637"/>
                  <a:pt x="5110" y="7665"/>
                </a:cubicBezTo>
                <a:cubicBezTo>
                  <a:pt x="5076" y="7706"/>
                  <a:pt x="5064" y="7750"/>
                  <a:pt x="5035" y="7789"/>
                </a:cubicBezTo>
                <a:cubicBezTo>
                  <a:pt x="5044" y="7814"/>
                  <a:pt x="5054" y="7836"/>
                  <a:pt x="5085" y="7838"/>
                </a:cubicBezTo>
                <a:cubicBezTo>
                  <a:pt x="5142" y="7842"/>
                  <a:pt x="5202" y="7838"/>
                  <a:pt x="5259" y="7838"/>
                </a:cubicBezTo>
              </a:path>
              <a:path w="3102" h="1241">
                <a:moveTo>
                  <a:pt x="5333" y="7789"/>
                </a:moveTo>
                <a:cubicBezTo>
                  <a:pt x="5362" y="7817"/>
                  <a:pt x="5372" y="7829"/>
                  <a:pt x="5407" y="7838"/>
                </a:cubicBezTo>
                <a:cubicBezTo>
                  <a:pt x="5416" y="7901"/>
                  <a:pt x="5446" y="7947"/>
                  <a:pt x="5457" y="8012"/>
                </a:cubicBezTo>
                <a:cubicBezTo>
                  <a:pt x="5471" y="8093"/>
                  <a:pt x="5478" y="8064"/>
                  <a:pt x="5531" y="8111"/>
                </a:cubicBezTo>
                <a:cubicBezTo>
                  <a:pt x="5563" y="8140"/>
                  <a:pt x="5565" y="8136"/>
                  <a:pt x="5606" y="8136"/>
                </a:cubicBezTo>
              </a:path>
              <a:path w="3102" h="1241">
                <a:moveTo>
                  <a:pt x="5631" y="7813"/>
                </a:moveTo>
                <a:cubicBezTo>
                  <a:pt x="5541" y="7909"/>
                  <a:pt x="5473" y="8016"/>
                  <a:pt x="5383" y="8111"/>
                </a:cubicBezTo>
                <a:cubicBezTo>
                  <a:pt x="5333" y="8161"/>
                  <a:pt x="5317" y="8177"/>
                  <a:pt x="5283" y="8210"/>
                </a:cubicBezTo>
              </a:path>
              <a:path w="3102" h="1241">
                <a:moveTo>
                  <a:pt x="5854" y="7938"/>
                </a:moveTo>
                <a:cubicBezTo>
                  <a:pt x="5876" y="8022"/>
                  <a:pt x="5916" y="7972"/>
                  <a:pt x="5978" y="7962"/>
                </a:cubicBezTo>
                <a:cubicBezTo>
                  <a:pt x="6032" y="7953"/>
                  <a:pt x="6103" y="7961"/>
                  <a:pt x="6152" y="7938"/>
                </a:cubicBezTo>
                <a:cubicBezTo>
                  <a:pt x="6180" y="7909"/>
                  <a:pt x="6193" y="7901"/>
                  <a:pt x="6226" y="7913"/>
                </a:cubicBezTo>
              </a:path>
              <a:path w="3102" h="1241">
                <a:moveTo>
                  <a:pt x="6052" y="7789"/>
                </a:moveTo>
                <a:cubicBezTo>
                  <a:pt x="6031" y="7868"/>
                  <a:pt x="6013" y="7960"/>
                  <a:pt x="6003" y="8037"/>
                </a:cubicBezTo>
                <a:cubicBezTo>
                  <a:pt x="5997" y="8084"/>
                  <a:pt x="6006" y="8180"/>
                  <a:pt x="6052" y="8186"/>
                </a:cubicBezTo>
                <a:cubicBezTo>
                  <a:pt x="6085" y="8186"/>
                  <a:pt x="6102" y="8186"/>
                  <a:pt x="6127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9200" y="2643120"/>
            <a:ext cx="233640" cy="536760"/>
          </a:xfrm>
          <a:custGeom>
            <a:avLst/>
            <a:gdLst/>
            <a:ahLst/>
            <a:rect l="l" t="t" r="r" b="b"/>
            <a:pathLst>
              <a:path w="646" h="1489">
                <a:moveTo>
                  <a:pt x="6871" y="7417"/>
                </a:moveTo>
                <a:cubicBezTo>
                  <a:pt x="6844" y="7515"/>
                  <a:pt x="6818" y="7613"/>
                  <a:pt x="6796" y="7714"/>
                </a:cubicBezTo>
                <a:cubicBezTo>
                  <a:pt x="6760" y="7876"/>
                  <a:pt x="6766" y="8025"/>
                  <a:pt x="6747" y="8186"/>
                </a:cubicBezTo>
                <a:cubicBezTo>
                  <a:pt x="6737" y="8270"/>
                  <a:pt x="6708" y="8362"/>
                  <a:pt x="6722" y="8359"/>
                </a:cubicBezTo>
                <a:cubicBezTo>
                  <a:pt x="6739" y="8359"/>
                  <a:pt x="6755" y="8359"/>
                  <a:pt x="6772" y="8359"/>
                </a:cubicBezTo>
              </a:path>
              <a:path w="646" h="1489">
                <a:moveTo>
                  <a:pt x="7144" y="7342"/>
                </a:moveTo>
                <a:cubicBezTo>
                  <a:pt x="7168" y="7362"/>
                  <a:pt x="7185" y="7359"/>
                  <a:pt x="7218" y="7392"/>
                </a:cubicBezTo>
                <a:cubicBezTo>
                  <a:pt x="7268" y="7442"/>
                  <a:pt x="7306" y="7490"/>
                  <a:pt x="7317" y="7565"/>
                </a:cubicBezTo>
                <a:cubicBezTo>
                  <a:pt x="7334" y="7679"/>
                  <a:pt x="7357" y="7798"/>
                  <a:pt x="7367" y="7913"/>
                </a:cubicBezTo>
                <a:cubicBezTo>
                  <a:pt x="7379" y="8052"/>
                  <a:pt x="7355" y="8177"/>
                  <a:pt x="7317" y="8310"/>
                </a:cubicBezTo>
                <a:cubicBezTo>
                  <a:pt x="7281" y="8435"/>
                  <a:pt x="7199" y="8519"/>
                  <a:pt x="7144" y="8632"/>
                </a:cubicBezTo>
                <a:cubicBezTo>
                  <a:pt x="7110" y="8703"/>
                  <a:pt x="7095" y="8768"/>
                  <a:pt x="7045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47960" y="2670120"/>
            <a:ext cx="733320" cy="455760"/>
          </a:xfrm>
          <a:custGeom>
            <a:avLst/>
            <a:gdLst/>
            <a:ahLst/>
            <a:rect l="l" t="t" r="r" b="b"/>
            <a:pathLst>
              <a:path w="2035" h="1266">
                <a:moveTo>
                  <a:pt x="8334" y="7417"/>
                </a:moveTo>
                <a:cubicBezTo>
                  <a:pt x="8310" y="7429"/>
                  <a:pt x="8260" y="7459"/>
                  <a:pt x="8235" y="7466"/>
                </a:cubicBezTo>
                <a:cubicBezTo>
                  <a:pt x="8161" y="7486"/>
                  <a:pt x="8151" y="7490"/>
                  <a:pt x="8111" y="7565"/>
                </a:cubicBezTo>
                <a:cubicBezTo>
                  <a:pt x="8061" y="7658"/>
                  <a:pt x="8004" y="7739"/>
                  <a:pt x="7962" y="7838"/>
                </a:cubicBezTo>
                <a:cubicBezTo>
                  <a:pt x="7903" y="7978"/>
                  <a:pt x="7901" y="8115"/>
                  <a:pt x="7938" y="8260"/>
                </a:cubicBezTo>
                <a:cubicBezTo>
                  <a:pt x="7964" y="8362"/>
                  <a:pt x="8031" y="8488"/>
                  <a:pt x="8111" y="8558"/>
                </a:cubicBezTo>
                <a:cubicBezTo>
                  <a:pt x="8165" y="8606"/>
                  <a:pt x="8238" y="8667"/>
                  <a:pt x="8310" y="8682"/>
                </a:cubicBezTo>
                <a:cubicBezTo>
                  <a:pt x="8368" y="8694"/>
                  <a:pt x="8407" y="8676"/>
                  <a:pt x="8458" y="8657"/>
                </a:cubicBezTo>
              </a:path>
              <a:path w="2035" h="1266">
                <a:moveTo>
                  <a:pt x="8359" y="7689"/>
                </a:moveTo>
                <a:cubicBezTo>
                  <a:pt x="8359" y="7783"/>
                  <a:pt x="8348" y="7829"/>
                  <a:pt x="8334" y="7913"/>
                </a:cubicBezTo>
                <a:cubicBezTo>
                  <a:pt x="8322" y="7982"/>
                  <a:pt x="8328" y="8070"/>
                  <a:pt x="8310" y="8136"/>
                </a:cubicBezTo>
                <a:cubicBezTo>
                  <a:pt x="8293" y="8196"/>
                  <a:pt x="8276" y="8207"/>
                  <a:pt x="8310" y="8260"/>
                </a:cubicBezTo>
                <a:cubicBezTo>
                  <a:pt x="8332" y="8283"/>
                  <a:pt x="8337" y="8291"/>
                  <a:pt x="8359" y="8285"/>
                </a:cubicBezTo>
              </a:path>
              <a:path w="2035" h="1266">
                <a:moveTo>
                  <a:pt x="8434" y="7714"/>
                </a:moveTo>
                <a:cubicBezTo>
                  <a:pt x="8363" y="7714"/>
                  <a:pt x="8376" y="7733"/>
                  <a:pt x="8334" y="7789"/>
                </a:cubicBezTo>
                <a:cubicBezTo>
                  <a:pt x="8306" y="7827"/>
                  <a:pt x="8224" y="7838"/>
                  <a:pt x="8210" y="7888"/>
                </a:cubicBezTo>
                <a:cubicBezTo>
                  <a:pt x="8195" y="7940"/>
                  <a:pt x="8209" y="7981"/>
                  <a:pt x="8260" y="7987"/>
                </a:cubicBezTo>
                <a:cubicBezTo>
                  <a:pt x="8317" y="7993"/>
                  <a:pt x="8394" y="7942"/>
                  <a:pt x="8458" y="7938"/>
                </a:cubicBezTo>
                <a:cubicBezTo>
                  <a:pt x="8499" y="7936"/>
                  <a:pt x="8541" y="7938"/>
                  <a:pt x="8582" y="7938"/>
                </a:cubicBezTo>
              </a:path>
              <a:path w="2035" h="1266">
                <a:moveTo>
                  <a:pt x="8806" y="7689"/>
                </a:moveTo>
                <a:cubicBezTo>
                  <a:pt x="8766" y="7740"/>
                  <a:pt x="8741" y="7797"/>
                  <a:pt x="8731" y="7863"/>
                </a:cubicBezTo>
                <a:cubicBezTo>
                  <a:pt x="8714" y="7972"/>
                  <a:pt x="8706" y="8074"/>
                  <a:pt x="8706" y="8186"/>
                </a:cubicBezTo>
                <a:cubicBezTo>
                  <a:pt x="8706" y="8223"/>
                  <a:pt x="8699" y="8314"/>
                  <a:pt x="8731" y="8334"/>
                </a:cubicBezTo>
                <a:cubicBezTo>
                  <a:pt x="8756" y="8334"/>
                  <a:pt x="8764" y="8334"/>
                  <a:pt x="8756" y="8310"/>
                </a:cubicBezTo>
              </a:path>
              <a:path w="2035" h="1266">
                <a:moveTo>
                  <a:pt x="8657" y="8037"/>
                </a:moveTo>
                <a:cubicBezTo>
                  <a:pt x="8709" y="8014"/>
                  <a:pt x="8727" y="8012"/>
                  <a:pt x="8781" y="8012"/>
                </a:cubicBezTo>
                <a:cubicBezTo>
                  <a:pt x="8820" y="8012"/>
                  <a:pt x="8835" y="7987"/>
                  <a:pt x="8880" y="7987"/>
                </a:cubicBezTo>
              </a:path>
              <a:path w="2035" h="1266">
                <a:moveTo>
                  <a:pt x="9004" y="8062"/>
                </a:moveTo>
                <a:cubicBezTo>
                  <a:pt x="8993" y="8029"/>
                  <a:pt x="8953" y="8034"/>
                  <a:pt x="8930" y="8062"/>
                </a:cubicBezTo>
                <a:cubicBezTo>
                  <a:pt x="8904" y="8093"/>
                  <a:pt x="8884" y="8172"/>
                  <a:pt x="8880" y="8210"/>
                </a:cubicBezTo>
                <a:cubicBezTo>
                  <a:pt x="8880" y="8218"/>
                  <a:pt x="8880" y="8227"/>
                  <a:pt x="8880" y="8235"/>
                </a:cubicBezTo>
                <a:cubicBezTo>
                  <a:pt x="8930" y="8223"/>
                  <a:pt x="8936" y="8203"/>
                  <a:pt x="8954" y="8161"/>
                </a:cubicBezTo>
                <a:cubicBezTo>
                  <a:pt x="8980" y="8100"/>
                  <a:pt x="8993" y="8086"/>
                  <a:pt x="9054" y="8086"/>
                </a:cubicBezTo>
                <a:cubicBezTo>
                  <a:pt x="9054" y="8149"/>
                  <a:pt x="9062" y="8183"/>
                  <a:pt x="9079" y="8235"/>
                </a:cubicBezTo>
                <a:cubicBezTo>
                  <a:pt x="9079" y="8243"/>
                  <a:pt x="9079" y="8252"/>
                  <a:pt x="9079" y="8260"/>
                </a:cubicBezTo>
              </a:path>
              <a:path w="2035" h="1266">
                <a:moveTo>
                  <a:pt x="9203" y="8086"/>
                </a:moveTo>
                <a:cubicBezTo>
                  <a:pt x="9194" y="8174"/>
                  <a:pt x="9195" y="8162"/>
                  <a:pt x="9153" y="8235"/>
                </a:cubicBezTo>
                <a:cubicBezTo>
                  <a:pt x="9176" y="8204"/>
                  <a:pt x="9187" y="8125"/>
                  <a:pt x="9227" y="8111"/>
                </a:cubicBezTo>
                <a:cubicBezTo>
                  <a:pt x="9251" y="8102"/>
                  <a:pt x="9341" y="8101"/>
                  <a:pt x="9351" y="8136"/>
                </a:cubicBezTo>
                <a:cubicBezTo>
                  <a:pt x="9356" y="8152"/>
                  <a:pt x="9351" y="8321"/>
                  <a:pt x="9351" y="8260"/>
                </a:cubicBezTo>
              </a:path>
              <a:path w="2035" h="1266">
                <a:moveTo>
                  <a:pt x="9426" y="7764"/>
                </a:moveTo>
                <a:cubicBezTo>
                  <a:pt x="9464" y="7751"/>
                  <a:pt x="9446" y="7739"/>
                  <a:pt x="9500" y="7739"/>
                </a:cubicBezTo>
                <a:cubicBezTo>
                  <a:pt x="9528" y="7739"/>
                  <a:pt x="9539" y="7737"/>
                  <a:pt x="9550" y="7714"/>
                </a:cubicBezTo>
                <a:cubicBezTo>
                  <a:pt x="9569" y="7772"/>
                  <a:pt x="9597" y="7705"/>
                  <a:pt x="9624" y="7739"/>
                </a:cubicBezTo>
                <a:cubicBezTo>
                  <a:pt x="9640" y="7759"/>
                  <a:pt x="9640" y="7763"/>
                  <a:pt x="9649" y="7789"/>
                </a:cubicBezTo>
                <a:cubicBezTo>
                  <a:pt x="9641" y="7812"/>
                  <a:pt x="9640" y="7835"/>
                  <a:pt x="9624" y="7863"/>
                </a:cubicBezTo>
                <a:cubicBezTo>
                  <a:pt x="9596" y="7913"/>
                  <a:pt x="9570" y="7888"/>
                  <a:pt x="9550" y="7913"/>
                </a:cubicBezTo>
                <a:cubicBezTo>
                  <a:pt x="9541" y="7925"/>
                  <a:pt x="9510" y="7979"/>
                  <a:pt x="9500" y="7987"/>
                </a:cubicBezTo>
                <a:cubicBezTo>
                  <a:pt x="9492" y="7987"/>
                  <a:pt x="9483" y="7987"/>
                  <a:pt x="9475" y="7987"/>
                </a:cubicBezTo>
                <a:cubicBezTo>
                  <a:pt x="9524" y="7987"/>
                  <a:pt x="9586" y="7970"/>
                  <a:pt x="9599" y="8012"/>
                </a:cubicBezTo>
              </a:path>
              <a:path w="2035" h="1266">
                <a:moveTo>
                  <a:pt x="9748" y="8012"/>
                </a:moveTo>
                <a:cubicBezTo>
                  <a:pt x="9771" y="8042"/>
                  <a:pt x="9795" y="8073"/>
                  <a:pt x="9798" y="8111"/>
                </a:cubicBezTo>
                <a:cubicBezTo>
                  <a:pt x="9801" y="8159"/>
                  <a:pt x="9823" y="8198"/>
                  <a:pt x="9847" y="8235"/>
                </a:cubicBezTo>
                <a:cubicBezTo>
                  <a:pt x="9870" y="8258"/>
                  <a:pt x="9874" y="8266"/>
                  <a:pt x="9897" y="8260"/>
                </a:cubicBezTo>
              </a:path>
              <a:path w="2035" h="1266">
                <a:moveTo>
                  <a:pt x="9947" y="8062"/>
                </a:moveTo>
                <a:cubicBezTo>
                  <a:pt x="9868" y="8158"/>
                  <a:pt x="9788" y="8230"/>
                  <a:pt x="9699" y="8310"/>
                </a:cubicBezTo>
                <a:cubicBezTo>
                  <a:pt x="9691" y="8318"/>
                  <a:pt x="9682" y="8326"/>
                  <a:pt x="9674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24200" y="2928960"/>
            <a:ext cx="98640" cy="9360"/>
          </a:xfrm>
          <a:custGeom>
            <a:avLst/>
            <a:gdLst/>
            <a:ahLst/>
            <a:rect l="l" t="t" r="r" b="b"/>
            <a:pathLst>
              <a:path w="273" h="26">
                <a:moveTo>
                  <a:pt x="10344" y="8136"/>
                </a:moveTo>
                <a:cubicBezTo>
                  <a:pt x="10408" y="8136"/>
                  <a:pt x="10458" y="8148"/>
                  <a:pt x="10517" y="8161"/>
                </a:cubicBezTo>
                <a:cubicBezTo>
                  <a:pt x="10548" y="8168"/>
                  <a:pt x="10584" y="8161"/>
                  <a:pt x="10616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46680" y="2732040"/>
            <a:ext cx="312480" cy="447840"/>
          </a:xfrm>
          <a:custGeom>
            <a:avLst/>
            <a:gdLst/>
            <a:ahLst/>
            <a:rect l="l" t="t" r="r" b="b"/>
            <a:pathLst>
              <a:path w="869" h="1241">
                <a:moveTo>
                  <a:pt x="11460" y="7615"/>
                </a:moveTo>
                <a:cubicBezTo>
                  <a:pt x="11473" y="7577"/>
                  <a:pt x="11489" y="7590"/>
                  <a:pt x="11534" y="7590"/>
                </a:cubicBezTo>
                <a:cubicBezTo>
                  <a:pt x="11577" y="7590"/>
                  <a:pt x="11594" y="7595"/>
                  <a:pt x="11609" y="7640"/>
                </a:cubicBezTo>
                <a:cubicBezTo>
                  <a:pt x="11624" y="7685"/>
                  <a:pt x="11657" y="7721"/>
                  <a:pt x="11683" y="7764"/>
                </a:cubicBezTo>
                <a:cubicBezTo>
                  <a:pt x="11720" y="7825"/>
                  <a:pt x="11770" y="7877"/>
                  <a:pt x="11807" y="7938"/>
                </a:cubicBezTo>
                <a:cubicBezTo>
                  <a:pt x="11839" y="7990"/>
                  <a:pt x="11832" y="8027"/>
                  <a:pt x="11832" y="8086"/>
                </a:cubicBezTo>
                <a:cubicBezTo>
                  <a:pt x="11832" y="8150"/>
                  <a:pt x="11809" y="8209"/>
                  <a:pt x="11782" y="8260"/>
                </a:cubicBezTo>
                <a:cubicBezTo>
                  <a:pt x="11733" y="8351"/>
                  <a:pt x="11662" y="8406"/>
                  <a:pt x="11609" y="8483"/>
                </a:cubicBezTo>
                <a:cubicBezTo>
                  <a:pt x="11557" y="8559"/>
                  <a:pt x="11496" y="8646"/>
                  <a:pt x="11460" y="8731"/>
                </a:cubicBezTo>
                <a:cubicBezTo>
                  <a:pt x="11440" y="8792"/>
                  <a:pt x="11442" y="8807"/>
                  <a:pt x="11410" y="8830"/>
                </a:cubicBezTo>
              </a:path>
              <a:path w="869" h="1241">
                <a:moveTo>
                  <a:pt x="11088" y="7863"/>
                </a:moveTo>
                <a:cubicBezTo>
                  <a:pt x="11127" y="7853"/>
                  <a:pt x="11142" y="7838"/>
                  <a:pt x="11187" y="7838"/>
                </a:cubicBezTo>
                <a:cubicBezTo>
                  <a:pt x="11262" y="7838"/>
                  <a:pt x="11316" y="7846"/>
                  <a:pt x="11385" y="7863"/>
                </a:cubicBezTo>
                <a:cubicBezTo>
                  <a:pt x="11422" y="7872"/>
                  <a:pt x="11413" y="7902"/>
                  <a:pt x="11435" y="7913"/>
                </a:cubicBezTo>
                <a:cubicBezTo>
                  <a:pt x="11460" y="7913"/>
                  <a:pt x="11468" y="7913"/>
                  <a:pt x="11460" y="7938"/>
                </a:cubicBezTo>
                <a:cubicBezTo>
                  <a:pt x="11427" y="7970"/>
                  <a:pt x="11392" y="7991"/>
                  <a:pt x="11361" y="8012"/>
                </a:cubicBezTo>
                <a:cubicBezTo>
                  <a:pt x="11324" y="8037"/>
                  <a:pt x="11277" y="8050"/>
                  <a:pt x="11237" y="8062"/>
                </a:cubicBezTo>
                <a:cubicBezTo>
                  <a:pt x="11212" y="8062"/>
                  <a:pt x="11204" y="8062"/>
                  <a:pt x="11187" y="8062"/>
                </a:cubicBezTo>
                <a:cubicBezTo>
                  <a:pt x="11223" y="8088"/>
                  <a:pt x="11275" y="8089"/>
                  <a:pt x="11311" y="8111"/>
                </a:cubicBezTo>
                <a:cubicBezTo>
                  <a:pt x="11346" y="8132"/>
                  <a:pt x="11372" y="8169"/>
                  <a:pt x="11361" y="8210"/>
                </a:cubicBezTo>
                <a:cubicBezTo>
                  <a:pt x="11349" y="8257"/>
                  <a:pt x="11300" y="8350"/>
                  <a:pt x="11261" y="8384"/>
                </a:cubicBezTo>
                <a:cubicBezTo>
                  <a:pt x="11206" y="8431"/>
                  <a:pt x="11151" y="8430"/>
                  <a:pt x="11088" y="8458"/>
                </a:cubicBezTo>
                <a:cubicBezTo>
                  <a:pt x="11025" y="8486"/>
                  <a:pt x="11029" y="8499"/>
                  <a:pt x="10964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6160" y="3375000"/>
            <a:ext cx="474840" cy="366840"/>
          </a:xfrm>
          <a:custGeom>
            <a:avLst/>
            <a:gdLst/>
            <a:ahLst/>
            <a:rect l="l" t="t" r="r" b="b"/>
            <a:pathLst>
              <a:path w="1316" h="1018">
                <a:moveTo>
                  <a:pt x="2158" y="9798"/>
                </a:moveTo>
                <a:cubicBezTo>
                  <a:pt x="2165" y="9851"/>
                  <a:pt x="2176" y="9876"/>
                  <a:pt x="2183" y="9922"/>
                </a:cubicBezTo>
                <a:cubicBezTo>
                  <a:pt x="2190" y="9965"/>
                  <a:pt x="2202" y="10003"/>
                  <a:pt x="2208" y="10046"/>
                </a:cubicBezTo>
                <a:cubicBezTo>
                  <a:pt x="2217" y="10110"/>
                  <a:pt x="2225" y="10191"/>
                  <a:pt x="2232" y="10244"/>
                </a:cubicBezTo>
                <a:cubicBezTo>
                  <a:pt x="2238" y="10286"/>
                  <a:pt x="2238" y="10331"/>
                  <a:pt x="2257" y="10368"/>
                </a:cubicBezTo>
                <a:cubicBezTo>
                  <a:pt x="2260" y="10373"/>
                  <a:pt x="2301" y="10387"/>
                  <a:pt x="2307" y="10393"/>
                </a:cubicBezTo>
                <a:cubicBezTo>
                  <a:pt x="2323" y="10377"/>
                  <a:pt x="2340" y="10360"/>
                  <a:pt x="2356" y="10344"/>
                </a:cubicBezTo>
                <a:cubicBezTo>
                  <a:pt x="2485" y="10215"/>
                  <a:pt x="2619" y="10093"/>
                  <a:pt x="2753" y="9971"/>
                </a:cubicBezTo>
                <a:cubicBezTo>
                  <a:pt x="2907" y="9831"/>
                  <a:pt x="3061" y="9703"/>
                  <a:pt x="3225" y="9575"/>
                </a:cubicBezTo>
                <a:cubicBezTo>
                  <a:pt x="3308" y="9509"/>
                  <a:pt x="3390" y="9442"/>
                  <a:pt x="3473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17760" y="3251160"/>
            <a:ext cx="7135560" cy="803160"/>
          </a:xfrm>
          <a:custGeom>
            <a:avLst/>
            <a:gdLst/>
            <a:ahLst/>
            <a:rect l="l" t="t" r="r" b="b"/>
            <a:pathLst>
              <a:path w="19820" h="2233">
                <a:moveTo>
                  <a:pt x="4936" y="9103"/>
                </a:moveTo>
                <a:cubicBezTo>
                  <a:pt x="4896" y="9080"/>
                  <a:pt x="4866" y="9068"/>
                  <a:pt x="4812" y="9079"/>
                </a:cubicBezTo>
                <a:cubicBezTo>
                  <a:pt x="4751" y="9092"/>
                  <a:pt x="4695" y="9124"/>
                  <a:pt x="4638" y="9153"/>
                </a:cubicBezTo>
                <a:cubicBezTo>
                  <a:pt x="4564" y="9190"/>
                  <a:pt x="4467" y="9235"/>
                  <a:pt x="4415" y="9302"/>
                </a:cubicBezTo>
                <a:cubicBezTo>
                  <a:pt x="4388" y="9337"/>
                  <a:pt x="4338" y="9405"/>
                  <a:pt x="4341" y="9451"/>
                </a:cubicBezTo>
                <a:cubicBezTo>
                  <a:pt x="4345" y="9508"/>
                  <a:pt x="4471" y="9595"/>
                  <a:pt x="4514" y="9624"/>
                </a:cubicBezTo>
                <a:cubicBezTo>
                  <a:pt x="4592" y="9677"/>
                  <a:pt x="4623" y="9703"/>
                  <a:pt x="4688" y="9773"/>
                </a:cubicBezTo>
                <a:cubicBezTo>
                  <a:pt x="4733" y="9822"/>
                  <a:pt x="4753" y="9879"/>
                  <a:pt x="4738" y="9947"/>
                </a:cubicBezTo>
                <a:cubicBezTo>
                  <a:pt x="4726" y="10003"/>
                  <a:pt x="4681" y="10062"/>
                  <a:pt x="4638" y="10096"/>
                </a:cubicBezTo>
                <a:cubicBezTo>
                  <a:pt x="4575" y="10146"/>
                  <a:pt x="4482" y="10170"/>
                  <a:pt x="4415" y="10195"/>
                </a:cubicBezTo>
                <a:cubicBezTo>
                  <a:pt x="4356" y="10217"/>
                  <a:pt x="4295" y="10253"/>
                  <a:pt x="4242" y="10269"/>
                </a:cubicBezTo>
                <a:cubicBezTo>
                  <a:pt x="4234" y="10269"/>
                  <a:pt x="4225" y="10269"/>
                  <a:pt x="4217" y="10269"/>
                </a:cubicBezTo>
              </a:path>
              <a:path w="19820" h="2233">
                <a:moveTo>
                  <a:pt x="5060" y="9798"/>
                </a:moveTo>
                <a:cubicBezTo>
                  <a:pt x="5071" y="9831"/>
                  <a:pt x="5113" y="9838"/>
                  <a:pt x="5159" y="9823"/>
                </a:cubicBezTo>
                <a:cubicBezTo>
                  <a:pt x="5229" y="9799"/>
                  <a:pt x="5289" y="9783"/>
                  <a:pt x="5358" y="9748"/>
                </a:cubicBezTo>
                <a:cubicBezTo>
                  <a:pt x="5414" y="9720"/>
                  <a:pt x="5480" y="9685"/>
                  <a:pt x="5531" y="9649"/>
                </a:cubicBezTo>
                <a:cubicBezTo>
                  <a:pt x="5576" y="9618"/>
                  <a:pt x="5596" y="9575"/>
                  <a:pt x="5606" y="9525"/>
                </a:cubicBezTo>
                <a:cubicBezTo>
                  <a:pt x="5523" y="9525"/>
                  <a:pt x="5512" y="9533"/>
                  <a:pt x="5432" y="9575"/>
                </a:cubicBezTo>
                <a:cubicBezTo>
                  <a:pt x="5352" y="9617"/>
                  <a:pt x="5253" y="9698"/>
                  <a:pt x="5209" y="9773"/>
                </a:cubicBezTo>
                <a:cubicBezTo>
                  <a:pt x="5180" y="9822"/>
                  <a:pt x="5141" y="9886"/>
                  <a:pt x="5159" y="9947"/>
                </a:cubicBezTo>
                <a:cubicBezTo>
                  <a:pt x="5181" y="10019"/>
                  <a:pt x="5219" y="10063"/>
                  <a:pt x="5283" y="10096"/>
                </a:cubicBezTo>
                <a:cubicBezTo>
                  <a:pt x="5358" y="10135"/>
                  <a:pt x="5448" y="10120"/>
                  <a:pt x="5531" y="10120"/>
                </a:cubicBezTo>
                <a:cubicBezTo>
                  <a:pt x="5599" y="10120"/>
                  <a:pt x="5618" y="10123"/>
                  <a:pt x="5655" y="10096"/>
                </a:cubicBezTo>
              </a:path>
              <a:path w="19820" h="2233">
                <a:moveTo>
                  <a:pt x="6276" y="9599"/>
                </a:moveTo>
                <a:cubicBezTo>
                  <a:pt x="6216" y="9574"/>
                  <a:pt x="6186" y="9560"/>
                  <a:pt x="6127" y="9599"/>
                </a:cubicBezTo>
                <a:cubicBezTo>
                  <a:pt x="6067" y="9639"/>
                  <a:pt x="5997" y="9687"/>
                  <a:pt x="5953" y="9748"/>
                </a:cubicBezTo>
                <a:cubicBezTo>
                  <a:pt x="5907" y="9811"/>
                  <a:pt x="5885" y="9878"/>
                  <a:pt x="5928" y="9947"/>
                </a:cubicBezTo>
                <a:cubicBezTo>
                  <a:pt x="5963" y="10004"/>
                  <a:pt x="6069" y="10040"/>
                  <a:pt x="6127" y="10046"/>
                </a:cubicBezTo>
                <a:cubicBezTo>
                  <a:pt x="6186" y="10052"/>
                  <a:pt x="6232" y="10054"/>
                  <a:pt x="6276" y="10021"/>
                </a:cubicBezTo>
              </a:path>
              <a:path w="19820" h="2233">
                <a:moveTo>
                  <a:pt x="6524" y="9054"/>
                </a:moveTo>
                <a:cubicBezTo>
                  <a:pt x="6608" y="9045"/>
                  <a:pt x="6686" y="9029"/>
                  <a:pt x="6772" y="9029"/>
                </a:cubicBezTo>
                <a:cubicBezTo>
                  <a:pt x="6811" y="9029"/>
                  <a:pt x="6900" y="9039"/>
                  <a:pt x="6921" y="9079"/>
                </a:cubicBezTo>
                <a:cubicBezTo>
                  <a:pt x="6938" y="9111"/>
                  <a:pt x="6912" y="9180"/>
                  <a:pt x="6896" y="9203"/>
                </a:cubicBezTo>
                <a:cubicBezTo>
                  <a:pt x="6866" y="9248"/>
                  <a:pt x="6789" y="9299"/>
                  <a:pt x="6747" y="9327"/>
                </a:cubicBezTo>
                <a:cubicBezTo>
                  <a:pt x="6692" y="9363"/>
                  <a:pt x="6671" y="9404"/>
                  <a:pt x="6623" y="9451"/>
                </a:cubicBezTo>
                <a:cubicBezTo>
                  <a:pt x="6597" y="9476"/>
                  <a:pt x="6576" y="9526"/>
                  <a:pt x="6623" y="9550"/>
                </a:cubicBezTo>
                <a:cubicBezTo>
                  <a:pt x="6645" y="9561"/>
                  <a:pt x="6699" y="9594"/>
                  <a:pt x="6722" y="9599"/>
                </a:cubicBezTo>
                <a:cubicBezTo>
                  <a:pt x="6749" y="9605"/>
                  <a:pt x="6791" y="9599"/>
                  <a:pt x="6821" y="9599"/>
                </a:cubicBezTo>
              </a:path>
              <a:path w="19820" h="2233">
                <a:moveTo>
                  <a:pt x="7119" y="9599"/>
                </a:moveTo>
                <a:cubicBezTo>
                  <a:pt x="7181" y="9661"/>
                  <a:pt x="7200" y="9696"/>
                  <a:pt x="7243" y="9773"/>
                </a:cubicBezTo>
                <a:cubicBezTo>
                  <a:pt x="7277" y="9835"/>
                  <a:pt x="7316" y="9871"/>
                  <a:pt x="7367" y="9922"/>
                </a:cubicBezTo>
                <a:cubicBezTo>
                  <a:pt x="7401" y="9956"/>
                  <a:pt x="7448" y="10004"/>
                  <a:pt x="7491" y="10021"/>
                </a:cubicBezTo>
                <a:cubicBezTo>
                  <a:pt x="7516" y="10031"/>
                  <a:pt x="7538" y="10039"/>
                  <a:pt x="7565" y="10046"/>
                </a:cubicBezTo>
              </a:path>
              <a:path w="19820" h="2233">
                <a:moveTo>
                  <a:pt x="7615" y="9699"/>
                </a:moveTo>
                <a:cubicBezTo>
                  <a:pt x="7543" y="9751"/>
                  <a:pt x="7428" y="9808"/>
                  <a:pt x="7367" y="9872"/>
                </a:cubicBezTo>
                <a:cubicBezTo>
                  <a:pt x="7304" y="9939"/>
                  <a:pt x="7248" y="10024"/>
                  <a:pt x="7193" y="10096"/>
                </a:cubicBezTo>
                <a:cubicBezTo>
                  <a:pt x="7171" y="10118"/>
                  <a:pt x="7163" y="10123"/>
                  <a:pt x="7169" y="10145"/>
                </a:cubicBezTo>
              </a:path>
              <a:path w="19820" h="2233">
                <a:moveTo>
                  <a:pt x="8409" y="9153"/>
                </a:moveTo>
                <a:cubicBezTo>
                  <a:pt x="8355" y="9138"/>
                  <a:pt x="8316" y="9136"/>
                  <a:pt x="8260" y="9178"/>
                </a:cubicBezTo>
                <a:cubicBezTo>
                  <a:pt x="8188" y="9232"/>
                  <a:pt x="8125" y="9296"/>
                  <a:pt x="8086" y="9376"/>
                </a:cubicBezTo>
                <a:cubicBezTo>
                  <a:pt x="8048" y="9454"/>
                  <a:pt x="8018" y="9565"/>
                  <a:pt x="8012" y="9649"/>
                </a:cubicBezTo>
                <a:cubicBezTo>
                  <a:pt x="8002" y="9784"/>
                  <a:pt x="8035" y="9877"/>
                  <a:pt x="8086" y="9996"/>
                </a:cubicBezTo>
                <a:cubicBezTo>
                  <a:pt x="8125" y="10088"/>
                  <a:pt x="8211" y="10094"/>
                  <a:pt x="8285" y="10145"/>
                </a:cubicBezTo>
                <a:cubicBezTo>
                  <a:pt x="8325" y="10172"/>
                  <a:pt x="8334" y="10214"/>
                  <a:pt x="8384" y="10220"/>
                </a:cubicBezTo>
                <a:cubicBezTo>
                  <a:pt x="8412" y="10220"/>
                  <a:pt x="8423" y="10218"/>
                  <a:pt x="8434" y="10195"/>
                </a:cubicBezTo>
              </a:path>
              <a:path w="19820" h="2233">
                <a:moveTo>
                  <a:pt x="8880" y="9302"/>
                </a:moveTo>
                <a:cubicBezTo>
                  <a:pt x="8880" y="9347"/>
                  <a:pt x="8860" y="9360"/>
                  <a:pt x="8855" y="9401"/>
                </a:cubicBezTo>
                <a:cubicBezTo>
                  <a:pt x="8850" y="9450"/>
                  <a:pt x="8818" y="9496"/>
                  <a:pt x="8806" y="9550"/>
                </a:cubicBezTo>
                <a:cubicBezTo>
                  <a:pt x="8786" y="9640"/>
                  <a:pt x="8760" y="9726"/>
                  <a:pt x="8756" y="9823"/>
                </a:cubicBezTo>
                <a:cubicBezTo>
                  <a:pt x="8753" y="9893"/>
                  <a:pt x="8731" y="9947"/>
                  <a:pt x="8731" y="10021"/>
                </a:cubicBezTo>
                <a:cubicBezTo>
                  <a:pt x="8731" y="10087"/>
                  <a:pt x="8723" y="10093"/>
                  <a:pt x="8706" y="10145"/>
                </a:cubicBezTo>
                <a:cubicBezTo>
                  <a:pt x="8688" y="10199"/>
                  <a:pt x="8706" y="10090"/>
                  <a:pt x="8706" y="10071"/>
                </a:cubicBezTo>
              </a:path>
              <a:path w="19820" h="2233">
                <a:moveTo>
                  <a:pt x="8905" y="9401"/>
                </a:moveTo>
                <a:cubicBezTo>
                  <a:pt x="8876" y="9357"/>
                  <a:pt x="8861" y="9333"/>
                  <a:pt x="8806" y="9327"/>
                </a:cubicBezTo>
                <a:cubicBezTo>
                  <a:pt x="8749" y="9321"/>
                  <a:pt x="8726" y="9349"/>
                  <a:pt x="8682" y="9376"/>
                </a:cubicBezTo>
                <a:cubicBezTo>
                  <a:pt x="8619" y="9414"/>
                  <a:pt x="8558" y="9395"/>
                  <a:pt x="8558" y="9475"/>
                </a:cubicBezTo>
                <a:cubicBezTo>
                  <a:pt x="8558" y="9534"/>
                  <a:pt x="8617" y="9546"/>
                  <a:pt x="8657" y="9575"/>
                </a:cubicBezTo>
                <a:cubicBezTo>
                  <a:pt x="8702" y="9608"/>
                  <a:pt x="8771" y="9621"/>
                  <a:pt x="8830" y="9624"/>
                </a:cubicBezTo>
                <a:cubicBezTo>
                  <a:pt x="8945" y="9630"/>
                  <a:pt x="9063" y="9624"/>
                  <a:pt x="9178" y="9624"/>
                </a:cubicBezTo>
              </a:path>
              <a:path w="19820" h="2233">
                <a:moveTo>
                  <a:pt x="9624" y="9351"/>
                </a:moveTo>
                <a:cubicBezTo>
                  <a:pt x="9597" y="9413"/>
                  <a:pt x="9616" y="9440"/>
                  <a:pt x="9599" y="9500"/>
                </a:cubicBezTo>
                <a:cubicBezTo>
                  <a:pt x="9585" y="9551"/>
                  <a:pt x="9566" y="9601"/>
                  <a:pt x="9550" y="9649"/>
                </a:cubicBezTo>
                <a:cubicBezTo>
                  <a:pt x="9526" y="9719"/>
                  <a:pt x="9540" y="9776"/>
                  <a:pt x="9525" y="9847"/>
                </a:cubicBezTo>
                <a:cubicBezTo>
                  <a:pt x="9505" y="9936"/>
                  <a:pt x="9521" y="10033"/>
                  <a:pt x="9500" y="10120"/>
                </a:cubicBezTo>
                <a:cubicBezTo>
                  <a:pt x="9488" y="10172"/>
                  <a:pt x="9483" y="10224"/>
                  <a:pt x="9525" y="10244"/>
                </a:cubicBezTo>
                <a:cubicBezTo>
                  <a:pt x="9533" y="10244"/>
                  <a:pt x="9542" y="10244"/>
                  <a:pt x="9550" y="10244"/>
                </a:cubicBezTo>
              </a:path>
              <a:path w="19820" h="2233">
                <a:moveTo>
                  <a:pt x="9327" y="9823"/>
                </a:moveTo>
                <a:cubicBezTo>
                  <a:pt x="9477" y="9804"/>
                  <a:pt x="9603" y="9773"/>
                  <a:pt x="9748" y="9773"/>
                </a:cubicBezTo>
                <a:cubicBezTo>
                  <a:pt x="9828" y="9773"/>
                  <a:pt x="9933" y="9751"/>
                  <a:pt x="9996" y="9798"/>
                </a:cubicBezTo>
              </a:path>
              <a:path w="19820" h="2233">
                <a:moveTo>
                  <a:pt x="10120" y="9847"/>
                </a:moveTo>
                <a:cubicBezTo>
                  <a:pt x="10066" y="9807"/>
                  <a:pt x="10051" y="9831"/>
                  <a:pt x="9996" y="9847"/>
                </a:cubicBezTo>
                <a:cubicBezTo>
                  <a:pt x="9937" y="9864"/>
                  <a:pt x="9926" y="9914"/>
                  <a:pt x="9897" y="9971"/>
                </a:cubicBezTo>
                <a:cubicBezTo>
                  <a:pt x="9863" y="10039"/>
                  <a:pt x="9847" y="10094"/>
                  <a:pt x="9847" y="10170"/>
                </a:cubicBezTo>
                <a:cubicBezTo>
                  <a:pt x="9903" y="10159"/>
                  <a:pt x="9953" y="10136"/>
                  <a:pt x="9996" y="10096"/>
                </a:cubicBezTo>
                <a:cubicBezTo>
                  <a:pt x="10055" y="10041"/>
                  <a:pt x="10096" y="9980"/>
                  <a:pt x="10145" y="9922"/>
                </a:cubicBezTo>
                <a:cubicBezTo>
                  <a:pt x="10171" y="9891"/>
                  <a:pt x="10185" y="9881"/>
                  <a:pt x="10220" y="9872"/>
                </a:cubicBezTo>
                <a:cubicBezTo>
                  <a:pt x="10235" y="9917"/>
                  <a:pt x="10244" y="9897"/>
                  <a:pt x="10244" y="9971"/>
                </a:cubicBezTo>
                <a:cubicBezTo>
                  <a:pt x="10244" y="10038"/>
                  <a:pt x="10224" y="10120"/>
                  <a:pt x="10269" y="10170"/>
                </a:cubicBezTo>
                <a:cubicBezTo>
                  <a:pt x="10305" y="10211"/>
                  <a:pt x="10308" y="10197"/>
                  <a:pt x="10344" y="10170"/>
                </a:cubicBezTo>
              </a:path>
              <a:path w="19820" h="2233">
                <a:moveTo>
                  <a:pt x="10567" y="9947"/>
                </a:moveTo>
                <a:cubicBezTo>
                  <a:pt x="10602" y="10026"/>
                  <a:pt x="10589" y="10006"/>
                  <a:pt x="10567" y="10071"/>
                </a:cubicBezTo>
                <a:cubicBezTo>
                  <a:pt x="10555" y="10106"/>
                  <a:pt x="10546" y="10159"/>
                  <a:pt x="10542" y="10195"/>
                </a:cubicBezTo>
                <a:cubicBezTo>
                  <a:pt x="10542" y="10220"/>
                  <a:pt x="10542" y="10228"/>
                  <a:pt x="10542" y="10244"/>
                </a:cubicBezTo>
                <a:cubicBezTo>
                  <a:pt x="10597" y="10226"/>
                  <a:pt x="10564" y="10222"/>
                  <a:pt x="10592" y="10170"/>
                </a:cubicBezTo>
                <a:cubicBezTo>
                  <a:pt x="10609" y="10138"/>
                  <a:pt x="10643" y="10097"/>
                  <a:pt x="10666" y="10071"/>
                </a:cubicBezTo>
                <a:cubicBezTo>
                  <a:pt x="10703" y="10030"/>
                  <a:pt x="10681" y="10021"/>
                  <a:pt x="10740" y="10021"/>
                </a:cubicBezTo>
                <a:cubicBezTo>
                  <a:pt x="10771" y="10021"/>
                  <a:pt x="10770" y="9971"/>
                  <a:pt x="10815" y="9996"/>
                </a:cubicBezTo>
                <a:cubicBezTo>
                  <a:pt x="10851" y="10016"/>
                  <a:pt x="10872" y="10041"/>
                  <a:pt x="10914" y="10046"/>
                </a:cubicBezTo>
                <a:cubicBezTo>
                  <a:pt x="10922" y="10046"/>
                  <a:pt x="10931" y="10046"/>
                  <a:pt x="10939" y="10046"/>
                </a:cubicBezTo>
                <a:cubicBezTo>
                  <a:pt x="10939" y="10109"/>
                  <a:pt x="10931" y="10143"/>
                  <a:pt x="10914" y="10195"/>
                </a:cubicBezTo>
                <a:cubicBezTo>
                  <a:pt x="10903" y="10227"/>
                  <a:pt x="10899" y="10264"/>
                  <a:pt x="10889" y="10294"/>
                </a:cubicBezTo>
                <a:cubicBezTo>
                  <a:pt x="10889" y="10319"/>
                  <a:pt x="10889" y="10327"/>
                  <a:pt x="10864" y="10319"/>
                </a:cubicBezTo>
              </a:path>
              <a:path w="19820" h="2233">
                <a:moveTo>
                  <a:pt x="10988" y="9575"/>
                </a:moveTo>
                <a:cubicBezTo>
                  <a:pt x="11064" y="9575"/>
                  <a:pt x="11078" y="9554"/>
                  <a:pt x="11137" y="9550"/>
                </a:cubicBezTo>
                <a:cubicBezTo>
                  <a:pt x="11220" y="9544"/>
                  <a:pt x="11292" y="9552"/>
                  <a:pt x="11361" y="9575"/>
                </a:cubicBezTo>
                <a:cubicBezTo>
                  <a:pt x="11385" y="9575"/>
                  <a:pt x="11393" y="9575"/>
                  <a:pt x="11385" y="9599"/>
                </a:cubicBezTo>
                <a:cubicBezTo>
                  <a:pt x="11374" y="9633"/>
                  <a:pt x="11351" y="9630"/>
                  <a:pt x="11336" y="9674"/>
                </a:cubicBezTo>
                <a:cubicBezTo>
                  <a:pt x="11325" y="9707"/>
                  <a:pt x="11274" y="9736"/>
                  <a:pt x="11237" y="9773"/>
                </a:cubicBezTo>
                <a:cubicBezTo>
                  <a:pt x="11185" y="9825"/>
                  <a:pt x="11224" y="9822"/>
                  <a:pt x="11261" y="9847"/>
                </a:cubicBezTo>
                <a:cubicBezTo>
                  <a:pt x="11295" y="9870"/>
                  <a:pt x="11345" y="9892"/>
                  <a:pt x="11385" y="9897"/>
                </a:cubicBezTo>
                <a:cubicBezTo>
                  <a:pt x="11393" y="9897"/>
                  <a:pt x="11402" y="9897"/>
                  <a:pt x="11410" y="9897"/>
                </a:cubicBezTo>
              </a:path>
              <a:path w="19820" h="2233">
                <a:moveTo>
                  <a:pt x="11584" y="9971"/>
                </a:moveTo>
                <a:cubicBezTo>
                  <a:pt x="11594" y="10020"/>
                  <a:pt x="11617" y="10075"/>
                  <a:pt x="11633" y="10120"/>
                </a:cubicBezTo>
                <a:cubicBezTo>
                  <a:pt x="11651" y="10172"/>
                  <a:pt x="11697" y="10229"/>
                  <a:pt x="11733" y="10269"/>
                </a:cubicBezTo>
                <a:cubicBezTo>
                  <a:pt x="11769" y="10310"/>
                  <a:pt x="11807" y="10356"/>
                  <a:pt x="11857" y="10368"/>
                </a:cubicBezTo>
              </a:path>
              <a:path w="19820" h="2233">
                <a:moveTo>
                  <a:pt x="11881" y="10071"/>
                </a:moveTo>
                <a:cubicBezTo>
                  <a:pt x="11799" y="10136"/>
                  <a:pt x="11712" y="10203"/>
                  <a:pt x="11633" y="10269"/>
                </a:cubicBezTo>
                <a:cubicBezTo>
                  <a:pt x="11586" y="10308"/>
                  <a:pt x="11585" y="10331"/>
                  <a:pt x="11534" y="10344"/>
                </a:cubicBezTo>
              </a:path>
              <a:path w="19820" h="2233">
                <a:moveTo>
                  <a:pt x="12254" y="10071"/>
                </a:moveTo>
                <a:cubicBezTo>
                  <a:pt x="12320" y="10071"/>
                  <a:pt x="12386" y="10071"/>
                  <a:pt x="12452" y="10071"/>
                </a:cubicBezTo>
              </a:path>
              <a:path w="19820" h="2233">
                <a:moveTo>
                  <a:pt x="12774" y="9649"/>
                </a:moveTo>
                <a:cubicBezTo>
                  <a:pt x="12840" y="9649"/>
                  <a:pt x="12893" y="9663"/>
                  <a:pt x="12948" y="9674"/>
                </a:cubicBezTo>
                <a:cubicBezTo>
                  <a:pt x="13012" y="9687"/>
                  <a:pt x="13088" y="9687"/>
                  <a:pt x="13146" y="9723"/>
                </a:cubicBezTo>
                <a:cubicBezTo>
                  <a:pt x="13219" y="9768"/>
                  <a:pt x="13190" y="9823"/>
                  <a:pt x="13146" y="9872"/>
                </a:cubicBezTo>
                <a:cubicBezTo>
                  <a:pt x="13106" y="9917"/>
                  <a:pt x="13074" y="9927"/>
                  <a:pt x="13022" y="9947"/>
                </a:cubicBezTo>
                <a:cubicBezTo>
                  <a:pt x="12958" y="9972"/>
                  <a:pt x="12914" y="9996"/>
                  <a:pt x="12849" y="10021"/>
                </a:cubicBezTo>
                <a:cubicBezTo>
                  <a:pt x="12884" y="10048"/>
                  <a:pt x="12934" y="10059"/>
                  <a:pt x="12973" y="10071"/>
                </a:cubicBezTo>
                <a:cubicBezTo>
                  <a:pt x="13025" y="10087"/>
                  <a:pt x="12998" y="10122"/>
                  <a:pt x="13022" y="10170"/>
                </a:cubicBezTo>
                <a:cubicBezTo>
                  <a:pt x="13039" y="10205"/>
                  <a:pt x="13062" y="10257"/>
                  <a:pt x="13022" y="10294"/>
                </a:cubicBezTo>
                <a:cubicBezTo>
                  <a:pt x="12961" y="10350"/>
                  <a:pt x="12901" y="10398"/>
                  <a:pt x="12824" y="10443"/>
                </a:cubicBezTo>
                <a:cubicBezTo>
                  <a:pt x="12789" y="10463"/>
                  <a:pt x="12696" y="10504"/>
                  <a:pt x="12675" y="10468"/>
                </a:cubicBezTo>
                <a:cubicBezTo>
                  <a:pt x="12675" y="10440"/>
                  <a:pt x="12677" y="10429"/>
                  <a:pt x="12700" y="10418"/>
                </a:cubicBezTo>
              </a:path>
              <a:path w="19820" h="2233">
                <a:moveTo>
                  <a:pt x="13519" y="9500"/>
                </a:moveTo>
                <a:cubicBezTo>
                  <a:pt x="13622" y="9620"/>
                  <a:pt x="13633" y="9616"/>
                  <a:pt x="13618" y="9748"/>
                </a:cubicBezTo>
                <a:cubicBezTo>
                  <a:pt x="13608" y="9839"/>
                  <a:pt x="13613" y="9932"/>
                  <a:pt x="13593" y="10021"/>
                </a:cubicBezTo>
                <a:cubicBezTo>
                  <a:pt x="13566" y="10142"/>
                  <a:pt x="13496" y="10190"/>
                  <a:pt x="13444" y="10294"/>
                </a:cubicBezTo>
                <a:cubicBezTo>
                  <a:pt x="13396" y="10390"/>
                  <a:pt x="13351" y="10478"/>
                  <a:pt x="13295" y="10567"/>
                </a:cubicBezTo>
                <a:cubicBezTo>
                  <a:pt x="13260" y="10622"/>
                  <a:pt x="13261" y="10675"/>
                  <a:pt x="13196" y="10691"/>
                </a:cubicBezTo>
              </a:path>
              <a:path w="19820" h="2233">
                <a:moveTo>
                  <a:pt x="14039" y="9971"/>
                </a:moveTo>
                <a:cubicBezTo>
                  <a:pt x="14118" y="9971"/>
                  <a:pt x="14184" y="9992"/>
                  <a:pt x="14263" y="9996"/>
                </a:cubicBezTo>
                <a:cubicBezTo>
                  <a:pt x="14350" y="10000"/>
                  <a:pt x="14426" y="10034"/>
                  <a:pt x="14511" y="10046"/>
                </a:cubicBezTo>
                <a:cubicBezTo>
                  <a:pt x="14582" y="10056"/>
                  <a:pt x="14641" y="10080"/>
                  <a:pt x="14709" y="10096"/>
                </a:cubicBezTo>
                <a:cubicBezTo>
                  <a:pt x="14717" y="10096"/>
                  <a:pt x="14726" y="10096"/>
                  <a:pt x="14734" y="10096"/>
                </a:cubicBezTo>
              </a:path>
              <a:path w="19820" h="2233">
                <a:moveTo>
                  <a:pt x="13717" y="10195"/>
                </a:moveTo>
                <a:cubicBezTo>
                  <a:pt x="13778" y="10230"/>
                  <a:pt x="13845" y="10279"/>
                  <a:pt x="13915" y="10294"/>
                </a:cubicBezTo>
                <a:cubicBezTo>
                  <a:pt x="13987" y="10309"/>
                  <a:pt x="14068" y="10335"/>
                  <a:pt x="14139" y="10344"/>
                </a:cubicBezTo>
                <a:cubicBezTo>
                  <a:pt x="14224" y="10355"/>
                  <a:pt x="14299" y="10368"/>
                  <a:pt x="14387" y="10368"/>
                </a:cubicBezTo>
                <a:cubicBezTo>
                  <a:pt x="14473" y="10368"/>
                  <a:pt x="14500" y="10388"/>
                  <a:pt x="14585" y="10368"/>
                </a:cubicBezTo>
                <a:cubicBezTo>
                  <a:pt x="14593" y="10368"/>
                  <a:pt x="14602" y="10368"/>
                  <a:pt x="14610" y="10368"/>
                </a:cubicBezTo>
              </a:path>
              <a:path w="19820" h="2233">
                <a:moveTo>
                  <a:pt x="15627" y="9847"/>
                </a:moveTo>
                <a:cubicBezTo>
                  <a:pt x="15593" y="9858"/>
                  <a:pt x="15597" y="9882"/>
                  <a:pt x="15553" y="9897"/>
                </a:cubicBezTo>
                <a:cubicBezTo>
                  <a:pt x="15487" y="9919"/>
                  <a:pt x="15463" y="9942"/>
                  <a:pt x="15404" y="9971"/>
                </a:cubicBezTo>
                <a:cubicBezTo>
                  <a:pt x="15372" y="9987"/>
                  <a:pt x="15340" y="10012"/>
                  <a:pt x="15304" y="10021"/>
                </a:cubicBezTo>
                <a:cubicBezTo>
                  <a:pt x="15317" y="10059"/>
                  <a:pt x="15326" y="10050"/>
                  <a:pt x="15354" y="10071"/>
                </a:cubicBezTo>
                <a:cubicBezTo>
                  <a:pt x="15395" y="10102"/>
                  <a:pt x="15451" y="10117"/>
                  <a:pt x="15503" y="10120"/>
                </a:cubicBezTo>
                <a:cubicBezTo>
                  <a:pt x="15551" y="10123"/>
                  <a:pt x="15590" y="10146"/>
                  <a:pt x="15627" y="10170"/>
                </a:cubicBezTo>
                <a:cubicBezTo>
                  <a:pt x="15697" y="10217"/>
                  <a:pt x="15663" y="10239"/>
                  <a:pt x="15652" y="10294"/>
                </a:cubicBezTo>
                <a:cubicBezTo>
                  <a:pt x="15635" y="10378"/>
                  <a:pt x="15609" y="10377"/>
                  <a:pt x="15528" y="10418"/>
                </a:cubicBezTo>
                <a:cubicBezTo>
                  <a:pt x="15466" y="10449"/>
                  <a:pt x="15410" y="10446"/>
                  <a:pt x="15354" y="10468"/>
                </a:cubicBezTo>
                <a:cubicBezTo>
                  <a:pt x="15316" y="10483"/>
                  <a:pt x="15325" y="10492"/>
                  <a:pt x="15280" y="10492"/>
                </a:cubicBezTo>
              </a:path>
              <a:path w="19820" h="2233">
                <a:moveTo>
                  <a:pt x="15925" y="10145"/>
                </a:moveTo>
                <a:cubicBezTo>
                  <a:pt x="15983" y="10155"/>
                  <a:pt x="16165" y="10203"/>
                  <a:pt x="16222" y="10195"/>
                </a:cubicBezTo>
                <a:cubicBezTo>
                  <a:pt x="16301" y="10184"/>
                  <a:pt x="16421" y="10133"/>
                  <a:pt x="16495" y="10096"/>
                </a:cubicBezTo>
                <a:cubicBezTo>
                  <a:pt x="16554" y="10067"/>
                  <a:pt x="16598" y="10042"/>
                  <a:pt x="16644" y="9996"/>
                </a:cubicBezTo>
                <a:cubicBezTo>
                  <a:pt x="16666" y="9974"/>
                  <a:pt x="16675" y="9969"/>
                  <a:pt x="16669" y="9947"/>
                </a:cubicBezTo>
                <a:cubicBezTo>
                  <a:pt x="16605" y="9909"/>
                  <a:pt x="16588" y="9923"/>
                  <a:pt x="16520" y="9947"/>
                </a:cubicBezTo>
                <a:cubicBezTo>
                  <a:pt x="16415" y="9984"/>
                  <a:pt x="16345" y="10019"/>
                  <a:pt x="16272" y="10096"/>
                </a:cubicBezTo>
                <a:cubicBezTo>
                  <a:pt x="16203" y="10168"/>
                  <a:pt x="16213" y="10190"/>
                  <a:pt x="16222" y="10269"/>
                </a:cubicBezTo>
                <a:cubicBezTo>
                  <a:pt x="16233" y="10360"/>
                  <a:pt x="16258" y="10383"/>
                  <a:pt x="16346" y="10418"/>
                </a:cubicBezTo>
                <a:cubicBezTo>
                  <a:pt x="16441" y="10455"/>
                  <a:pt x="16518" y="10468"/>
                  <a:pt x="16619" y="10468"/>
                </a:cubicBezTo>
                <a:cubicBezTo>
                  <a:pt x="16703" y="10468"/>
                  <a:pt x="16790" y="10469"/>
                  <a:pt x="16867" y="10443"/>
                </a:cubicBezTo>
                <a:cubicBezTo>
                  <a:pt x="16884" y="10435"/>
                  <a:pt x="16900" y="10426"/>
                  <a:pt x="16917" y="10418"/>
                </a:cubicBezTo>
              </a:path>
              <a:path w="19820" h="2233">
                <a:moveTo>
                  <a:pt x="17338" y="9897"/>
                </a:moveTo>
                <a:cubicBezTo>
                  <a:pt x="17275" y="9897"/>
                  <a:pt x="17264" y="9888"/>
                  <a:pt x="17239" y="9922"/>
                </a:cubicBezTo>
                <a:cubicBezTo>
                  <a:pt x="17195" y="9980"/>
                  <a:pt x="17108" y="10020"/>
                  <a:pt x="17090" y="10096"/>
                </a:cubicBezTo>
                <a:cubicBezTo>
                  <a:pt x="17079" y="10143"/>
                  <a:pt x="17085" y="10211"/>
                  <a:pt x="17115" y="10244"/>
                </a:cubicBezTo>
                <a:cubicBezTo>
                  <a:pt x="17175" y="10311"/>
                  <a:pt x="17249" y="10388"/>
                  <a:pt x="17338" y="10393"/>
                </a:cubicBezTo>
                <a:cubicBezTo>
                  <a:pt x="17400" y="10397"/>
                  <a:pt x="17437" y="10394"/>
                  <a:pt x="17487" y="10368"/>
                </a:cubicBezTo>
                <a:cubicBezTo>
                  <a:pt x="17504" y="10360"/>
                  <a:pt x="17520" y="10352"/>
                  <a:pt x="17537" y="10344"/>
                </a:cubicBezTo>
              </a:path>
              <a:path w="19820" h="2233">
                <a:moveTo>
                  <a:pt x="17587" y="9426"/>
                </a:moveTo>
                <a:cubicBezTo>
                  <a:pt x="17658" y="9433"/>
                  <a:pt x="17714" y="9451"/>
                  <a:pt x="17785" y="9451"/>
                </a:cubicBezTo>
                <a:cubicBezTo>
                  <a:pt x="17831" y="9451"/>
                  <a:pt x="17869" y="9483"/>
                  <a:pt x="17884" y="9525"/>
                </a:cubicBezTo>
                <a:cubicBezTo>
                  <a:pt x="17894" y="9554"/>
                  <a:pt x="17888" y="9609"/>
                  <a:pt x="17859" y="9624"/>
                </a:cubicBezTo>
                <a:cubicBezTo>
                  <a:pt x="17813" y="9647"/>
                  <a:pt x="17821" y="9660"/>
                  <a:pt x="17785" y="9699"/>
                </a:cubicBezTo>
                <a:cubicBezTo>
                  <a:pt x="17773" y="9712"/>
                  <a:pt x="17701" y="9771"/>
                  <a:pt x="17735" y="9798"/>
                </a:cubicBezTo>
                <a:cubicBezTo>
                  <a:pt x="17758" y="9817"/>
                  <a:pt x="17801" y="9823"/>
                  <a:pt x="17835" y="9823"/>
                </a:cubicBezTo>
                <a:cubicBezTo>
                  <a:pt x="17933" y="9823"/>
                  <a:pt x="17945" y="9827"/>
                  <a:pt x="18033" y="9773"/>
                </a:cubicBezTo>
              </a:path>
              <a:path w="19820" h="2233">
                <a:moveTo>
                  <a:pt x="18207" y="9847"/>
                </a:moveTo>
                <a:cubicBezTo>
                  <a:pt x="18242" y="9919"/>
                  <a:pt x="18303" y="9974"/>
                  <a:pt x="18331" y="10046"/>
                </a:cubicBezTo>
                <a:cubicBezTo>
                  <a:pt x="18352" y="10100"/>
                  <a:pt x="18374" y="10145"/>
                  <a:pt x="18405" y="10195"/>
                </a:cubicBezTo>
                <a:cubicBezTo>
                  <a:pt x="18437" y="10248"/>
                  <a:pt x="18434" y="10274"/>
                  <a:pt x="18479" y="10319"/>
                </a:cubicBezTo>
                <a:cubicBezTo>
                  <a:pt x="18509" y="10349"/>
                  <a:pt x="18514" y="10344"/>
                  <a:pt x="18554" y="10344"/>
                </a:cubicBezTo>
              </a:path>
              <a:path w="19820" h="2233">
                <a:moveTo>
                  <a:pt x="18628" y="9897"/>
                </a:moveTo>
                <a:cubicBezTo>
                  <a:pt x="18548" y="9953"/>
                  <a:pt x="18532" y="9973"/>
                  <a:pt x="18479" y="10046"/>
                </a:cubicBezTo>
                <a:cubicBezTo>
                  <a:pt x="18441" y="10098"/>
                  <a:pt x="18382" y="10181"/>
                  <a:pt x="18331" y="10220"/>
                </a:cubicBezTo>
                <a:cubicBezTo>
                  <a:pt x="18276" y="10262"/>
                  <a:pt x="18239" y="10291"/>
                  <a:pt x="18231" y="10368"/>
                </a:cubicBezTo>
                <a:cubicBezTo>
                  <a:pt x="18231" y="10376"/>
                  <a:pt x="18231" y="10385"/>
                  <a:pt x="18231" y="10393"/>
                </a:cubicBezTo>
              </a:path>
              <a:path w="19820" h="2233">
                <a:moveTo>
                  <a:pt x="19323" y="9599"/>
                </a:moveTo>
                <a:cubicBezTo>
                  <a:pt x="19323" y="9568"/>
                  <a:pt x="19315" y="9533"/>
                  <a:pt x="19298" y="9525"/>
                </a:cubicBezTo>
                <a:cubicBezTo>
                  <a:pt x="19269" y="9510"/>
                  <a:pt x="19216" y="9526"/>
                  <a:pt x="19199" y="9550"/>
                </a:cubicBezTo>
                <a:cubicBezTo>
                  <a:pt x="19163" y="9602"/>
                  <a:pt x="19103" y="9670"/>
                  <a:pt x="19075" y="9723"/>
                </a:cubicBezTo>
                <a:cubicBezTo>
                  <a:pt x="19026" y="9817"/>
                  <a:pt x="18996" y="9968"/>
                  <a:pt x="18976" y="10071"/>
                </a:cubicBezTo>
                <a:cubicBezTo>
                  <a:pt x="18963" y="10138"/>
                  <a:pt x="18983" y="10216"/>
                  <a:pt x="19025" y="10269"/>
                </a:cubicBezTo>
                <a:cubicBezTo>
                  <a:pt x="19065" y="10320"/>
                  <a:pt x="19159" y="10379"/>
                  <a:pt x="19224" y="10393"/>
                </a:cubicBezTo>
                <a:cubicBezTo>
                  <a:pt x="19291" y="10408"/>
                  <a:pt x="19351" y="10418"/>
                  <a:pt x="19422" y="10418"/>
                </a:cubicBezTo>
                <a:cubicBezTo>
                  <a:pt x="19476" y="10418"/>
                  <a:pt x="19501" y="10398"/>
                  <a:pt x="19546" y="10393"/>
                </a:cubicBezTo>
                <a:cubicBezTo>
                  <a:pt x="19571" y="10393"/>
                  <a:pt x="19579" y="10393"/>
                  <a:pt x="19571" y="10368"/>
                </a:cubicBezTo>
              </a:path>
              <a:path w="19820" h="2233">
                <a:moveTo>
                  <a:pt x="19844" y="9723"/>
                </a:moveTo>
                <a:cubicBezTo>
                  <a:pt x="19844" y="9807"/>
                  <a:pt x="19822" y="9868"/>
                  <a:pt x="19819" y="9947"/>
                </a:cubicBezTo>
                <a:cubicBezTo>
                  <a:pt x="19816" y="10020"/>
                  <a:pt x="19794" y="10072"/>
                  <a:pt x="19794" y="10145"/>
                </a:cubicBezTo>
                <a:cubicBezTo>
                  <a:pt x="19794" y="10177"/>
                  <a:pt x="19811" y="10190"/>
                  <a:pt x="19819" y="10220"/>
                </a:cubicBezTo>
              </a:path>
              <a:path w="19820" h="2233">
                <a:moveTo>
                  <a:pt x="19943" y="9649"/>
                </a:moveTo>
                <a:cubicBezTo>
                  <a:pt x="19905" y="9636"/>
                  <a:pt x="19922" y="9624"/>
                  <a:pt x="19869" y="9624"/>
                </a:cubicBezTo>
                <a:cubicBezTo>
                  <a:pt x="19825" y="9624"/>
                  <a:pt x="19806" y="9661"/>
                  <a:pt x="19769" y="9674"/>
                </a:cubicBezTo>
                <a:cubicBezTo>
                  <a:pt x="19735" y="9686"/>
                  <a:pt x="19699" y="9689"/>
                  <a:pt x="19695" y="9723"/>
                </a:cubicBezTo>
                <a:cubicBezTo>
                  <a:pt x="19689" y="9771"/>
                  <a:pt x="19689" y="9813"/>
                  <a:pt x="19720" y="9847"/>
                </a:cubicBezTo>
                <a:cubicBezTo>
                  <a:pt x="19754" y="9885"/>
                  <a:pt x="19795" y="9872"/>
                  <a:pt x="19844" y="9872"/>
                </a:cubicBezTo>
                <a:cubicBezTo>
                  <a:pt x="19927" y="9872"/>
                  <a:pt x="20017" y="9853"/>
                  <a:pt x="20092" y="9823"/>
                </a:cubicBezTo>
                <a:cubicBezTo>
                  <a:pt x="20142" y="9803"/>
                  <a:pt x="20162" y="9798"/>
                  <a:pt x="20216" y="9798"/>
                </a:cubicBezTo>
              </a:path>
              <a:path w="19820" h="2233">
                <a:moveTo>
                  <a:pt x="20414" y="9649"/>
                </a:moveTo>
                <a:cubicBezTo>
                  <a:pt x="20414" y="9741"/>
                  <a:pt x="20400" y="9812"/>
                  <a:pt x="20389" y="9897"/>
                </a:cubicBezTo>
                <a:cubicBezTo>
                  <a:pt x="20376" y="9993"/>
                  <a:pt x="20354" y="10076"/>
                  <a:pt x="20340" y="10170"/>
                </a:cubicBezTo>
                <a:cubicBezTo>
                  <a:pt x="20331" y="10225"/>
                  <a:pt x="20306" y="10379"/>
                  <a:pt x="20340" y="10418"/>
                </a:cubicBezTo>
                <a:cubicBezTo>
                  <a:pt x="20348" y="10418"/>
                  <a:pt x="20357" y="10418"/>
                  <a:pt x="20365" y="10418"/>
                </a:cubicBezTo>
              </a:path>
              <a:path w="19820" h="2233">
                <a:moveTo>
                  <a:pt x="20241" y="10021"/>
                </a:moveTo>
                <a:cubicBezTo>
                  <a:pt x="20288" y="10014"/>
                  <a:pt x="20343" y="10011"/>
                  <a:pt x="20389" y="9996"/>
                </a:cubicBezTo>
                <a:cubicBezTo>
                  <a:pt x="20450" y="9975"/>
                  <a:pt x="20504" y="9988"/>
                  <a:pt x="20563" y="9971"/>
                </a:cubicBezTo>
                <a:cubicBezTo>
                  <a:pt x="20647" y="9947"/>
                  <a:pt x="20677" y="9961"/>
                  <a:pt x="20762" y="9971"/>
                </a:cubicBezTo>
              </a:path>
              <a:path w="19820" h="2233">
                <a:moveTo>
                  <a:pt x="20985" y="10071"/>
                </a:moveTo>
                <a:cubicBezTo>
                  <a:pt x="20935" y="10071"/>
                  <a:pt x="20926" y="10082"/>
                  <a:pt x="20886" y="10096"/>
                </a:cubicBezTo>
                <a:cubicBezTo>
                  <a:pt x="20832" y="10114"/>
                  <a:pt x="20827" y="10151"/>
                  <a:pt x="20786" y="10195"/>
                </a:cubicBezTo>
                <a:cubicBezTo>
                  <a:pt x="20737" y="10248"/>
                  <a:pt x="20712" y="10273"/>
                  <a:pt x="20712" y="10344"/>
                </a:cubicBezTo>
                <a:cubicBezTo>
                  <a:pt x="20712" y="10352"/>
                  <a:pt x="20712" y="10360"/>
                  <a:pt x="20712" y="10368"/>
                </a:cubicBezTo>
                <a:cubicBezTo>
                  <a:pt x="20781" y="10357"/>
                  <a:pt x="20813" y="10342"/>
                  <a:pt x="20861" y="10294"/>
                </a:cubicBezTo>
                <a:cubicBezTo>
                  <a:pt x="20910" y="10244"/>
                  <a:pt x="20961" y="10215"/>
                  <a:pt x="21010" y="10170"/>
                </a:cubicBezTo>
                <a:cubicBezTo>
                  <a:pt x="21034" y="10145"/>
                  <a:pt x="21042" y="10136"/>
                  <a:pt x="21059" y="10120"/>
                </a:cubicBezTo>
                <a:cubicBezTo>
                  <a:pt x="21091" y="10163"/>
                  <a:pt x="21104" y="10188"/>
                  <a:pt x="21109" y="10244"/>
                </a:cubicBezTo>
                <a:cubicBezTo>
                  <a:pt x="21114" y="10298"/>
                  <a:pt x="21084" y="10405"/>
                  <a:pt x="21134" y="10418"/>
                </a:cubicBezTo>
                <a:cubicBezTo>
                  <a:pt x="21142" y="10418"/>
                  <a:pt x="21150" y="10418"/>
                  <a:pt x="21158" y="10418"/>
                </a:cubicBezTo>
              </a:path>
              <a:path w="19820" h="2233">
                <a:moveTo>
                  <a:pt x="21357" y="10170"/>
                </a:moveTo>
                <a:cubicBezTo>
                  <a:pt x="21357" y="10253"/>
                  <a:pt x="21357" y="10335"/>
                  <a:pt x="21357" y="10418"/>
                </a:cubicBezTo>
                <a:cubicBezTo>
                  <a:pt x="21357" y="10359"/>
                  <a:pt x="21367" y="10340"/>
                  <a:pt x="21382" y="10294"/>
                </a:cubicBezTo>
                <a:cubicBezTo>
                  <a:pt x="21401" y="10237"/>
                  <a:pt x="21406" y="10270"/>
                  <a:pt x="21431" y="10220"/>
                </a:cubicBezTo>
                <a:cubicBezTo>
                  <a:pt x="21445" y="10193"/>
                  <a:pt x="21462" y="10175"/>
                  <a:pt x="21506" y="10170"/>
                </a:cubicBezTo>
                <a:cubicBezTo>
                  <a:pt x="21542" y="10166"/>
                  <a:pt x="21564" y="10137"/>
                  <a:pt x="21580" y="10170"/>
                </a:cubicBezTo>
                <a:cubicBezTo>
                  <a:pt x="21596" y="10202"/>
                  <a:pt x="21620" y="10255"/>
                  <a:pt x="21630" y="10294"/>
                </a:cubicBezTo>
                <a:cubicBezTo>
                  <a:pt x="21643" y="10346"/>
                  <a:pt x="21641" y="10391"/>
                  <a:pt x="21654" y="10418"/>
                </a:cubicBezTo>
                <a:cubicBezTo>
                  <a:pt x="21654" y="10426"/>
                  <a:pt x="21654" y="10435"/>
                  <a:pt x="21654" y="10443"/>
                </a:cubicBezTo>
              </a:path>
              <a:path w="19820" h="2233">
                <a:moveTo>
                  <a:pt x="21779" y="9773"/>
                </a:moveTo>
                <a:cubicBezTo>
                  <a:pt x="21816" y="9744"/>
                  <a:pt x="21830" y="9748"/>
                  <a:pt x="21878" y="9748"/>
                </a:cubicBezTo>
                <a:cubicBezTo>
                  <a:pt x="21911" y="9748"/>
                  <a:pt x="21944" y="9748"/>
                  <a:pt x="21977" y="9748"/>
                </a:cubicBezTo>
                <a:cubicBezTo>
                  <a:pt x="21965" y="9798"/>
                  <a:pt x="21920" y="9797"/>
                  <a:pt x="21903" y="9823"/>
                </a:cubicBezTo>
                <a:cubicBezTo>
                  <a:pt x="21883" y="9852"/>
                  <a:pt x="21863" y="9849"/>
                  <a:pt x="21828" y="9872"/>
                </a:cubicBezTo>
                <a:cubicBezTo>
                  <a:pt x="21803" y="9889"/>
                  <a:pt x="21781" y="9929"/>
                  <a:pt x="21779" y="9947"/>
                </a:cubicBezTo>
                <a:cubicBezTo>
                  <a:pt x="21779" y="9955"/>
                  <a:pt x="21779" y="9963"/>
                  <a:pt x="21779" y="9971"/>
                </a:cubicBezTo>
                <a:cubicBezTo>
                  <a:pt x="21824" y="9971"/>
                  <a:pt x="21838" y="9992"/>
                  <a:pt x="21878" y="9996"/>
                </a:cubicBezTo>
                <a:cubicBezTo>
                  <a:pt x="21929" y="10002"/>
                  <a:pt x="21951" y="10008"/>
                  <a:pt x="22002" y="10021"/>
                </a:cubicBezTo>
                <a:cubicBezTo>
                  <a:pt x="22023" y="10026"/>
                  <a:pt x="22054" y="10021"/>
                  <a:pt x="22076" y="10021"/>
                </a:cubicBezTo>
              </a:path>
              <a:path w="19820" h="2233">
                <a:moveTo>
                  <a:pt x="22250" y="9947"/>
                </a:moveTo>
                <a:cubicBezTo>
                  <a:pt x="22273" y="9987"/>
                  <a:pt x="22302" y="10038"/>
                  <a:pt x="22324" y="10071"/>
                </a:cubicBezTo>
                <a:cubicBezTo>
                  <a:pt x="22351" y="10112"/>
                  <a:pt x="22374" y="10147"/>
                  <a:pt x="22399" y="10195"/>
                </a:cubicBezTo>
                <a:cubicBezTo>
                  <a:pt x="22420" y="10235"/>
                  <a:pt x="22451" y="10286"/>
                  <a:pt x="22473" y="10319"/>
                </a:cubicBezTo>
                <a:cubicBezTo>
                  <a:pt x="22496" y="10354"/>
                  <a:pt x="22513" y="10354"/>
                  <a:pt x="22523" y="10393"/>
                </a:cubicBezTo>
                <a:cubicBezTo>
                  <a:pt x="22562" y="10406"/>
                  <a:pt x="22533" y="10405"/>
                  <a:pt x="22572" y="10418"/>
                </a:cubicBezTo>
              </a:path>
              <a:path w="19820" h="2233">
                <a:moveTo>
                  <a:pt x="22597" y="10021"/>
                </a:moveTo>
                <a:cubicBezTo>
                  <a:pt x="22574" y="10075"/>
                  <a:pt x="22559" y="10122"/>
                  <a:pt x="22523" y="10170"/>
                </a:cubicBezTo>
                <a:cubicBezTo>
                  <a:pt x="22476" y="10233"/>
                  <a:pt x="22405" y="10289"/>
                  <a:pt x="22349" y="10344"/>
                </a:cubicBezTo>
                <a:cubicBezTo>
                  <a:pt x="22310" y="10383"/>
                  <a:pt x="22256" y="10438"/>
                  <a:pt x="22250" y="10492"/>
                </a:cubicBezTo>
                <a:cubicBezTo>
                  <a:pt x="22250" y="10500"/>
                  <a:pt x="22250" y="10509"/>
                  <a:pt x="22250" y="10517"/>
                </a:cubicBezTo>
              </a:path>
              <a:path w="19820" h="2233">
                <a:moveTo>
                  <a:pt x="22845" y="10244"/>
                </a:moveTo>
                <a:cubicBezTo>
                  <a:pt x="22920" y="10244"/>
                  <a:pt x="22943" y="10264"/>
                  <a:pt x="23019" y="10269"/>
                </a:cubicBezTo>
                <a:cubicBezTo>
                  <a:pt x="23043" y="10271"/>
                  <a:pt x="23069" y="10269"/>
                  <a:pt x="23093" y="10269"/>
                </a:cubicBezTo>
              </a:path>
              <a:path w="19820" h="2233">
                <a:moveTo>
                  <a:pt x="23366" y="9971"/>
                </a:moveTo>
                <a:cubicBezTo>
                  <a:pt x="23445" y="9971"/>
                  <a:pt x="23478" y="9983"/>
                  <a:pt x="23540" y="9996"/>
                </a:cubicBezTo>
                <a:cubicBezTo>
                  <a:pt x="23603" y="10010"/>
                  <a:pt x="23611" y="10009"/>
                  <a:pt x="23639" y="10046"/>
                </a:cubicBezTo>
                <a:cubicBezTo>
                  <a:pt x="23668" y="10084"/>
                  <a:pt x="23664" y="10097"/>
                  <a:pt x="23664" y="10145"/>
                </a:cubicBezTo>
                <a:cubicBezTo>
                  <a:pt x="23664" y="10204"/>
                  <a:pt x="23656" y="10184"/>
                  <a:pt x="23614" y="10220"/>
                </a:cubicBezTo>
                <a:cubicBezTo>
                  <a:pt x="23577" y="10252"/>
                  <a:pt x="23512" y="10265"/>
                  <a:pt x="23465" y="10269"/>
                </a:cubicBezTo>
                <a:cubicBezTo>
                  <a:pt x="23425" y="10272"/>
                  <a:pt x="23385" y="10316"/>
                  <a:pt x="23440" y="10344"/>
                </a:cubicBezTo>
                <a:cubicBezTo>
                  <a:pt x="23470" y="10359"/>
                  <a:pt x="23522" y="10377"/>
                  <a:pt x="23540" y="10418"/>
                </a:cubicBezTo>
                <a:cubicBezTo>
                  <a:pt x="23545" y="10429"/>
                  <a:pt x="23590" y="10535"/>
                  <a:pt x="23589" y="10542"/>
                </a:cubicBezTo>
                <a:cubicBezTo>
                  <a:pt x="23579" y="10638"/>
                  <a:pt x="23521" y="10629"/>
                  <a:pt x="23465" y="10666"/>
                </a:cubicBezTo>
                <a:cubicBezTo>
                  <a:pt x="23421" y="10695"/>
                  <a:pt x="23399" y="10691"/>
                  <a:pt x="23341" y="10691"/>
                </a:cubicBezTo>
                <a:cubicBezTo>
                  <a:pt x="23333" y="10691"/>
                  <a:pt x="23324" y="10691"/>
                  <a:pt x="23316" y="10691"/>
                </a:cubicBezTo>
              </a:path>
              <a:path w="19820" h="2233">
                <a:moveTo>
                  <a:pt x="23812" y="9748"/>
                </a:moveTo>
                <a:cubicBezTo>
                  <a:pt x="23846" y="9769"/>
                  <a:pt x="23881" y="9785"/>
                  <a:pt x="23912" y="9823"/>
                </a:cubicBezTo>
                <a:cubicBezTo>
                  <a:pt x="23947" y="9865"/>
                  <a:pt x="24001" y="9940"/>
                  <a:pt x="24011" y="9996"/>
                </a:cubicBezTo>
                <a:cubicBezTo>
                  <a:pt x="24024" y="10072"/>
                  <a:pt x="24036" y="10141"/>
                  <a:pt x="24036" y="10220"/>
                </a:cubicBezTo>
                <a:cubicBezTo>
                  <a:pt x="24036" y="10328"/>
                  <a:pt x="23988" y="10424"/>
                  <a:pt x="23937" y="10517"/>
                </a:cubicBezTo>
                <a:cubicBezTo>
                  <a:pt x="23878" y="10624"/>
                  <a:pt x="23773" y="10705"/>
                  <a:pt x="23688" y="10790"/>
                </a:cubicBezTo>
                <a:cubicBezTo>
                  <a:pt x="23577" y="10901"/>
                  <a:pt x="23465" y="11021"/>
                  <a:pt x="23341" y="11112"/>
                </a:cubicBezTo>
                <a:cubicBezTo>
                  <a:pt x="23269" y="11165"/>
                  <a:pt x="23192" y="11212"/>
                  <a:pt x="23118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1280" y="4027320"/>
            <a:ext cx="5661000" cy="938520"/>
          </a:xfrm>
          <a:custGeom>
            <a:avLst/>
            <a:gdLst/>
            <a:ahLst/>
            <a:rect l="l" t="t" r="r" b="b"/>
            <a:pathLst>
              <a:path w="15727" h="2605">
                <a:moveTo>
                  <a:pt x="6896" y="11311"/>
                </a:moveTo>
                <a:cubicBezTo>
                  <a:pt x="6878" y="11339"/>
                  <a:pt x="6853" y="11319"/>
                  <a:pt x="6821" y="11385"/>
                </a:cubicBezTo>
                <a:cubicBezTo>
                  <a:pt x="6758" y="11514"/>
                  <a:pt x="6723" y="11642"/>
                  <a:pt x="6697" y="11782"/>
                </a:cubicBezTo>
                <a:cubicBezTo>
                  <a:pt x="6697" y="11790"/>
                  <a:pt x="6697" y="11799"/>
                  <a:pt x="6697" y="11807"/>
                </a:cubicBezTo>
                <a:cubicBezTo>
                  <a:pt x="6752" y="11781"/>
                  <a:pt x="6844" y="11768"/>
                  <a:pt x="6896" y="11733"/>
                </a:cubicBezTo>
                <a:cubicBezTo>
                  <a:pt x="6997" y="11664"/>
                  <a:pt x="7088" y="11578"/>
                  <a:pt x="7193" y="11509"/>
                </a:cubicBezTo>
                <a:cubicBezTo>
                  <a:pt x="7252" y="11471"/>
                  <a:pt x="7317" y="11434"/>
                  <a:pt x="7367" y="11385"/>
                </a:cubicBezTo>
                <a:cubicBezTo>
                  <a:pt x="7417" y="11336"/>
                  <a:pt x="7446" y="11286"/>
                  <a:pt x="7491" y="11237"/>
                </a:cubicBezTo>
                <a:cubicBezTo>
                  <a:pt x="7516" y="11237"/>
                  <a:pt x="7524" y="11237"/>
                  <a:pt x="7516" y="11212"/>
                </a:cubicBezTo>
                <a:cubicBezTo>
                  <a:pt x="7503" y="11268"/>
                  <a:pt x="7475" y="11327"/>
                  <a:pt x="7466" y="11385"/>
                </a:cubicBezTo>
                <a:cubicBezTo>
                  <a:pt x="7448" y="11500"/>
                  <a:pt x="7432" y="11616"/>
                  <a:pt x="7417" y="11733"/>
                </a:cubicBezTo>
                <a:cubicBezTo>
                  <a:pt x="7400" y="11868"/>
                  <a:pt x="7396" y="11997"/>
                  <a:pt x="7367" y="12129"/>
                </a:cubicBezTo>
                <a:cubicBezTo>
                  <a:pt x="7346" y="12227"/>
                  <a:pt x="7317" y="12310"/>
                  <a:pt x="7293" y="12402"/>
                </a:cubicBezTo>
                <a:cubicBezTo>
                  <a:pt x="7293" y="12410"/>
                  <a:pt x="7293" y="12419"/>
                  <a:pt x="7293" y="12427"/>
                </a:cubicBezTo>
                <a:cubicBezTo>
                  <a:pt x="7295" y="12368"/>
                  <a:pt x="7288" y="12337"/>
                  <a:pt x="7293" y="12278"/>
                </a:cubicBezTo>
                <a:cubicBezTo>
                  <a:pt x="7311" y="12079"/>
                  <a:pt x="7375" y="11876"/>
                  <a:pt x="7417" y="11683"/>
                </a:cubicBezTo>
                <a:cubicBezTo>
                  <a:pt x="7438" y="11588"/>
                  <a:pt x="7449" y="11500"/>
                  <a:pt x="7491" y="11410"/>
                </a:cubicBezTo>
                <a:cubicBezTo>
                  <a:pt x="7536" y="11313"/>
                  <a:pt x="7585" y="11250"/>
                  <a:pt x="7689" y="11212"/>
                </a:cubicBezTo>
                <a:cubicBezTo>
                  <a:pt x="7822" y="11164"/>
                  <a:pt x="7982" y="11181"/>
                  <a:pt x="8111" y="11237"/>
                </a:cubicBezTo>
                <a:cubicBezTo>
                  <a:pt x="8216" y="11282"/>
                  <a:pt x="8264" y="11366"/>
                  <a:pt x="8310" y="11460"/>
                </a:cubicBezTo>
                <a:cubicBezTo>
                  <a:pt x="8350" y="11542"/>
                  <a:pt x="8335" y="11642"/>
                  <a:pt x="8334" y="11733"/>
                </a:cubicBezTo>
                <a:cubicBezTo>
                  <a:pt x="8333" y="11836"/>
                  <a:pt x="8328" y="11889"/>
                  <a:pt x="8285" y="11981"/>
                </a:cubicBezTo>
                <a:cubicBezTo>
                  <a:pt x="8246" y="12063"/>
                  <a:pt x="8207" y="12099"/>
                  <a:pt x="8136" y="12154"/>
                </a:cubicBezTo>
                <a:cubicBezTo>
                  <a:pt x="8066" y="12208"/>
                  <a:pt x="7996" y="12243"/>
                  <a:pt x="7913" y="12278"/>
                </a:cubicBezTo>
                <a:cubicBezTo>
                  <a:pt x="7845" y="12306"/>
                  <a:pt x="7759" y="12343"/>
                  <a:pt x="7689" y="12353"/>
                </a:cubicBezTo>
                <a:cubicBezTo>
                  <a:pt x="7576" y="12370"/>
                  <a:pt x="7472" y="12339"/>
                  <a:pt x="7367" y="12328"/>
                </a:cubicBezTo>
                <a:cubicBezTo>
                  <a:pt x="7359" y="12328"/>
                  <a:pt x="7350" y="12328"/>
                  <a:pt x="7342" y="12328"/>
                </a:cubicBezTo>
                <a:cubicBezTo>
                  <a:pt x="7372" y="12332"/>
                  <a:pt x="7425" y="12348"/>
                  <a:pt x="7466" y="12353"/>
                </a:cubicBezTo>
                <a:cubicBezTo>
                  <a:pt x="7569" y="12365"/>
                  <a:pt x="7662" y="12365"/>
                  <a:pt x="7764" y="12378"/>
                </a:cubicBezTo>
                <a:cubicBezTo>
                  <a:pt x="7895" y="12395"/>
                  <a:pt x="8027" y="12409"/>
                  <a:pt x="8161" y="12402"/>
                </a:cubicBezTo>
                <a:cubicBezTo>
                  <a:pt x="8383" y="12391"/>
                  <a:pt x="8625" y="12344"/>
                  <a:pt x="8830" y="12254"/>
                </a:cubicBezTo>
                <a:cubicBezTo>
                  <a:pt x="9038" y="12163"/>
                  <a:pt x="9218" y="12041"/>
                  <a:pt x="9376" y="11881"/>
                </a:cubicBezTo>
                <a:cubicBezTo>
                  <a:pt x="9441" y="11815"/>
                  <a:pt x="9473" y="11755"/>
                  <a:pt x="9525" y="11683"/>
                </a:cubicBezTo>
                <a:cubicBezTo>
                  <a:pt x="9543" y="11658"/>
                  <a:pt x="9561" y="11629"/>
                  <a:pt x="9575" y="11609"/>
                </a:cubicBezTo>
                <a:cubicBezTo>
                  <a:pt x="9538" y="11609"/>
                  <a:pt x="9481" y="11570"/>
                  <a:pt x="9426" y="11584"/>
                </a:cubicBezTo>
                <a:cubicBezTo>
                  <a:pt x="9241" y="11630"/>
                  <a:pt x="9082" y="11789"/>
                  <a:pt x="9004" y="11956"/>
                </a:cubicBezTo>
                <a:cubicBezTo>
                  <a:pt x="8962" y="12045"/>
                  <a:pt x="8931" y="12179"/>
                  <a:pt x="8954" y="12278"/>
                </a:cubicBezTo>
                <a:cubicBezTo>
                  <a:pt x="8977" y="12376"/>
                  <a:pt x="9050" y="12393"/>
                  <a:pt x="9128" y="12402"/>
                </a:cubicBezTo>
                <a:cubicBezTo>
                  <a:pt x="9248" y="12415"/>
                  <a:pt x="9325" y="12347"/>
                  <a:pt x="9426" y="12303"/>
                </a:cubicBezTo>
                <a:cubicBezTo>
                  <a:pt x="9539" y="12254"/>
                  <a:pt x="9622" y="12185"/>
                  <a:pt x="9723" y="12129"/>
                </a:cubicBezTo>
                <a:cubicBezTo>
                  <a:pt x="9875" y="12044"/>
                  <a:pt x="10006" y="11939"/>
                  <a:pt x="10145" y="11832"/>
                </a:cubicBezTo>
                <a:cubicBezTo>
                  <a:pt x="10274" y="11733"/>
                  <a:pt x="10392" y="11668"/>
                  <a:pt x="10542" y="11609"/>
                </a:cubicBezTo>
                <a:cubicBezTo>
                  <a:pt x="10648" y="11567"/>
                  <a:pt x="10749" y="11546"/>
                  <a:pt x="10864" y="11559"/>
                </a:cubicBezTo>
                <a:cubicBezTo>
                  <a:pt x="10964" y="11570"/>
                  <a:pt x="11044" y="11589"/>
                  <a:pt x="11137" y="11633"/>
                </a:cubicBezTo>
                <a:cubicBezTo>
                  <a:pt x="11208" y="11667"/>
                  <a:pt x="11248" y="11717"/>
                  <a:pt x="11311" y="11757"/>
                </a:cubicBezTo>
                <a:cubicBezTo>
                  <a:pt x="11344" y="11778"/>
                  <a:pt x="11396" y="11823"/>
                  <a:pt x="11410" y="11832"/>
                </a:cubicBezTo>
                <a:cubicBezTo>
                  <a:pt x="11418" y="11832"/>
                  <a:pt x="11427" y="11832"/>
                  <a:pt x="11435" y="11832"/>
                </a:cubicBezTo>
                <a:cubicBezTo>
                  <a:pt x="11415" y="11796"/>
                  <a:pt x="11405" y="11751"/>
                  <a:pt x="11385" y="11708"/>
                </a:cubicBezTo>
                <a:cubicBezTo>
                  <a:pt x="11363" y="11659"/>
                  <a:pt x="11350" y="11606"/>
                  <a:pt x="11311" y="11559"/>
                </a:cubicBezTo>
                <a:cubicBezTo>
                  <a:pt x="11273" y="11513"/>
                  <a:pt x="11219" y="11477"/>
                  <a:pt x="11162" y="11460"/>
                </a:cubicBezTo>
                <a:cubicBezTo>
                  <a:pt x="11070" y="11433"/>
                  <a:pt x="11007" y="11436"/>
                  <a:pt x="10914" y="11460"/>
                </a:cubicBezTo>
                <a:cubicBezTo>
                  <a:pt x="10717" y="11510"/>
                  <a:pt x="10478" y="11685"/>
                  <a:pt x="10368" y="11857"/>
                </a:cubicBezTo>
                <a:cubicBezTo>
                  <a:pt x="10332" y="11914"/>
                  <a:pt x="10302" y="11986"/>
                  <a:pt x="10319" y="12055"/>
                </a:cubicBezTo>
                <a:cubicBezTo>
                  <a:pt x="10338" y="12133"/>
                  <a:pt x="10413" y="12164"/>
                  <a:pt x="10468" y="12204"/>
                </a:cubicBezTo>
                <a:cubicBezTo>
                  <a:pt x="10520" y="12242"/>
                  <a:pt x="10629" y="12257"/>
                  <a:pt x="10691" y="12254"/>
                </a:cubicBezTo>
                <a:cubicBezTo>
                  <a:pt x="10759" y="12251"/>
                  <a:pt x="10849" y="12206"/>
                  <a:pt x="10914" y="12179"/>
                </a:cubicBezTo>
                <a:cubicBezTo>
                  <a:pt x="10988" y="12148"/>
                  <a:pt x="11081" y="12086"/>
                  <a:pt x="11137" y="12030"/>
                </a:cubicBezTo>
                <a:cubicBezTo>
                  <a:pt x="11186" y="11981"/>
                  <a:pt x="11220" y="11896"/>
                  <a:pt x="11261" y="11832"/>
                </a:cubicBezTo>
                <a:cubicBezTo>
                  <a:pt x="11296" y="11779"/>
                  <a:pt x="11308" y="11703"/>
                  <a:pt x="11336" y="11658"/>
                </a:cubicBezTo>
                <a:cubicBezTo>
                  <a:pt x="11336" y="11666"/>
                  <a:pt x="11336" y="11675"/>
                  <a:pt x="11336" y="11683"/>
                </a:cubicBezTo>
                <a:cubicBezTo>
                  <a:pt x="11332" y="11697"/>
                  <a:pt x="11295" y="11762"/>
                  <a:pt x="11286" y="11807"/>
                </a:cubicBezTo>
                <a:cubicBezTo>
                  <a:pt x="11272" y="11879"/>
                  <a:pt x="11267" y="11927"/>
                  <a:pt x="11261" y="12005"/>
                </a:cubicBezTo>
                <a:cubicBezTo>
                  <a:pt x="11253" y="12105"/>
                  <a:pt x="11263" y="12243"/>
                  <a:pt x="11311" y="12328"/>
                </a:cubicBezTo>
                <a:cubicBezTo>
                  <a:pt x="11350" y="12398"/>
                  <a:pt x="11379" y="12472"/>
                  <a:pt x="11460" y="12502"/>
                </a:cubicBezTo>
                <a:cubicBezTo>
                  <a:pt x="11535" y="12530"/>
                  <a:pt x="11638" y="12500"/>
                  <a:pt x="11708" y="12477"/>
                </a:cubicBezTo>
                <a:cubicBezTo>
                  <a:pt x="11793" y="12449"/>
                  <a:pt x="11844" y="12388"/>
                  <a:pt x="11906" y="12328"/>
                </a:cubicBezTo>
                <a:cubicBezTo>
                  <a:pt x="12003" y="12236"/>
                  <a:pt x="12077" y="12112"/>
                  <a:pt x="12154" y="12005"/>
                </a:cubicBezTo>
                <a:cubicBezTo>
                  <a:pt x="12197" y="11944"/>
                  <a:pt x="12246" y="11874"/>
                  <a:pt x="12278" y="11807"/>
                </a:cubicBezTo>
                <a:cubicBezTo>
                  <a:pt x="12308" y="11745"/>
                  <a:pt x="12321" y="11693"/>
                  <a:pt x="12353" y="11633"/>
                </a:cubicBezTo>
                <a:cubicBezTo>
                  <a:pt x="12358" y="11623"/>
                  <a:pt x="12400" y="11535"/>
                  <a:pt x="12402" y="11534"/>
                </a:cubicBezTo>
                <a:cubicBezTo>
                  <a:pt x="12427" y="11520"/>
                  <a:pt x="12438" y="11494"/>
                  <a:pt x="12502" y="11509"/>
                </a:cubicBezTo>
                <a:cubicBezTo>
                  <a:pt x="12522" y="11514"/>
                  <a:pt x="12559" y="11554"/>
                  <a:pt x="12576" y="11584"/>
                </a:cubicBezTo>
                <a:cubicBezTo>
                  <a:pt x="12599" y="11623"/>
                  <a:pt x="12592" y="11661"/>
                  <a:pt x="12601" y="11708"/>
                </a:cubicBezTo>
                <a:cubicBezTo>
                  <a:pt x="12619" y="11807"/>
                  <a:pt x="12596" y="11914"/>
                  <a:pt x="12576" y="12005"/>
                </a:cubicBezTo>
                <a:cubicBezTo>
                  <a:pt x="12557" y="12094"/>
                  <a:pt x="12536" y="12193"/>
                  <a:pt x="12502" y="12278"/>
                </a:cubicBezTo>
                <a:cubicBezTo>
                  <a:pt x="12478" y="12337"/>
                  <a:pt x="12450" y="12374"/>
                  <a:pt x="12427" y="12427"/>
                </a:cubicBezTo>
                <a:cubicBezTo>
                  <a:pt x="12439" y="12384"/>
                  <a:pt x="12439" y="12396"/>
                  <a:pt x="12452" y="12353"/>
                </a:cubicBezTo>
                <a:cubicBezTo>
                  <a:pt x="12473" y="12283"/>
                  <a:pt x="12474" y="12249"/>
                  <a:pt x="12502" y="12179"/>
                </a:cubicBezTo>
                <a:cubicBezTo>
                  <a:pt x="12559" y="12038"/>
                  <a:pt x="12642" y="11940"/>
                  <a:pt x="12725" y="11832"/>
                </a:cubicBezTo>
                <a:cubicBezTo>
                  <a:pt x="12796" y="11740"/>
                  <a:pt x="12815" y="11717"/>
                  <a:pt x="12923" y="11658"/>
                </a:cubicBezTo>
                <a:cubicBezTo>
                  <a:pt x="12987" y="11623"/>
                  <a:pt x="13046" y="11588"/>
                  <a:pt x="13122" y="11584"/>
                </a:cubicBezTo>
                <a:cubicBezTo>
                  <a:pt x="13209" y="11579"/>
                  <a:pt x="13288" y="11588"/>
                  <a:pt x="13370" y="11609"/>
                </a:cubicBezTo>
                <a:cubicBezTo>
                  <a:pt x="13416" y="11621"/>
                  <a:pt x="13512" y="11640"/>
                  <a:pt x="13543" y="11683"/>
                </a:cubicBezTo>
                <a:cubicBezTo>
                  <a:pt x="13563" y="11710"/>
                  <a:pt x="13577" y="11767"/>
                  <a:pt x="13568" y="11807"/>
                </a:cubicBezTo>
                <a:cubicBezTo>
                  <a:pt x="13510" y="12066"/>
                  <a:pt x="13147" y="12179"/>
                  <a:pt x="13122" y="12526"/>
                </a:cubicBezTo>
                <a:cubicBezTo>
                  <a:pt x="13118" y="12586"/>
                  <a:pt x="13127" y="12726"/>
                  <a:pt x="13171" y="12774"/>
                </a:cubicBezTo>
                <a:cubicBezTo>
                  <a:pt x="13255" y="12867"/>
                  <a:pt x="13327" y="12860"/>
                  <a:pt x="13444" y="12824"/>
                </a:cubicBezTo>
                <a:cubicBezTo>
                  <a:pt x="13630" y="12768"/>
                  <a:pt x="13820" y="12643"/>
                  <a:pt x="13990" y="12551"/>
                </a:cubicBezTo>
                <a:cubicBezTo>
                  <a:pt x="14313" y="12375"/>
                  <a:pt x="14600" y="12169"/>
                  <a:pt x="14932" y="12005"/>
                </a:cubicBezTo>
                <a:cubicBezTo>
                  <a:pt x="15124" y="11909"/>
                  <a:pt x="15184" y="11880"/>
                  <a:pt x="15304" y="11807"/>
                </a:cubicBezTo>
              </a:path>
              <a:path w="15727" h="2605">
                <a:moveTo>
                  <a:pt x="14585" y="13469"/>
                </a:moveTo>
                <a:cubicBezTo>
                  <a:pt x="14592" y="13430"/>
                  <a:pt x="14602" y="13367"/>
                  <a:pt x="14610" y="13320"/>
                </a:cubicBezTo>
                <a:cubicBezTo>
                  <a:pt x="14616" y="13287"/>
                  <a:pt x="14628" y="13239"/>
                  <a:pt x="14635" y="13196"/>
                </a:cubicBezTo>
                <a:cubicBezTo>
                  <a:pt x="14646" y="13128"/>
                  <a:pt x="14679" y="13062"/>
                  <a:pt x="14709" y="12998"/>
                </a:cubicBezTo>
                <a:cubicBezTo>
                  <a:pt x="14744" y="12924"/>
                  <a:pt x="14783" y="12837"/>
                  <a:pt x="14833" y="12774"/>
                </a:cubicBezTo>
                <a:cubicBezTo>
                  <a:pt x="14912" y="12674"/>
                  <a:pt x="15031" y="12577"/>
                  <a:pt x="15131" y="12502"/>
                </a:cubicBezTo>
                <a:cubicBezTo>
                  <a:pt x="15237" y="12422"/>
                  <a:pt x="15356" y="12356"/>
                  <a:pt x="15478" y="12303"/>
                </a:cubicBezTo>
                <a:cubicBezTo>
                  <a:pt x="15652" y="12227"/>
                  <a:pt x="15813" y="12189"/>
                  <a:pt x="15999" y="12154"/>
                </a:cubicBezTo>
                <a:cubicBezTo>
                  <a:pt x="16286" y="12100"/>
                  <a:pt x="16548" y="12080"/>
                  <a:pt x="16842" y="12080"/>
                </a:cubicBezTo>
                <a:cubicBezTo>
                  <a:pt x="17064" y="12080"/>
                  <a:pt x="17268" y="12093"/>
                  <a:pt x="17487" y="12129"/>
                </a:cubicBezTo>
                <a:cubicBezTo>
                  <a:pt x="17690" y="12162"/>
                  <a:pt x="17887" y="12192"/>
                  <a:pt x="18083" y="12254"/>
                </a:cubicBezTo>
                <a:cubicBezTo>
                  <a:pt x="18473" y="12377"/>
                  <a:pt x="18812" y="12538"/>
                  <a:pt x="19149" y="12774"/>
                </a:cubicBezTo>
                <a:cubicBezTo>
                  <a:pt x="19229" y="12830"/>
                  <a:pt x="19330" y="12970"/>
                  <a:pt x="19422" y="12998"/>
                </a:cubicBezTo>
                <a:cubicBezTo>
                  <a:pt x="19504" y="13023"/>
                  <a:pt x="19437" y="13009"/>
                  <a:pt x="19472" y="12973"/>
                </a:cubicBezTo>
                <a:cubicBezTo>
                  <a:pt x="19464" y="12965"/>
                  <a:pt x="19455" y="12956"/>
                  <a:pt x="19447" y="12948"/>
                </a:cubicBezTo>
              </a:path>
              <a:path w="15727" h="2605">
                <a:moveTo>
                  <a:pt x="19447" y="12650"/>
                </a:moveTo>
                <a:cubicBezTo>
                  <a:pt x="19447" y="12735"/>
                  <a:pt x="19493" y="12774"/>
                  <a:pt x="19521" y="12849"/>
                </a:cubicBezTo>
                <a:cubicBezTo>
                  <a:pt x="19583" y="13015"/>
                  <a:pt x="19645" y="13174"/>
                  <a:pt x="19695" y="13345"/>
                </a:cubicBezTo>
                <a:cubicBezTo>
                  <a:pt x="19715" y="13413"/>
                  <a:pt x="19745" y="13472"/>
                  <a:pt x="19745" y="13543"/>
                </a:cubicBezTo>
                <a:cubicBezTo>
                  <a:pt x="19745" y="13551"/>
                  <a:pt x="19745" y="13560"/>
                  <a:pt x="19745" y="13568"/>
                </a:cubicBezTo>
                <a:cubicBezTo>
                  <a:pt x="19704" y="13558"/>
                  <a:pt x="19682" y="13540"/>
                  <a:pt x="19645" y="13519"/>
                </a:cubicBezTo>
                <a:cubicBezTo>
                  <a:pt x="19594" y="13490"/>
                  <a:pt x="19554" y="13469"/>
                  <a:pt x="19496" y="13469"/>
                </a:cubicBezTo>
                <a:cubicBezTo>
                  <a:pt x="19409" y="13469"/>
                  <a:pt x="19365" y="13502"/>
                  <a:pt x="19298" y="13543"/>
                </a:cubicBezTo>
                <a:cubicBezTo>
                  <a:pt x="19281" y="13551"/>
                  <a:pt x="19265" y="13560"/>
                  <a:pt x="19248" y="13568"/>
                </a:cubicBezTo>
              </a:path>
              <a:path w="15727" h="2605">
                <a:moveTo>
                  <a:pt x="14734" y="13072"/>
                </a:moveTo>
                <a:cubicBezTo>
                  <a:pt x="14745" y="13058"/>
                  <a:pt x="14788" y="13030"/>
                  <a:pt x="14808" y="12998"/>
                </a:cubicBezTo>
                <a:cubicBezTo>
                  <a:pt x="14875" y="12890"/>
                  <a:pt x="14933" y="12773"/>
                  <a:pt x="15007" y="12675"/>
                </a:cubicBezTo>
                <a:cubicBezTo>
                  <a:pt x="15119" y="12527"/>
                  <a:pt x="15250" y="12389"/>
                  <a:pt x="15379" y="12254"/>
                </a:cubicBezTo>
                <a:cubicBezTo>
                  <a:pt x="15514" y="12113"/>
                  <a:pt x="15659" y="11985"/>
                  <a:pt x="15825" y="11881"/>
                </a:cubicBezTo>
                <a:cubicBezTo>
                  <a:pt x="16082" y="11720"/>
                  <a:pt x="16356" y="11558"/>
                  <a:pt x="16644" y="11460"/>
                </a:cubicBezTo>
                <a:cubicBezTo>
                  <a:pt x="16907" y="11371"/>
                  <a:pt x="17187" y="11282"/>
                  <a:pt x="17462" y="11237"/>
                </a:cubicBezTo>
                <a:cubicBezTo>
                  <a:pt x="17770" y="11187"/>
                  <a:pt x="18093" y="11169"/>
                  <a:pt x="18405" y="11187"/>
                </a:cubicBezTo>
                <a:cubicBezTo>
                  <a:pt x="18721" y="11206"/>
                  <a:pt x="19042" y="11255"/>
                  <a:pt x="19348" y="11336"/>
                </a:cubicBezTo>
                <a:cubicBezTo>
                  <a:pt x="19670" y="11421"/>
                  <a:pt x="19977" y="11566"/>
                  <a:pt x="20265" y="11733"/>
                </a:cubicBezTo>
                <a:cubicBezTo>
                  <a:pt x="20531" y="11887"/>
                  <a:pt x="20805" y="12049"/>
                  <a:pt x="21034" y="12254"/>
                </a:cubicBezTo>
                <a:cubicBezTo>
                  <a:pt x="21345" y="12533"/>
                  <a:pt x="21581" y="12860"/>
                  <a:pt x="21853" y="13171"/>
                </a:cubicBezTo>
                <a:cubicBezTo>
                  <a:pt x="21931" y="13260"/>
                  <a:pt x="21992" y="13326"/>
                  <a:pt x="22076" y="13395"/>
                </a:cubicBezTo>
                <a:cubicBezTo>
                  <a:pt x="22101" y="13395"/>
                  <a:pt x="22109" y="13395"/>
                  <a:pt x="22126" y="13395"/>
                </a:cubicBezTo>
                <a:cubicBezTo>
                  <a:pt x="22132" y="13346"/>
                  <a:pt x="22150" y="13330"/>
                  <a:pt x="22151" y="13271"/>
                </a:cubicBezTo>
                <a:cubicBezTo>
                  <a:pt x="22153" y="13195"/>
                  <a:pt x="22165" y="13108"/>
                  <a:pt x="22175" y="13047"/>
                </a:cubicBezTo>
                <a:cubicBezTo>
                  <a:pt x="22204" y="13099"/>
                  <a:pt x="22266" y="13195"/>
                  <a:pt x="22299" y="13271"/>
                </a:cubicBezTo>
                <a:cubicBezTo>
                  <a:pt x="22356" y="13405"/>
                  <a:pt x="22370" y="13530"/>
                  <a:pt x="22399" y="13667"/>
                </a:cubicBezTo>
                <a:cubicBezTo>
                  <a:pt x="22418" y="13725"/>
                  <a:pt x="22426" y="13732"/>
                  <a:pt x="22423" y="13767"/>
                </a:cubicBezTo>
                <a:cubicBezTo>
                  <a:pt x="22376" y="13759"/>
                  <a:pt x="22373" y="13798"/>
                  <a:pt x="22299" y="13767"/>
                </a:cubicBezTo>
                <a:cubicBezTo>
                  <a:pt x="22199" y="13725"/>
                  <a:pt x="22112" y="13676"/>
                  <a:pt x="22002" y="13667"/>
                </a:cubicBezTo>
                <a:cubicBezTo>
                  <a:pt x="21893" y="13658"/>
                  <a:pt x="21809" y="13700"/>
                  <a:pt x="21704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94200" y="4776840"/>
            <a:ext cx="3732120" cy="1098360"/>
          </a:xfrm>
          <a:custGeom>
            <a:avLst/>
            <a:gdLst/>
            <a:ahLst/>
            <a:rect l="l" t="t" r="r" b="b"/>
            <a:pathLst>
              <a:path w="10369" h="3051">
                <a:moveTo>
                  <a:pt x="14188" y="13494"/>
                </a:moveTo>
                <a:cubicBezTo>
                  <a:pt x="14090" y="13572"/>
                  <a:pt x="13976" y="13620"/>
                  <a:pt x="13891" y="13717"/>
                </a:cubicBezTo>
                <a:cubicBezTo>
                  <a:pt x="13784" y="13840"/>
                  <a:pt x="13689" y="13981"/>
                  <a:pt x="13643" y="14139"/>
                </a:cubicBezTo>
                <a:cubicBezTo>
                  <a:pt x="13595" y="14301"/>
                  <a:pt x="13583" y="14450"/>
                  <a:pt x="13643" y="14610"/>
                </a:cubicBezTo>
                <a:cubicBezTo>
                  <a:pt x="13695" y="14747"/>
                  <a:pt x="13767" y="14821"/>
                  <a:pt x="13891" y="14883"/>
                </a:cubicBezTo>
              </a:path>
              <a:path w="10369" h="3051">
                <a:moveTo>
                  <a:pt x="14585" y="13692"/>
                </a:moveTo>
                <a:cubicBezTo>
                  <a:pt x="14556" y="13802"/>
                  <a:pt x="14480" y="13933"/>
                  <a:pt x="14461" y="14039"/>
                </a:cubicBezTo>
                <a:cubicBezTo>
                  <a:pt x="14433" y="14199"/>
                  <a:pt x="14436" y="14373"/>
                  <a:pt x="14436" y="14536"/>
                </a:cubicBezTo>
                <a:cubicBezTo>
                  <a:pt x="14436" y="14664"/>
                  <a:pt x="14465" y="14785"/>
                  <a:pt x="14486" y="14908"/>
                </a:cubicBezTo>
                <a:cubicBezTo>
                  <a:pt x="14486" y="14932"/>
                  <a:pt x="14486" y="14940"/>
                  <a:pt x="14511" y="14932"/>
                </a:cubicBezTo>
              </a:path>
              <a:path w="10369" h="3051">
                <a:moveTo>
                  <a:pt x="14163" y="14163"/>
                </a:moveTo>
                <a:cubicBezTo>
                  <a:pt x="14257" y="14147"/>
                  <a:pt x="14362" y="14166"/>
                  <a:pt x="14461" y="14188"/>
                </a:cubicBezTo>
                <a:cubicBezTo>
                  <a:pt x="14593" y="14217"/>
                  <a:pt x="14699" y="14253"/>
                  <a:pt x="14833" y="14263"/>
                </a:cubicBezTo>
              </a:path>
              <a:path w="10369" h="3051">
                <a:moveTo>
                  <a:pt x="15007" y="14312"/>
                </a:moveTo>
                <a:cubicBezTo>
                  <a:pt x="14908" y="14366"/>
                  <a:pt x="14791" y="14391"/>
                  <a:pt x="14784" y="14511"/>
                </a:cubicBezTo>
                <a:cubicBezTo>
                  <a:pt x="14778" y="14618"/>
                  <a:pt x="14842" y="14627"/>
                  <a:pt x="14932" y="14635"/>
                </a:cubicBezTo>
                <a:cubicBezTo>
                  <a:pt x="15001" y="14641"/>
                  <a:pt x="15040" y="14611"/>
                  <a:pt x="15081" y="14560"/>
                </a:cubicBezTo>
                <a:cubicBezTo>
                  <a:pt x="15111" y="14522"/>
                  <a:pt x="15124" y="14408"/>
                  <a:pt x="15106" y="14362"/>
                </a:cubicBezTo>
                <a:cubicBezTo>
                  <a:pt x="15095" y="14333"/>
                  <a:pt x="15048" y="14293"/>
                  <a:pt x="15032" y="14288"/>
                </a:cubicBezTo>
                <a:cubicBezTo>
                  <a:pt x="15032" y="14341"/>
                  <a:pt x="15023" y="14390"/>
                  <a:pt x="15056" y="14436"/>
                </a:cubicBezTo>
                <a:cubicBezTo>
                  <a:pt x="15114" y="14517"/>
                  <a:pt x="15183" y="14589"/>
                  <a:pt x="15255" y="14660"/>
                </a:cubicBezTo>
                <a:cubicBezTo>
                  <a:pt x="15287" y="14692"/>
                  <a:pt x="15349" y="14702"/>
                  <a:pt x="15379" y="14660"/>
                </a:cubicBezTo>
                <a:cubicBezTo>
                  <a:pt x="15387" y="14643"/>
                  <a:pt x="15396" y="14627"/>
                  <a:pt x="15404" y="14610"/>
                </a:cubicBezTo>
              </a:path>
              <a:path w="10369" h="3051">
                <a:moveTo>
                  <a:pt x="15404" y="14213"/>
                </a:moveTo>
                <a:cubicBezTo>
                  <a:pt x="15369" y="14225"/>
                  <a:pt x="15359" y="14314"/>
                  <a:pt x="15354" y="14362"/>
                </a:cubicBezTo>
                <a:cubicBezTo>
                  <a:pt x="15346" y="14439"/>
                  <a:pt x="15356" y="14539"/>
                  <a:pt x="15379" y="14610"/>
                </a:cubicBezTo>
                <a:cubicBezTo>
                  <a:pt x="15393" y="14655"/>
                  <a:pt x="15403" y="14699"/>
                  <a:pt x="15429" y="14734"/>
                </a:cubicBezTo>
                <a:cubicBezTo>
                  <a:pt x="15440" y="14700"/>
                  <a:pt x="15469" y="14666"/>
                  <a:pt x="15478" y="14610"/>
                </a:cubicBezTo>
                <a:cubicBezTo>
                  <a:pt x="15492" y="14527"/>
                  <a:pt x="15519" y="14439"/>
                  <a:pt x="15553" y="14362"/>
                </a:cubicBezTo>
                <a:cubicBezTo>
                  <a:pt x="15574" y="14314"/>
                  <a:pt x="15574" y="14300"/>
                  <a:pt x="15602" y="14263"/>
                </a:cubicBezTo>
                <a:cubicBezTo>
                  <a:pt x="15639" y="14312"/>
                  <a:pt x="15651" y="14375"/>
                  <a:pt x="15677" y="14436"/>
                </a:cubicBezTo>
                <a:cubicBezTo>
                  <a:pt x="15719" y="14535"/>
                  <a:pt x="15758" y="14636"/>
                  <a:pt x="15801" y="14734"/>
                </a:cubicBezTo>
                <a:cubicBezTo>
                  <a:pt x="15829" y="14799"/>
                  <a:pt x="15857" y="14855"/>
                  <a:pt x="15900" y="14908"/>
                </a:cubicBezTo>
              </a:path>
              <a:path w="10369" h="3051">
                <a:moveTo>
                  <a:pt x="15776" y="13742"/>
                </a:moveTo>
                <a:cubicBezTo>
                  <a:pt x="15854" y="13624"/>
                  <a:pt x="15849" y="13629"/>
                  <a:pt x="15974" y="13643"/>
                </a:cubicBezTo>
                <a:cubicBezTo>
                  <a:pt x="16065" y="13653"/>
                  <a:pt x="16049" y="13680"/>
                  <a:pt x="16049" y="13767"/>
                </a:cubicBezTo>
                <a:cubicBezTo>
                  <a:pt x="16049" y="13820"/>
                  <a:pt x="16008" y="13873"/>
                  <a:pt x="15999" y="13915"/>
                </a:cubicBezTo>
                <a:cubicBezTo>
                  <a:pt x="15983" y="13996"/>
                  <a:pt x="16010" y="14063"/>
                  <a:pt x="16073" y="14114"/>
                </a:cubicBezTo>
                <a:cubicBezTo>
                  <a:pt x="16179" y="14200"/>
                  <a:pt x="16265" y="14206"/>
                  <a:pt x="16396" y="14213"/>
                </a:cubicBezTo>
              </a:path>
              <a:path w="10369" h="3051">
                <a:moveTo>
                  <a:pt x="16520" y="14188"/>
                </a:moveTo>
                <a:cubicBezTo>
                  <a:pt x="16564" y="14322"/>
                  <a:pt x="16623" y="14450"/>
                  <a:pt x="16718" y="14560"/>
                </a:cubicBezTo>
                <a:cubicBezTo>
                  <a:pt x="16813" y="14670"/>
                  <a:pt x="16925" y="14771"/>
                  <a:pt x="17041" y="14858"/>
                </a:cubicBezTo>
              </a:path>
              <a:path w="10369" h="3051">
                <a:moveTo>
                  <a:pt x="16793" y="14263"/>
                </a:moveTo>
                <a:cubicBezTo>
                  <a:pt x="16682" y="14404"/>
                  <a:pt x="16522" y="14563"/>
                  <a:pt x="16470" y="14734"/>
                </a:cubicBezTo>
                <a:cubicBezTo>
                  <a:pt x="16445" y="14816"/>
                  <a:pt x="16504" y="14747"/>
                  <a:pt x="16520" y="14709"/>
                </a:cubicBezTo>
              </a:path>
              <a:path w="10369" h="3051">
                <a:moveTo>
                  <a:pt x="17264" y="14238"/>
                </a:moveTo>
                <a:cubicBezTo>
                  <a:pt x="17282" y="14363"/>
                  <a:pt x="17297" y="14488"/>
                  <a:pt x="17314" y="14610"/>
                </a:cubicBezTo>
                <a:cubicBezTo>
                  <a:pt x="17317" y="14630"/>
                  <a:pt x="17333" y="14756"/>
                  <a:pt x="17289" y="14734"/>
                </a:cubicBezTo>
                <a:cubicBezTo>
                  <a:pt x="17281" y="14726"/>
                  <a:pt x="17272" y="14717"/>
                  <a:pt x="17264" y="14709"/>
                </a:cubicBezTo>
              </a:path>
              <a:path w="10369" h="3051">
                <a:moveTo>
                  <a:pt x="17190" y="14461"/>
                </a:moveTo>
                <a:cubicBezTo>
                  <a:pt x="17376" y="14461"/>
                  <a:pt x="17430" y="14457"/>
                  <a:pt x="17611" y="14412"/>
                </a:cubicBezTo>
              </a:path>
              <a:path w="10369" h="3051">
                <a:moveTo>
                  <a:pt x="17785" y="14039"/>
                </a:moveTo>
                <a:cubicBezTo>
                  <a:pt x="17757" y="14187"/>
                  <a:pt x="17733" y="14290"/>
                  <a:pt x="17760" y="14436"/>
                </a:cubicBezTo>
                <a:cubicBezTo>
                  <a:pt x="17779" y="14537"/>
                  <a:pt x="17813" y="14638"/>
                  <a:pt x="17835" y="14734"/>
                </a:cubicBezTo>
                <a:cubicBezTo>
                  <a:pt x="17835" y="14742"/>
                  <a:pt x="17835" y="14751"/>
                  <a:pt x="17835" y="14759"/>
                </a:cubicBezTo>
              </a:path>
              <a:path w="10369" h="3051">
                <a:moveTo>
                  <a:pt x="17760" y="13271"/>
                </a:moveTo>
                <a:cubicBezTo>
                  <a:pt x="17834" y="13292"/>
                  <a:pt x="17907" y="13395"/>
                  <a:pt x="17959" y="13469"/>
                </a:cubicBezTo>
                <a:cubicBezTo>
                  <a:pt x="18106" y="13678"/>
                  <a:pt x="18203" y="13962"/>
                  <a:pt x="18256" y="14213"/>
                </a:cubicBezTo>
                <a:cubicBezTo>
                  <a:pt x="18293" y="14391"/>
                  <a:pt x="18329" y="14601"/>
                  <a:pt x="18306" y="14784"/>
                </a:cubicBezTo>
                <a:cubicBezTo>
                  <a:pt x="18304" y="14797"/>
                  <a:pt x="18233" y="15037"/>
                  <a:pt x="18231" y="15032"/>
                </a:cubicBezTo>
                <a:cubicBezTo>
                  <a:pt x="18231" y="14999"/>
                  <a:pt x="18231" y="14982"/>
                  <a:pt x="18231" y="14957"/>
                </a:cubicBezTo>
              </a:path>
              <a:path w="10369" h="3051">
                <a:moveTo>
                  <a:pt x="18703" y="13643"/>
                </a:moveTo>
                <a:cubicBezTo>
                  <a:pt x="18590" y="13939"/>
                  <a:pt x="18495" y="14215"/>
                  <a:pt x="18529" y="14536"/>
                </a:cubicBezTo>
                <a:cubicBezTo>
                  <a:pt x="18547" y="14707"/>
                  <a:pt x="18619" y="14882"/>
                  <a:pt x="18703" y="15032"/>
                </a:cubicBezTo>
                <a:cubicBezTo>
                  <a:pt x="18751" y="15118"/>
                  <a:pt x="18766" y="15120"/>
                  <a:pt x="18852" y="15131"/>
                </a:cubicBezTo>
              </a:path>
              <a:path w="10369" h="3051">
                <a:moveTo>
                  <a:pt x="19149" y="13891"/>
                </a:moveTo>
                <a:cubicBezTo>
                  <a:pt x="19080" y="13960"/>
                  <a:pt x="19075" y="13968"/>
                  <a:pt x="19075" y="14064"/>
                </a:cubicBezTo>
                <a:cubicBezTo>
                  <a:pt x="19075" y="14173"/>
                  <a:pt x="19127" y="14220"/>
                  <a:pt x="19199" y="14288"/>
                </a:cubicBezTo>
                <a:cubicBezTo>
                  <a:pt x="19288" y="14372"/>
                  <a:pt x="19320" y="14406"/>
                  <a:pt x="19447" y="14412"/>
                </a:cubicBezTo>
                <a:cubicBezTo>
                  <a:pt x="19463" y="14412"/>
                  <a:pt x="19480" y="14412"/>
                  <a:pt x="19496" y="14412"/>
                </a:cubicBezTo>
              </a:path>
              <a:path w="10369" h="3051">
                <a:moveTo>
                  <a:pt x="19472" y="13742"/>
                </a:moveTo>
                <a:cubicBezTo>
                  <a:pt x="19447" y="13866"/>
                  <a:pt x="19425" y="13987"/>
                  <a:pt x="19422" y="14114"/>
                </a:cubicBezTo>
                <a:cubicBezTo>
                  <a:pt x="19418" y="14284"/>
                  <a:pt x="19434" y="14443"/>
                  <a:pt x="19447" y="14610"/>
                </a:cubicBezTo>
                <a:cubicBezTo>
                  <a:pt x="19455" y="14716"/>
                  <a:pt x="19474" y="14808"/>
                  <a:pt x="19496" y="14908"/>
                </a:cubicBezTo>
                <a:cubicBezTo>
                  <a:pt x="19496" y="14916"/>
                  <a:pt x="19496" y="14924"/>
                  <a:pt x="19496" y="14932"/>
                </a:cubicBezTo>
              </a:path>
              <a:path w="10369" h="3051">
                <a:moveTo>
                  <a:pt x="19794" y="13891"/>
                </a:moveTo>
                <a:cubicBezTo>
                  <a:pt x="19829" y="14073"/>
                  <a:pt x="19869" y="14252"/>
                  <a:pt x="19893" y="14436"/>
                </a:cubicBezTo>
                <a:cubicBezTo>
                  <a:pt x="19893" y="14437"/>
                  <a:pt x="19981" y="14818"/>
                  <a:pt x="19968" y="14858"/>
                </a:cubicBezTo>
                <a:cubicBezTo>
                  <a:pt x="19948" y="14917"/>
                  <a:pt x="19911" y="14851"/>
                  <a:pt x="19893" y="14833"/>
                </a:cubicBezTo>
              </a:path>
              <a:path w="10369" h="3051">
                <a:moveTo>
                  <a:pt x="19621" y="14436"/>
                </a:moveTo>
                <a:cubicBezTo>
                  <a:pt x="19749" y="14385"/>
                  <a:pt x="19831" y="14385"/>
                  <a:pt x="19968" y="14412"/>
                </a:cubicBezTo>
                <a:cubicBezTo>
                  <a:pt x="20046" y="14427"/>
                  <a:pt x="20110" y="14436"/>
                  <a:pt x="20191" y="14436"/>
                </a:cubicBezTo>
              </a:path>
              <a:path w="10369" h="3051">
                <a:moveTo>
                  <a:pt x="20216" y="14412"/>
                </a:moveTo>
                <a:cubicBezTo>
                  <a:pt x="20121" y="14499"/>
                  <a:pt x="20074" y="14529"/>
                  <a:pt x="20117" y="14660"/>
                </a:cubicBezTo>
                <a:cubicBezTo>
                  <a:pt x="20145" y="14744"/>
                  <a:pt x="20180" y="14796"/>
                  <a:pt x="20241" y="14858"/>
                </a:cubicBezTo>
                <a:cubicBezTo>
                  <a:pt x="20249" y="14866"/>
                  <a:pt x="20257" y="14875"/>
                  <a:pt x="20265" y="14883"/>
                </a:cubicBezTo>
                <a:cubicBezTo>
                  <a:pt x="20318" y="14812"/>
                  <a:pt x="20311" y="14795"/>
                  <a:pt x="20315" y="14684"/>
                </a:cubicBezTo>
                <a:cubicBezTo>
                  <a:pt x="20317" y="14618"/>
                  <a:pt x="20322" y="14520"/>
                  <a:pt x="20290" y="14461"/>
                </a:cubicBezTo>
                <a:cubicBezTo>
                  <a:pt x="20247" y="14382"/>
                  <a:pt x="20304" y="14489"/>
                  <a:pt x="20315" y="14511"/>
                </a:cubicBezTo>
                <a:cubicBezTo>
                  <a:pt x="20361" y="14608"/>
                  <a:pt x="20404" y="14693"/>
                  <a:pt x="20464" y="14784"/>
                </a:cubicBezTo>
                <a:cubicBezTo>
                  <a:pt x="20467" y="14789"/>
                  <a:pt x="20553" y="14965"/>
                  <a:pt x="20588" y="14932"/>
                </a:cubicBezTo>
                <a:cubicBezTo>
                  <a:pt x="20588" y="14924"/>
                  <a:pt x="20588" y="14916"/>
                  <a:pt x="20588" y="14908"/>
                </a:cubicBezTo>
              </a:path>
              <a:path w="10369" h="3051">
                <a:moveTo>
                  <a:pt x="20563" y="14610"/>
                </a:moveTo>
                <a:cubicBezTo>
                  <a:pt x="20595" y="14689"/>
                  <a:pt x="20609" y="14766"/>
                  <a:pt x="20662" y="14833"/>
                </a:cubicBezTo>
                <a:cubicBezTo>
                  <a:pt x="20662" y="14714"/>
                  <a:pt x="20655" y="14591"/>
                  <a:pt x="20687" y="14486"/>
                </a:cubicBezTo>
                <a:cubicBezTo>
                  <a:pt x="20687" y="14478"/>
                  <a:pt x="20687" y="14469"/>
                  <a:pt x="20687" y="14461"/>
                </a:cubicBezTo>
                <a:cubicBezTo>
                  <a:pt x="20739" y="14474"/>
                  <a:pt x="20762" y="14483"/>
                  <a:pt x="20786" y="14536"/>
                </a:cubicBezTo>
                <a:cubicBezTo>
                  <a:pt x="20837" y="14649"/>
                  <a:pt x="20878" y="14774"/>
                  <a:pt x="20935" y="14883"/>
                </a:cubicBezTo>
                <a:cubicBezTo>
                  <a:pt x="20965" y="14941"/>
                  <a:pt x="21016" y="15071"/>
                  <a:pt x="21034" y="14957"/>
                </a:cubicBezTo>
              </a:path>
              <a:path w="10369" h="3051">
                <a:moveTo>
                  <a:pt x="20786" y="13742"/>
                </a:moveTo>
                <a:cubicBezTo>
                  <a:pt x="20921" y="13697"/>
                  <a:pt x="20971" y="13705"/>
                  <a:pt x="21109" y="13767"/>
                </a:cubicBezTo>
                <a:cubicBezTo>
                  <a:pt x="21152" y="13788"/>
                  <a:pt x="21164" y="13792"/>
                  <a:pt x="21183" y="13816"/>
                </a:cubicBezTo>
                <a:cubicBezTo>
                  <a:pt x="21167" y="13878"/>
                  <a:pt x="21132" y="13900"/>
                  <a:pt x="21084" y="13940"/>
                </a:cubicBezTo>
                <a:cubicBezTo>
                  <a:pt x="21017" y="13996"/>
                  <a:pt x="21026" y="14015"/>
                  <a:pt x="21034" y="14089"/>
                </a:cubicBezTo>
                <a:cubicBezTo>
                  <a:pt x="21043" y="14170"/>
                  <a:pt x="21107" y="14291"/>
                  <a:pt x="21183" y="14337"/>
                </a:cubicBezTo>
                <a:cubicBezTo>
                  <a:pt x="21208" y="14345"/>
                  <a:pt x="21233" y="14354"/>
                  <a:pt x="21258" y="14362"/>
                </a:cubicBezTo>
              </a:path>
              <a:path w="10369" h="3051">
                <a:moveTo>
                  <a:pt x="21530" y="14486"/>
                </a:moveTo>
                <a:cubicBezTo>
                  <a:pt x="21657" y="14670"/>
                  <a:pt x="21771" y="14847"/>
                  <a:pt x="21927" y="15007"/>
                </a:cubicBezTo>
                <a:cubicBezTo>
                  <a:pt x="21998" y="15077"/>
                  <a:pt x="22019" y="15099"/>
                  <a:pt x="22076" y="15131"/>
                </a:cubicBezTo>
              </a:path>
              <a:path w="10369" h="3051">
                <a:moveTo>
                  <a:pt x="21754" y="14436"/>
                </a:moveTo>
                <a:cubicBezTo>
                  <a:pt x="21681" y="14537"/>
                  <a:pt x="21586" y="14646"/>
                  <a:pt x="21530" y="14759"/>
                </a:cubicBezTo>
                <a:cubicBezTo>
                  <a:pt x="21486" y="14848"/>
                  <a:pt x="21487" y="14946"/>
                  <a:pt x="21456" y="15032"/>
                </a:cubicBezTo>
                <a:cubicBezTo>
                  <a:pt x="21443" y="15068"/>
                  <a:pt x="21431" y="15084"/>
                  <a:pt x="21431" y="15131"/>
                </a:cubicBezTo>
              </a:path>
              <a:path w="10369" h="3051">
                <a:moveTo>
                  <a:pt x="22076" y="14635"/>
                </a:moveTo>
                <a:cubicBezTo>
                  <a:pt x="22218" y="14617"/>
                  <a:pt x="22361" y="14617"/>
                  <a:pt x="22498" y="14585"/>
                </a:cubicBezTo>
              </a:path>
              <a:path w="10369" h="3051">
                <a:moveTo>
                  <a:pt x="22721" y="14064"/>
                </a:moveTo>
                <a:cubicBezTo>
                  <a:pt x="22853" y="14070"/>
                  <a:pt x="22975" y="14055"/>
                  <a:pt x="23068" y="14163"/>
                </a:cubicBezTo>
                <a:cubicBezTo>
                  <a:pt x="23147" y="14254"/>
                  <a:pt x="23028" y="14270"/>
                  <a:pt x="22969" y="14312"/>
                </a:cubicBezTo>
                <a:cubicBezTo>
                  <a:pt x="22934" y="14337"/>
                  <a:pt x="22864" y="14370"/>
                  <a:pt x="22845" y="14412"/>
                </a:cubicBezTo>
                <a:cubicBezTo>
                  <a:pt x="22829" y="14446"/>
                  <a:pt x="22832" y="14424"/>
                  <a:pt x="22820" y="14461"/>
                </a:cubicBezTo>
                <a:cubicBezTo>
                  <a:pt x="22851" y="14484"/>
                  <a:pt x="22881" y="14507"/>
                  <a:pt x="22920" y="14511"/>
                </a:cubicBezTo>
                <a:cubicBezTo>
                  <a:pt x="22977" y="14517"/>
                  <a:pt x="23014" y="14503"/>
                  <a:pt x="23068" y="14536"/>
                </a:cubicBezTo>
                <a:cubicBezTo>
                  <a:pt x="23138" y="14578"/>
                  <a:pt x="23149" y="14589"/>
                  <a:pt x="23168" y="14660"/>
                </a:cubicBezTo>
                <a:cubicBezTo>
                  <a:pt x="23196" y="14764"/>
                  <a:pt x="23207" y="14853"/>
                  <a:pt x="23168" y="14957"/>
                </a:cubicBezTo>
                <a:cubicBezTo>
                  <a:pt x="23151" y="15001"/>
                  <a:pt x="23116" y="15084"/>
                  <a:pt x="23068" y="15106"/>
                </a:cubicBezTo>
                <a:cubicBezTo>
                  <a:pt x="23003" y="15135"/>
                  <a:pt x="22969" y="15046"/>
                  <a:pt x="22944" y="15007"/>
                </a:cubicBezTo>
              </a:path>
              <a:path w="10369" h="3051">
                <a:moveTo>
                  <a:pt x="23143" y="13667"/>
                </a:moveTo>
                <a:cubicBezTo>
                  <a:pt x="23411" y="13802"/>
                  <a:pt x="23528" y="13946"/>
                  <a:pt x="23688" y="14213"/>
                </a:cubicBezTo>
                <a:cubicBezTo>
                  <a:pt x="23942" y="14637"/>
                  <a:pt x="24003" y="15066"/>
                  <a:pt x="23937" y="15553"/>
                </a:cubicBezTo>
                <a:cubicBezTo>
                  <a:pt x="23902" y="15811"/>
                  <a:pt x="23805" y="16105"/>
                  <a:pt x="23589" y="16272"/>
                </a:cubicBezTo>
                <a:cubicBezTo>
                  <a:pt x="23467" y="16366"/>
                  <a:pt x="23352" y="16287"/>
                  <a:pt x="23242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86680" y="5357880"/>
            <a:ext cx="2349360" cy="1081080"/>
          </a:xfrm>
          <a:custGeom>
            <a:avLst/>
            <a:gdLst/>
            <a:ahLst/>
            <a:rect l="l" t="t" r="r" b="b"/>
            <a:pathLst>
              <a:path w="6525" h="3002">
                <a:moveTo>
                  <a:pt x="17462" y="14883"/>
                </a:moveTo>
                <a:cubicBezTo>
                  <a:pt x="17494" y="14954"/>
                  <a:pt x="17505" y="14996"/>
                  <a:pt x="17562" y="15056"/>
                </a:cubicBezTo>
                <a:cubicBezTo>
                  <a:pt x="17639" y="15137"/>
                  <a:pt x="17722" y="15214"/>
                  <a:pt x="17810" y="15280"/>
                </a:cubicBezTo>
                <a:cubicBezTo>
                  <a:pt x="17911" y="15355"/>
                  <a:pt x="18044" y="15396"/>
                  <a:pt x="18157" y="15453"/>
                </a:cubicBezTo>
                <a:cubicBezTo>
                  <a:pt x="18319" y="15534"/>
                  <a:pt x="18472" y="15597"/>
                  <a:pt x="18653" y="15602"/>
                </a:cubicBezTo>
                <a:cubicBezTo>
                  <a:pt x="18789" y="15606"/>
                  <a:pt x="18919" y="15608"/>
                  <a:pt x="19050" y="15577"/>
                </a:cubicBezTo>
                <a:cubicBezTo>
                  <a:pt x="19168" y="15549"/>
                  <a:pt x="19291" y="15506"/>
                  <a:pt x="19397" y="15453"/>
                </a:cubicBezTo>
                <a:cubicBezTo>
                  <a:pt x="19502" y="15401"/>
                  <a:pt x="19602" y="15322"/>
                  <a:pt x="19695" y="15255"/>
                </a:cubicBezTo>
                <a:cubicBezTo>
                  <a:pt x="19744" y="15220"/>
                  <a:pt x="19809" y="15175"/>
                  <a:pt x="19844" y="15131"/>
                </a:cubicBezTo>
                <a:cubicBezTo>
                  <a:pt x="19870" y="15099"/>
                  <a:pt x="19873" y="15041"/>
                  <a:pt x="19893" y="15081"/>
                </a:cubicBezTo>
                <a:cubicBezTo>
                  <a:pt x="19900" y="15096"/>
                  <a:pt x="19893" y="15139"/>
                  <a:pt x="19893" y="15156"/>
                </a:cubicBezTo>
              </a:path>
              <a:path w="6525" h="3002">
                <a:moveTo>
                  <a:pt x="17462" y="14932"/>
                </a:moveTo>
                <a:cubicBezTo>
                  <a:pt x="17518" y="14996"/>
                  <a:pt x="17575" y="15048"/>
                  <a:pt x="17636" y="15106"/>
                </a:cubicBezTo>
                <a:cubicBezTo>
                  <a:pt x="17723" y="15189"/>
                  <a:pt x="17810" y="15286"/>
                  <a:pt x="17909" y="15354"/>
                </a:cubicBezTo>
                <a:cubicBezTo>
                  <a:pt x="18054" y="15454"/>
                  <a:pt x="18218" y="15531"/>
                  <a:pt x="18380" y="15602"/>
                </a:cubicBezTo>
                <a:cubicBezTo>
                  <a:pt x="18749" y="15764"/>
                  <a:pt x="19156" y="15840"/>
                  <a:pt x="19546" y="15925"/>
                </a:cubicBezTo>
                <a:cubicBezTo>
                  <a:pt x="19824" y="15986"/>
                  <a:pt x="20083" y="16001"/>
                  <a:pt x="20365" y="16024"/>
                </a:cubicBezTo>
                <a:cubicBezTo>
                  <a:pt x="20610" y="16044"/>
                  <a:pt x="20889" y="16088"/>
                  <a:pt x="21134" y="16049"/>
                </a:cubicBezTo>
                <a:cubicBezTo>
                  <a:pt x="21406" y="16006"/>
                  <a:pt x="21671" y="15891"/>
                  <a:pt x="21903" y="15751"/>
                </a:cubicBezTo>
                <a:cubicBezTo>
                  <a:pt x="22058" y="15658"/>
                  <a:pt x="22222" y="15584"/>
                  <a:pt x="22324" y="15429"/>
                </a:cubicBezTo>
                <a:cubicBezTo>
                  <a:pt x="22392" y="15325"/>
                  <a:pt x="22443" y="15216"/>
                  <a:pt x="22498" y="15106"/>
                </a:cubicBezTo>
                <a:cubicBezTo>
                  <a:pt x="22524" y="15055"/>
                  <a:pt x="22530" y="15028"/>
                  <a:pt x="22547" y="14982"/>
                </a:cubicBezTo>
                <a:cubicBezTo>
                  <a:pt x="22525" y="15005"/>
                  <a:pt x="22517" y="15010"/>
                  <a:pt x="22523" y="15032"/>
                </a:cubicBezTo>
              </a:path>
              <a:path w="6525" h="3002">
                <a:moveTo>
                  <a:pt x="22969" y="17165"/>
                </a:moveTo>
                <a:cubicBezTo>
                  <a:pt x="23096" y="17194"/>
                  <a:pt x="23208" y="17258"/>
                  <a:pt x="23341" y="17264"/>
                </a:cubicBezTo>
                <a:cubicBezTo>
                  <a:pt x="23393" y="17264"/>
                  <a:pt x="23411" y="17263"/>
                  <a:pt x="23440" y="17239"/>
                </a:cubicBezTo>
              </a:path>
              <a:path w="6525" h="3002">
                <a:moveTo>
                  <a:pt x="23664" y="16793"/>
                </a:moveTo>
                <a:cubicBezTo>
                  <a:pt x="23738" y="16798"/>
                  <a:pt x="23853" y="16804"/>
                  <a:pt x="23912" y="16867"/>
                </a:cubicBezTo>
                <a:cubicBezTo>
                  <a:pt x="23954" y="16912"/>
                  <a:pt x="24000" y="16948"/>
                  <a:pt x="23986" y="17016"/>
                </a:cubicBezTo>
                <a:cubicBezTo>
                  <a:pt x="23975" y="17070"/>
                  <a:pt x="23848" y="17085"/>
                  <a:pt x="23812" y="17090"/>
                </a:cubicBezTo>
                <a:cubicBezTo>
                  <a:pt x="23756" y="17098"/>
                  <a:pt x="23696" y="17090"/>
                  <a:pt x="23639" y="17090"/>
                </a:cubicBezTo>
                <a:cubicBezTo>
                  <a:pt x="23675" y="17106"/>
                  <a:pt x="23728" y="17112"/>
                  <a:pt x="23763" y="17140"/>
                </a:cubicBezTo>
                <a:cubicBezTo>
                  <a:pt x="23837" y="17198"/>
                  <a:pt x="23917" y="17250"/>
                  <a:pt x="23961" y="17338"/>
                </a:cubicBezTo>
                <a:cubicBezTo>
                  <a:pt x="24002" y="17419"/>
                  <a:pt x="24003" y="17571"/>
                  <a:pt x="23986" y="17661"/>
                </a:cubicBezTo>
                <a:cubicBezTo>
                  <a:pt x="23968" y="17757"/>
                  <a:pt x="23891" y="17815"/>
                  <a:pt x="23812" y="17859"/>
                </a:cubicBezTo>
                <a:cubicBezTo>
                  <a:pt x="23748" y="17894"/>
                  <a:pt x="23685" y="17884"/>
                  <a:pt x="23614" y="17884"/>
                </a:cubicBezTo>
                <a:cubicBezTo>
                  <a:pt x="23494" y="17884"/>
                  <a:pt x="23448" y="17860"/>
                  <a:pt x="23341" y="17810"/>
                </a:cubicBezTo>
                <a:cubicBezTo>
                  <a:pt x="23204" y="17751"/>
                  <a:pt x="23175" y="17753"/>
                  <a:pt x="23118" y="176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29120" y="5688000"/>
            <a:ext cx="3135240" cy="723960"/>
          </a:xfrm>
          <a:custGeom>
            <a:avLst/>
            <a:gdLst/>
            <a:ahLst/>
            <a:rect l="l" t="t" r="r" b="b"/>
            <a:pathLst>
              <a:path w="8708" h="2010">
                <a:moveTo>
                  <a:pt x="13816" y="16024"/>
                </a:moveTo>
                <a:cubicBezTo>
                  <a:pt x="13789" y="16091"/>
                  <a:pt x="13743" y="16116"/>
                  <a:pt x="13717" y="16173"/>
                </a:cubicBezTo>
                <a:cubicBezTo>
                  <a:pt x="13708" y="16194"/>
                  <a:pt x="13676" y="16243"/>
                  <a:pt x="13692" y="16272"/>
                </a:cubicBezTo>
                <a:cubicBezTo>
                  <a:pt x="13717" y="16318"/>
                  <a:pt x="13799" y="16310"/>
                  <a:pt x="13841" y="16321"/>
                </a:cubicBezTo>
                <a:cubicBezTo>
                  <a:pt x="13946" y="16349"/>
                  <a:pt x="14033" y="16400"/>
                  <a:pt x="14139" y="16346"/>
                </a:cubicBezTo>
                <a:cubicBezTo>
                  <a:pt x="14176" y="16327"/>
                  <a:pt x="14196" y="16256"/>
                  <a:pt x="14213" y="16222"/>
                </a:cubicBezTo>
              </a:path>
              <a:path w="8708" h="2010">
                <a:moveTo>
                  <a:pt x="14114" y="15801"/>
                </a:moveTo>
                <a:cubicBezTo>
                  <a:pt x="14076" y="15976"/>
                  <a:pt x="14052" y="16146"/>
                  <a:pt x="14015" y="16321"/>
                </a:cubicBezTo>
                <a:cubicBezTo>
                  <a:pt x="13985" y="16464"/>
                  <a:pt x="13956" y="16623"/>
                  <a:pt x="13940" y="16768"/>
                </a:cubicBezTo>
                <a:cubicBezTo>
                  <a:pt x="13932" y="16839"/>
                  <a:pt x="13944" y="16975"/>
                  <a:pt x="13915" y="17041"/>
                </a:cubicBezTo>
                <a:cubicBezTo>
                  <a:pt x="13892" y="17093"/>
                  <a:pt x="13916" y="16994"/>
                  <a:pt x="13940" y="16942"/>
                </a:cubicBezTo>
              </a:path>
              <a:path w="8708" h="2010">
                <a:moveTo>
                  <a:pt x="14536" y="15949"/>
                </a:moveTo>
                <a:cubicBezTo>
                  <a:pt x="14576" y="16019"/>
                  <a:pt x="14560" y="16112"/>
                  <a:pt x="14560" y="16197"/>
                </a:cubicBezTo>
                <a:cubicBezTo>
                  <a:pt x="14560" y="16333"/>
                  <a:pt x="14540" y="16460"/>
                  <a:pt x="14536" y="16594"/>
                </a:cubicBezTo>
                <a:cubicBezTo>
                  <a:pt x="14532" y="16708"/>
                  <a:pt x="14526" y="16800"/>
                  <a:pt x="14511" y="16917"/>
                </a:cubicBezTo>
              </a:path>
              <a:path w="8708" h="2010">
                <a:moveTo>
                  <a:pt x="14362" y="16446"/>
                </a:moveTo>
                <a:cubicBezTo>
                  <a:pt x="14403" y="16391"/>
                  <a:pt x="14422" y="16379"/>
                  <a:pt x="14511" y="16396"/>
                </a:cubicBezTo>
                <a:cubicBezTo>
                  <a:pt x="14611" y="16415"/>
                  <a:pt x="14710" y="16446"/>
                  <a:pt x="14808" y="16470"/>
                </a:cubicBezTo>
              </a:path>
              <a:path w="8708" h="2010">
                <a:moveTo>
                  <a:pt x="14957" y="16446"/>
                </a:moveTo>
                <a:cubicBezTo>
                  <a:pt x="14864" y="16487"/>
                  <a:pt x="14810" y="16502"/>
                  <a:pt x="14759" y="16594"/>
                </a:cubicBezTo>
                <a:cubicBezTo>
                  <a:pt x="14715" y="16673"/>
                  <a:pt x="14696" y="16709"/>
                  <a:pt x="14734" y="16793"/>
                </a:cubicBezTo>
                <a:cubicBezTo>
                  <a:pt x="14742" y="16810"/>
                  <a:pt x="14805" y="16919"/>
                  <a:pt x="14833" y="16917"/>
                </a:cubicBezTo>
                <a:cubicBezTo>
                  <a:pt x="14917" y="16911"/>
                  <a:pt x="14917" y="16850"/>
                  <a:pt x="14957" y="16793"/>
                </a:cubicBezTo>
                <a:cubicBezTo>
                  <a:pt x="14981" y="16758"/>
                  <a:pt x="15002" y="16711"/>
                  <a:pt x="15007" y="16669"/>
                </a:cubicBezTo>
                <a:cubicBezTo>
                  <a:pt x="15007" y="16661"/>
                  <a:pt x="15007" y="16652"/>
                  <a:pt x="15007" y="16644"/>
                </a:cubicBezTo>
                <a:cubicBezTo>
                  <a:pt x="15007" y="16727"/>
                  <a:pt x="14988" y="16819"/>
                  <a:pt x="15032" y="16892"/>
                </a:cubicBezTo>
                <a:cubicBezTo>
                  <a:pt x="15056" y="16917"/>
                  <a:pt x="15064" y="16925"/>
                  <a:pt x="15081" y="16892"/>
                </a:cubicBezTo>
              </a:path>
              <a:path w="8708" h="2010">
                <a:moveTo>
                  <a:pt x="15205" y="16470"/>
                </a:moveTo>
                <a:cubicBezTo>
                  <a:pt x="15182" y="16576"/>
                  <a:pt x="15162" y="16685"/>
                  <a:pt x="15156" y="16793"/>
                </a:cubicBezTo>
                <a:cubicBezTo>
                  <a:pt x="15156" y="16834"/>
                  <a:pt x="15156" y="16842"/>
                  <a:pt x="15156" y="16867"/>
                </a:cubicBezTo>
                <a:cubicBezTo>
                  <a:pt x="15156" y="16931"/>
                  <a:pt x="15178" y="16780"/>
                  <a:pt x="15180" y="16768"/>
                </a:cubicBezTo>
                <a:cubicBezTo>
                  <a:pt x="15189" y="16700"/>
                  <a:pt x="15198" y="16598"/>
                  <a:pt x="15255" y="16545"/>
                </a:cubicBezTo>
                <a:cubicBezTo>
                  <a:pt x="15310" y="16494"/>
                  <a:pt x="15347" y="16489"/>
                  <a:pt x="15404" y="16520"/>
                </a:cubicBezTo>
                <a:cubicBezTo>
                  <a:pt x="15487" y="16565"/>
                  <a:pt x="15503" y="16654"/>
                  <a:pt x="15528" y="16743"/>
                </a:cubicBezTo>
                <a:cubicBezTo>
                  <a:pt x="15555" y="16837"/>
                  <a:pt x="15553" y="16920"/>
                  <a:pt x="15553" y="17016"/>
                </a:cubicBezTo>
                <a:cubicBezTo>
                  <a:pt x="15553" y="17058"/>
                  <a:pt x="15553" y="17083"/>
                  <a:pt x="15553" y="17041"/>
                </a:cubicBezTo>
              </a:path>
              <a:path w="8708" h="2010">
                <a:moveTo>
                  <a:pt x="15627" y="16098"/>
                </a:moveTo>
                <a:cubicBezTo>
                  <a:pt x="15614" y="16149"/>
                  <a:pt x="15577" y="16163"/>
                  <a:pt x="15577" y="16222"/>
                </a:cubicBezTo>
                <a:cubicBezTo>
                  <a:pt x="15577" y="16246"/>
                  <a:pt x="15603" y="16309"/>
                  <a:pt x="15627" y="16321"/>
                </a:cubicBezTo>
                <a:cubicBezTo>
                  <a:pt x="15687" y="16351"/>
                  <a:pt x="15780" y="16390"/>
                  <a:pt x="15850" y="16371"/>
                </a:cubicBezTo>
                <a:cubicBezTo>
                  <a:pt x="15894" y="16349"/>
                  <a:pt x="15906" y="16346"/>
                  <a:pt x="15925" y="16321"/>
                </a:cubicBezTo>
              </a:path>
              <a:path w="8708" h="2010">
                <a:moveTo>
                  <a:pt x="15949" y="15801"/>
                </a:moveTo>
                <a:cubicBezTo>
                  <a:pt x="15905" y="16003"/>
                  <a:pt x="15909" y="16079"/>
                  <a:pt x="15925" y="16272"/>
                </a:cubicBezTo>
                <a:cubicBezTo>
                  <a:pt x="15934" y="16374"/>
                  <a:pt x="15949" y="16467"/>
                  <a:pt x="15949" y="16570"/>
                </a:cubicBezTo>
                <a:cubicBezTo>
                  <a:pt x="15949" y="16611"/>
                  <a:pt x="15949" y="16619"/>
                  <a:pt x="15949" y="16644"/>
                </a:cubicBezTo>
              </a:path>
              <a:path w="8708" h="2010">
                <a:moveTo>
                  <a:pt x="16123" y="16520"/>
                </a:moveTo>
                <a:cubicBezTo>
                  <a:pt x="16193" y="16775"/>
                  <a:pt x="16246" y="16921"/>
                  <a:pt x="16371" y="17140"/>
                </a:cubicBezTo>
                <a:cubicBezTo>
                  <a:pt x="16418" y="17233"/>
                  <a:pt x="16431" y="17260"/>
                  <a:pt x="16470" y="17314"/>
                </a:cubicBezTo>
              </a:path>
              <a:path w="8708" h="2010">
                <a:moveTo>
                  <a:pt x="16570" y="16669"/>
                </a:moveTo>
                <a:cubicBezTo>
                  <a:pt x="16430" y="16793"/>
                  <a:pt x="16308" y="16943"/>
                  <a:pt x="16173" y="17066"/>
                </a:cubicBezTo>
                <a:cubicBezTo>
                  <a:pt x="16102" y="17112"/>
                  <a:pt x="16083" y="17128"/>
                  <a:pt x="16024" y="17115"/>
                </a:cubicBezTo>
              </a:path>
              <a:path w="8708" h="2010">
                <a:moveTo>
                  <a:pt x="16867" y="16892"/>
                </a:moveTo>
                <a:cubicBezTo>
                  <a:pt x="16941" y="16876"/>
                  <a:pt x="17050" y="16881"/>
                  <a:pt x="17115" y="16842"/>
                </a:cubicBezTo>
                <a:cubicBezTo>
                  <a:pt x="17153" y="16805"/>
                  <a:pt x="17172" y="16782"/>
                  <a:pt x="17190" y="16743"/>
                </a:cubicBezTo>
              </a:path>
              <a:path w="8708" h="2010">
                <a:moveTo>
                  <a:pt x="17214" y="16346"/>
                </a:moveTo>
                <a:cubicBezTo>
                  <a:pt x="17375" y="16283"/>
                  <a:pt x="17397" y="16285"/>
                  <a:pt x="17537" y="16396"/>
                </a:cubicBezTo>
                <a:cubicBezTo>
                  <a:pt x="17592" y="16439"/>
                  <a:pt x="17600" y="16488"/>
                  <a:pt x="17562" y="16545"/>
                </a:cubicBezTo>
                <a:cubicBezTo>
                  <a:pt x="17529" y="16594"/>
                  <a:pt x="17460" y="16600"/>
                  <a:pt x="17413" y="16619"/>
                </a:cubicBezTo>
                <a:cubicBezTo>
                  <a:pt x="17366" y="16638"/>
                  <a:pt x="17326" y="16666"/>
                  <a:pt x="17289" y="16694"/>
                </a:cubicBezTo>
                <a:cubicBezTo>
                  <a:pt x="17289" y="16736"/>
                  <a:pt x="17295" y="16753"/>
                  <a:pt x="17338" y="16768"/>
                </a:cubicBezTo>
                <a:cubicBezTo>
                  <a:pt x="17429" y="16799"/>
                  <a:pt x="17471" y="16826"/>
                  <a:pt x="17537" y="16892"/>
                </a:cubicBezTo>
                <a:cubicBezTo>
                  <a:pt x="17600" y="16955"/>
                  <a:pt x="17604" y="17049"/>
                  <a:pt x="17587" y="17140"/>
                </a:cubicBezTo>
                <a:cubicBezTo>
                  <a:pt x="17572" y="17221"/>
                  <a:pt x="17524" y="17334"/>
                  <a:pt x="17462" y="17388"/>
                </a:cubicBezTo>
                <a:cubicBezTo>
                  <a:pt x="17420" y="17425"/>
                  <a:pt x="17365" y="17413"/>
                  <a:pt x="17314" y="17413"/>
                </a:cubicBezTo>
                <a:cubicBezTo>
                  <a:pt x="17255" y="17413"/>
                  <a:pt x="17241" y="17311"/>
                  <a:pt x="17239" y="17264"/>
                </a:cubicBezTo>
                <a:cubicBezTo>
                  <a:pt x="17239" y="17239"/>
                  <a:pt x="17239" y="17215"/>
                  <a:pt x="17239" y="17190"/>
                </a:cubicBezTo>
              </a:path>
              <a:path w="8708" h="2010">
                <a:moveTo>
                  <a:pt x="17983" y="16570"/>
                </a:moveTo>
                <a:cubicBezTo>
                  <a:pt x="18028" y="16770"/>
                  <a:pt x="17992" y="16854"/>
                  <a:pt x="18008" y="17041"/>
                </a:cubicBezTo>
                <a:cubicBezTo>
                  <a:pt x="18009" y="17052"/>
                  <a:pt x="18067" y="17304"/>
                  <a:pt x="18033" y="17338"/>
                </a:cubicBezTo>
                <a:cubicBezTo>
                  <a:pt x="18025" y="17338"/>
                  <a:pt x="18016" y="17338"/>
                  <a:pt x="18008" y="17338"/>
                </a:cubicBezTo>
              </a:path>
              <a:path w="8708" h="2010">
                <a:moveTo>
                  <a:pt x="17835" y="16842"/>
                </a:moveTo>
                <a:cubicBezTo>
                  <a:pt x="17899" y="16804"/>
                  <a:pt x="17964" y="16829"/>
                  <a:pt x="18033" y="16867"/>
                </a:cubicBezTo>
                <a:cubicBezTo>
                  <a:pt x="18146" y="16928"/>
                  <a:pt x="18231" y="16944"/>
                  <a:pt x="18355" y="16966"/>
                </a:cubicBezTo>
                <a:cubicBezTo>
                  <a:pt x="18363" y="16966"/>
                  <a:pt x="18372" y="16966"/>
                  <a:pt x="18380" y="16966"/>
                </a:cubicBezTo>
                <a:cubicBezTo>
                  <a:pt x="18318" y="16982"/>
                  <a:pt x="18297" y="17019"/>
                  <a:pt x="18256" y="17066"/>
                </a:cubicBezTo>
                <a:cubicBezTo>
                  <a:pt x="18202" y="17128"/>
                  <a:pt x="18178" y="17168"/>
                  <a:pt x="18207" y="17239"/>
                </a:cubicBezTo>
                <a:cubicBezTo>
                  <a:pt x="18226" y="17287"/>
                  <a:pt x="18254" y="17332"/>
                  <a:pt x="18306" y="17338"/>
                </a:cubicBezTo>
                <a:cubicBezTo>
                  <a:pt x="18375" y="17345"/>
                  <a:pt x="18403" y="17289"/>
                  <a:pt x="18430" y="17239"/>
                </a:cubicBezTo>
                <a:cubicBezTo>
                  <a:pt x="18458" y="17187"/>
                  <a:pt x="18479" y="17149"/>
                  <a:pt x="18479" y="17090"/>
                </a:cubicBezTo>
                <a:cubicBezTo>
                  <a:pt x="18444" y="17151"/>
                  <a:pt x="18449" y="17196"/>
                  <a:pt x="18479" y="17264"/>
                </a:cubicBezTo>
                <a:cubicBezTo>
                  <a:pt x="18502" y="17316"/>
                  <a:pt x="18506" y="17327"/>
                  <a:pt x="18554" y="17338"/>
                </a:cubicBezTo>
              </a:path>
              <a:path w="8708" h="2010">
                <a:moveTo>
                  <a:pt x="18628" y="16991"/>
                </a:moveTo>
                <a:cubicBezTo>
                  <a:pt x="18628" y="17055"/>
                  <a:pt x="18591" y="17097"/>
                  <a:pt x="18604" y="17165"/>
                </a:cubicBezTo>
                <a:cubicBezTo>
                  <a:pt x="18613" y="17212"/>
                  <a:pt x="18628" y="17238"/>
                  <a:pt x="18628" y="17289"/>
                </a:cubicBezTo>
                <a:cubicBezTo>
                  <a:pt x="18652" y="17281"/>
                  <a:pt x="18673" y="17229"/>
                  <a:pt x="18678" y="17190"/>
                </a:cubicBezTo>
                <a:cubicBezTo>
                  <a:pt x="18689" y="17108"/>
                  <a:pt x="18678" y="17022"/>
                  <a:pt x="18703" y="16942"/>
                </a:cubicBezTo>
                <a:cubicBezTo>
                  <a:pt x="18720" y="16890"/>
                  <a:pt x="18734" y="16878"/>
                  <a:pt x="18777" y="16867"/>
                </a:cubicBezTo>
                <a:cubicBezTo>
                  <a:pt x="18842" y="16932"/>
                  <a:pt x="18832" y="16954"/>
                  <a:pt x="18852" y="17041"/>
                </a:cubicBezTo>
                <a:cubicBezTo>
                  <a:pt x="18876" y="17149"/>
                  <a:pt x="18911" y="17255"/>
                  <a:pt x="18926" y="17363"/>
                </a:cubicBezTo>
                <a:cubicBezTo>
                  <a:pt x="18926" y="17405"/>
                  <a:pt x="18926" y="17430"/>
                  <a:pt x="18926" y="17388"/>
                </a:cubicBezTo>
              </a:path>
              <a:path w="8708" h="2010">
                <a:moveTo>
                  <a:pt x="18926" y="16396"/>
                </a:moveTo>
                <a:cubicBezTo>
                  <a:pt x="19045" y="16405"/>
                  <a:pt x="19086" y="16414"/>
                  <a:pt x="19174" y="16495"/>
                </a:cubicBezTo>
                <a:cubicBezTo>
                  <a:pt x="19223" y="16540"/>
                  <a:pt x="19187" y="16557"/>
                  <a:pt x="19149" y="16594"/>
                </a:cubicBezTo>
                <a:cubicBezTo>
                  <a:pt x="19090" y="16652"/>
                  <a:pt x="19085" y="16704"/>
                  <a:pt x="19100" y="16793"/>
                </a:cubicBezTo>
                <a:cubicBezTo>
                  <a:pt x="19112" y="16864"/>
                  <a:pt x="19190" y="16971"/>
                  <a:pt x="19248" y="17016"/>
                </a:cubicBezTo>
                <a:cubicBezTo>
                  <a:pt x="19265" y="17024"/>
                  <a:pt x="19281" y="17033"/>
                  <a:pt x="19298" y="17041"/>
                </a:cubicBezTo>
              </a:path>
              <a:path w="8708" h="2010">
                <a:moveTo>
                  <a:pt x="19372" y="16917"/>
                </a:moveTo>
                <a:cubicBezTo>
                  <a:pt x="19381" y="17040"/>
                  <a:pt x="19405" y="17107"/>
                  <a:pt x="19472" y="17214"/>
                </a:cubicBezTo>
                <a:cubicBezTo>
                  <a:pt x="19541" y="17325"/>
                  <a:pt x="19562" y="17383"/>
                  <a:pt x="19670" y="17462"/>
                </a:cubicBezTo>
              </a:path>
              <a:path w="8708" h="2010">
                <a:moveTo>
                  <a:pt x="19794" y="16991"/>
                </a:moveTo>
                <a:cubicBezTo>
                  <a:pt x="19687" y="17063"/>
                  <a:pt x="19578" y="17114"/>
                  <a:pt x="19472" y="17190"/>
                </a:cubicBezTo>
                <a:cubicBezTo>
                  <a:pt x="19385" y="17252"/>
                  <a:pt x="19307" y="17324"/>
                  <a:pt x="19224" y="17388"/>
                </a:cubicBezTo>
                <a:cubicBezTo>
                  <a:pt x="19216" y="17396"/>
                  <a:pt x="19207" y="17405"/>
                  <a:pt x="19199" y="17413"/>
                </a:cubicBezTo>
              </a:path>
              <a:path w="8708" h="2010">
                <a:moveTo>
                  <a:pt x="19918" y="16793"/>
                </a:moveTo>
                <a:cubicBezTo>
                  <a:pt x="19929" y="16888"/>
                  <a:pt x="19927" y="16995"/>
                  <a:pt x="19943" y="17090"/>
                </a:cubicBezTo>
                <a:cubicBezTo>
                  <a:pt x="19975" y="17187"/>
                  <a:pt x="19984" y="17235"/>
                  <a:pt x="19968" y="17314"/>
                </a:cubicBezTo>
              </a:path>
              <a:path w="8708" h="2010">
                <a:moveTo>
                  <a:pt x="19769" y="16991"/>
                </a:moveTo>
                <a:cubicBezTo>
                  <a:pt x="19870" y="17015"/>
                  <a:pt x="19965" y="17055"/>
                  <a:pt x="20067" y="17066"/>
                </a:cubicBezTo>
              </a:path>
              <a:path w="8708" h="2010">
                <a:moveTo>
                  <a:pt x="20315" y="16818"/>
                </a:moveTo>
                <a:cubicBezTo>
                  <a:pt x="20292" y="16840"/>
                  <a:pt x="20287" y="16848"/>
                  <a:pt x="20265" y="16842"/>
                </a:cubicBezTo>
                <a:cubicBezTo>
                  <a:pt x="20265" y="16897"/>
                  <a:pt x="20257" y="16942"/>
                  <a:pt x="20290" y="16991"/>
                </a:cubicBezTo>
                <a:cubicBezTo>
                  <a:pt x="20325" y="17043"/>
                  <a:pt x="20386" y="17064"/>
                  <a:pt x="20439" y="17090"/>
                </a:cubicBezTo>
                <a:cubicBezTo>
                  <a:pt x="20502" y="17121"/>
                  <a:pt x="20509" y="17123"/>
                  <a:pt x="20563" y="17090"/>
                </a:cubicBezTo>
              </a:path>
              <a:path w="8708" h="2010">
                <a:moveTo>
                  <a:pt x="20563" y="16470"/>
                </a:moveTo>
                <a:cubicBezTo>
                  <a:pt x="20508" y="16686"/>
                  <a:pt x="20469" y="16868"/>
                  <a:pt x="20464" y="17090"/>
                </a:cubicBezTo>
                <a:cubicBezTo>
                  <a:pt x="20462" y="17194"/>
                  <a:pt x="20464" y="17620"/>
                  <a:pt x="20464" y="17562"/>
                </a:cubicBezTo>
              </a:path>
              <a:path w="8708" h="2010">
                <a:moveTo>
                  <a:pt x="20910" y="16818"/>
                </a:moveTo>
                <a:cubicBezTo>
                  <a:pt x="20937" y="17013"/>
                  <a:pt x="20902" y="17170"/>
                  <a:pt x="20910" y="17363"/>
                </a:cubicBezTo>
                <a:cubicBezTo>
                  <a:pt x="20914" y="17446"/>
                  <a:pt x="20910" y="17485"/>
                  <a:pt x="20910" y="17562"/>
                </a:cubicBezTo>
              </a:path>
              <a:path w="8708" h="2010">
                <a:moveTo>
                  <a:pt x="20786" y="17115"/>
                </a:moveTo>
                <a:cubicBezTo>
                  <a:pt x="20864" y="17084"/>
                  <a:pt x="20886" y="17129"/>
                  <a:pt x="20960" y="17165"/>
                </a:cubicBezTo>
                <a:cubicBezTo>
                  <a:pt x="21026" y="17197"/>
                  <a:pt x="21086" y="17214"/>
                  <a:pt x="21158" y="17214"/>
                </a:cubicBezTo>
                <a:cubicBezTo>
                  <a:pt x="21166" y="17214"/>
                  <a:pt x="21175" y="17214"/>
                  <a:pt x="21183" y="17214"/>
                </a:cubicBezTo>
                <a:cubicBezTo>
                  <a:pt x="21156" y="17221"/>
                  <a:pt x="21094" y="17254"/>
                  <a:pt x="21084" y="17289"/>
                </a:cubicBezTo>
                <a:cubicBezTo>
                  <a:pt x="21062" y="17365"/>
                  <a:pt x="21055" y="17466"/>
                  <a:pt x="21109" y="17537"/>
                </a:cubicBezTo>
                <a:cubicBezTo>
                  <a:pt x="21128" y="17562"/>
                  <a:pt x="21197" y="17522"/>
                  <a:pt x="21208" y="17512"/>
                </a:cubicBezTo>
                <a:cubicBezTo>
                  <a:pt x="21258" y="17465"/>
                  <a:pt x="21300" y="17407"/>
                  <a:pt x="21307" y="17338"/>
                </a:cubicBezTo>
                <a:cubicBezTo>
                  <a:pt x="21307" y="17330"/>
                  <a:pt x="21307" y="17322"/>
                  <a:pt x="21307" y="17314"/>
                </a:cubicBezTo>
                <a:cubicBezTo>
                  <a:pt x="21263" y="17385"/>
                  <a:pt x="21281" y="17463"/>
                  <a:pt x="21332" y="17537"/>
                </a:cubicBezTo>
                <a:cubicBezTo>
                  <a:pt x="21355" y="17560"/>
                  <a:pt x="21359" y="17568"/>
                  <a:pt x="21382" y="17562"/>
                </a:cubicBezTo>
              </a:path>
              <a:path w="8708" h="2010">
                <a:moveTo>
                  <a:pt x="21481" y="17239"/>
                </a:moveTo>
                <a:cubicBezTo>
                  <a:pt x="21469" y="17286"/>
                  <a:pt x="21428" y="17363"/>
                  <a:pt x="21431" y="17413"/>
                </a:cubicBezTo>
                <a:cubicBezTo>
                  <a:pt x="21435" y="17482"/>
                  <a:pt x="21456" y="17524"/>
                  <a:pt x="21456" y="17587"/>
                </a:cubicBezTo>
                <a:cubicBezTo>
                  <a:pt x="21475" y="17581"/>
                  <a:pt x="21500" y="17542"/>
                  <a:pt x="21506" y="17512"/>
                </a:cubicBezTo>
                <a:cubicBezTo>
                  <a:pt x="21525" y="17421"/>
                  <a:pt x="21522" y="17328"/>
                  <a:pt x="21555" y="17239"/>
                </a:cubicBezTo>
                <a:cubicBezTo>
                  <a:pt x="21574" y="17188"/>
                  <a:pt x="21585" y="17176"/>
                  <a:pt x="21630" y="17165"/>
                </a:cubicBezTo>
                <a:cubicBezTo>
                  <a:pt x="21683" y="17232"/>
                  <a:pt x="21701" y="17277"/>
                  <a:pt x="21704" y="17363"/>
                </a:cubicBezTo>
                <a:cubicBezTo>
                  <a:pt x="21707" y="17437"/>
                  <a:pt x="21704" y="17699"/>
                  <a:pt x="21704" y="17686"/>
                </a:cubicBezTo>
              </a:path>
              <a:path w="8708" h="2010">
                <a:moveTo>
                  <a:pt x="21779" y="16669"/>
                </a:moveTo>
                <a:cubicBezTo>
                  <a:pt x="21894" y="16599"/>
                  <a:pt x="21909" y="16618"/>
                  <a:pt x="22002" y="16718"/>
                </a:cubicBezTo>
                <a:cubicBezTo>
                  <a:pt x="22027" y="16743"/>
                  <a:pt x="22035" y="16751"/>
                  <a:pt x="22051" y="16768"/>
                </a:cubicBezTo>
                <a:cubicBezTo>
                  <a:pt x="22022" y="16797"/>
                  <a:pt x="21989" y="16830"/>
                  <a:pt x="21952" y="16842"/>
                </a:cubicBezTo>
                <a:cubicBezTo>
                  <a:pt x="21893" y="16861"/>
                  <a:pt x="21903" y="16878"/>
                  <a:pt x="21903" y="16942"/>
                </a:cubicBezTo>
                <a:cubicBezTo>
                  <a:pt x="21903" y="17021"/>
                  <a:pt x="21939" y="17121"/>
                  <a:pt x="21977" y="17190"/>
                </a:cubicBezTo>
                <a:cubicBezTo>
                  <a:pt x="22017" y="17249"/>
                  <a:pt x="22021" y="17260"/>
                  <a:pt x="22051" y="17289"/>
                </a:cubicBezTo>
              </a:path>
              <a:path w="8708" h="2010">
                <a:moveTo>
                  <a:pt x="22101" y="17115"/>
                </a:moveTo>
                <a:cubicBezTo>
                  <a:pt x="22110" y="17290"/>
                  <a:pt x="22154" y="17422"/>
                  <a:pt x="22200" y="17587"/>
                </a:cubicBezTo>
                <a:cubicBezTo>
                  <a:pt x="22225" y="17675"/>
                  <a:pt x="22256" y="17731"/>
                  <a:pt x="22299" y="17810"/>
                </a:cubicBezTo>
              </a:path>
              <a:path w="8708" h="2010">
                <a:moveTo>
                  <a:pt x="22399" y="17338"/>
                </a:moveTo>
                <a:cubicBezTo>
                  <a:pt x="22158" y="17410"/>
                  <a:pt x="21961" y="17455"/>
                  <a:pt x="21754" y="17587"/>
                </a:cubicBezTo>
                <a:cubicBezTo>
                  <a:pt x="21729" y="17603"/>
                  <a:pt x="21704" y="17620"/>
                  <a:pt x="21679" y="176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99040" y="6303960"/>
            <a:ext cx="2465280" cy="546120"/>
          </a:xfrm>
          <a:custGeom>
            <a:avLst/>
            <a:gdLst/>
            <a:ahLst/>
            <a:rect l="l" t="t" r="r" b="b"/>
            <a:pathLst>
              <a:path w="6848" h="1514">
                <a:moveTo>
                  <a:pt x="14387" y="17611"/>
                </a:moveTo>
                <a:cubicBezTo>
                  <a:pt x="14337" y="17710"/>
                  <a:pt x="14298" y="17760"/>
                  <a:pt x="14238" y="17835"/>
                </a:cubicBezTo>
                <a:cubicBezTo>
                  <a:pt x="14224" y="17852"/>
                  <a:pt x="14164" y="17931"/>
                  <a:pt x="14163" y="17934"/>
                </a:cubicBezTo>
                <a:cubicBezTo>
                  <a:pt x="14163" y="17942"/>
                  <a:pt x="14163" y="17951"/>
                  <a:pt x="14163" y="17959"/>
                </a:cubicBezTo>
                <a:cubicBezTo>
                  <a:pt x="14195" y="17990"/>
                  <a:pt x="14206" y="18036"/>
                  <a:pt x="14238" y="18058"/>
                </a:cubicBezTo>
                <a:cubicBezTo>
                  <a:pt x="14296" y="18098"/>
                  <a:pt x="14368" y="18128"/>
                  <a:pt x="14436" y="18132"/>
                </a:cubicBezTo>
                <a:cubicBezTo>
                  <a:pt x="14488" y="18132"/>
                  <a:pt x="14506" y="18131"/>
                  <a:pt x="14536" y="18107"/>
                </a:cubicBezTo>
              </a:path>
              <a:path w="6848" h="1514">
                <a:moveTo>
                  <a:pt x="14734" y="17512"/>
                </a:moveTo>
                <a:cubicBezTo>
                  <a:pt x="14666" y="17648"/>
                  <a:pt x="14600" y="17787"/>
                  <a:pt x="14560" y="17934"/>
                </a:cubicBezTo>
                <a:cubicBezTo>
                  <a:pt x="14514" y="18104"/>
                  <a:pt x="14452" y="18278"/>
                  <a:pt x="14436" y="18455"/>
                </a:cubicBezTo>
                <a:cubicBezTo>
                  <a:pt x="14425" y="18578"/>
                  <a:pt x="14442" y="18733"/>
                  <a:pt x="14412" y="18852"/>
                </a:cubicBezTo>
                <a:cubicBezTo>
                  <a:pt x="14384" y="18964"/>
                  <a:pt x="14401" y="18903"/>
                  <a:pt x="14461" y="18852"/>
                </a:cubicBezTo>
              </a:path>
              <a:path w="6848" h="1514">
                <a:moveTo>
                  <a:pt x="15032" y="17934"/>
                </a:moveTo>
                <a:cubicBezTo>
                  <a:pt x="15140" y="17834"/>
                  <a:pt x="15091" y="17835"/>
                  <a:pt x="15180" y="17835"/>
                </a:cubicBezTo>
                <a:cubicBezTo>
                  <a:pt x="15159" y="18029"/>
                  <a:pt x="15065" y="18213"/>
                  <a:pt x="15032" y="18405"/>
                </a:cubicBezTo>
                <a:cubicBezTo>
                  <a:pt x="15011" y="18527"/>
                  <a:pt x="15004" y="18655"/>
                  <a:pt x="14982" y="18777"/>
                </a:cubicBezTo>
                <a:cubicBezTo>
                  <a:pt x="14982" y="18785"/>
                  <a:pt x="14982" y="18794"/>
                  <a:pt x="14982" y="18802"/>
                </a:cubicBezTo>
              </a:path>
              <a:path w="6848" h="1514">
                <a:moveTo>
                  <a:pt x="14833" y="18306"/>
                </a:moveTo>
                <a:cubicBezTo>
                  <a:pt x="14863" y="18260"/>
                  <a:pt x="14971" y="18306"/>
                  <a:pt x="15032" y="18331"/>
                </a:cubicBezTo>
                <a:cubicBezTo>
                  <a:pt x="15148" y="18378"/>
                  <a:pt x="15230" y="18420"/>
                  <a:pt x="15354" y="18430"/>
                </a:cubicBezTo>
              </a:path>
              <a:path w="6848" h="1514">
                <a:moveTo>
                  <a:pt x="15429" y="18355"/>
                </a:moveTo>
                <a:cubicBezTo>
                  <a:pt x="15219" y="18464"/>
                  <a:pt x="15205" y="18414"/>
                  <a:pt x="15205" y="18604"/>
                </a:cubicBezTo>
                <a:cubicBezTo>
                  <a:pt x="15205" y="18685"/>
                  <a:pt x="15224" y="18769"/>
                  <a:pt x="15304" y="18802"/>
                </a:cubicBezTo>
                <a:cubicBezTo>
                  <a:pt x="15360" y="18825"/>
                  <a:pt x="15394" y="18787"/>
                  <a:pt x="15429" y="18752"/>
                </a:cubicBezTo>
                <a:cubicBezTo>
                  <a:pt x="15472" y="18709"/>
                  <a:pt x="15492" y="18652"/>
                  <a:pt x="15528" y="18604"/>
                </a:cubicBezTo>
                <a:cubicBezTo>
                  <a:pt x="15536" y="18596"/>
                  <a:pt x="15545" y="18587"/>
                  <a:pt x="15553" y="18579"/>
                </a:cubicBezTo>
                <a:cubicBezTo>
                  <a:pt x="15537" y="18657"/>
                  <a:pt x="15507" y="18718"/>
                  <a:pt x="15503" y="18802"/>
                </a:cubicBezTo>
                <a:cubicBezTo>
                  <a:pt x="15500" y="18858"/>
                  <a:pt x="15494" y="18879"/>
                  <a:pt x="15528" y="18901"/>
                </a:cubicBezTo>
              </a:path>
              <a:path w="6848" h="1514">
                <a:moveTo>
                  <a:pt x="15701" y="18554"/>
                </a:moveTo>
                <a:cubicBezTo>
                  <a:pt x="15662" y="18712"/>
                  <a:pt x="15636" y="18865"/>
                  <a:pt x="15602" y="19025"/>
                </a:cubicBezTo>
                <a:cubicBezTo>
                  <a:pt x="15648" y="18916"/>
                  <a:pt x="15725" y="18833"/>
                  <a:pt x="15776" y="18728"/>
                </a:cubicBezTo>
                <a:cubicBezTo>
                  <a:pt x="15816" y="18645"/>
                  <a:pt x="15843" y="18560"/>
                  <a:pt x="15925" y="18504"/>
                </a:cubicBezTo>
                <a:cubicBezTo>
                  <a:pt x="15966" y="18476"/>
                  <a:pt x="15981" y="18479"/>
                  <a:pt x="16024" y="18479"/>
                </a:cubicBezTo>
                <a:cubicBezTo>
                  <a:pt x="16040" y="18559"/>
                  <a:pt x="16065" y="18643"/>
                  <a:pt x="16073" y="18728"/>
                </a:cubicBezTo>
                <a:cubicBezTo>
                  <a:pt x="16081" y="18807"/>
                  <a:pt x="16029" y="19066"/>
                  <a:pt x="16098" y="18976"/>
                </a:cubicBezTo>
              </a:path>
              <a:path w="6848" h="1514">
                <a:moveTo>
                  <a:pt x="16272" y="18157"/>
                </a:moveTo>
                <a:cubicBezTo>
                  <a:pt x="16234" y="18207"/>
                  <a:pt x="16244" y="18221"/>
                  <a:pt x="16272" y="18281"/>
                </a:cubicBezTo>
                <a:cubicBezTo>
                  <a:pt x="16300" y="18341"/>
                  <a:pt x="16326" y="18407"/>
                  <a:pt x="16371" y="18455"/>
                </a:cubicBezTo>
                <a:cubicBezTo>
                  <a:pt x="16444" y="18532"/>
                  <a:pt x="16482" y="18555"/>
                  <a:pt x="16545" y="18479"/>
                </a:cubicBezTo>
              </a:path>
              <a:path w="6848" h="1514">
                <a:moveTo>
                  <a:pt x="16669" y="17810"/>
                </a:moveTo>
                <a:cubicBezTo>
                  <a:pt x="16617" y="18037"/>
                  <a:pt x="16579" y="18252"/>
                  <a:pt x="16545" y="18479"/>
                </a:cubicBezTo>
                <a:cubicBezTo>
                  <a:pt x="16531" y="18570"/>
                  <a:pt x="16503" y="18661"/>
                  <a:pt x="16495" y="18752"/>
                </a:cubicBezTo>
                <a:cubicBezTo>
                  <a:pt x="16495" y="18760"/>
                  <a:pt x="16495" y="18769"/>
                  <a:pt x="16495" y="18777"/>
                </a:cubicBezTo>
              </a:path>
              <a:path w="6848" h="1514">
                <a:moveTo>
                  <a:pt x="17190" y="18207"/>
                </a:moveTo>
                <a:cubicBezTo>
                  <a:pt x="17170" y="18355"/>
                  <a:pt x="17144" y="18504"/>
                  <a:pt x="17140" y="18653"/>
                </a:cubicBezTo>
                <a:cubicBezTo>
                  <a:pt x="17139" y="18698"/>
                  <a:pt x="17163" y="18901"/>
                  <a:pt x="17090" y="18926"/>
                </a:cubicBezTo>
                <a:cubicBezTo>
                  <a:pt x="17082" y="18918"/>
                  <a:pt x="17074" y="18909"/>
                  <a:pt x="17066" y="18901"/>
                </a:cubicBezTo>
              </a:path>
              <a:path w="6848" h="1514">
                <a:moveTo>
                  <a:pt x="16942" y="18579"/>
                </a:moveTo>
                <a:cubicBezTo>
                  <a:pt x="17072" y="18588"/>
                  <a:pt x="17122" y="18626"/>
                  <a:pt x="17239" y="18678"/>
                </a:cubicBezTo>
                <a:cubicBezTo>
                  <a:pt x="17338" y="18711"/>
                  <a:pt x="17388" y="18711"/>
                  <a:pt x="17462" y="18653"/>
                </a:cubicBezTo>
              </a:path>
              <a:path w="6848" h="1514">
                <a:moveTo>
                  <a:pt x="17810" y="18281"/>
                </a:moveTo>
                <a:cubicBezTo>
                  <a:pt x="17780" y="18490"/>
                  <a:pt x="17770" y="18756"/>
                  <a:pt x="17711" y="18951"/>
                </a:cubicBezTo>
                <a:cubicBezTo>
                  <a:pt x="17685" y="19037"/>
                  <a:pt x="17668" y="19025"/>
                  <a:pt x="17611" y="19025"/>
                </a:cubicBezTo>
              </a:path>
              <a:path w="6848" h="1514">
                <a:moveTo>
                  <a:pt x="17512" y="18678"/>
                </a:moveTo>
                <a:cubicBezTo>
                  <a:pt x="17512" y="18661"/>
                  <a:pt x="17512" y="18645"/>
                  <a:pt x="17512" y="18628"/>
                </a:cubicBezTo>
                <a:cubicBezTo>
                  <a:pt x="17610" y="18628"/>
                  <a:pt x="17620" y="18639"/>
                  <a:pt x="17711" y="18678"/>
                </a:cubicBezTo>
                <a:cubicBezTo>
                  <a:pt x="17809" y="18720"/>
                  <a:pt x="17945" y="18851"/>
                  <a:pt x="18058" y="18827"/>
                </a:cubicBezTo>
                <a:cubicBezTo>
                  <a:pt x="18060" y="18827"/>
                  <a:pt x="18208" y="18802"/>
                  <a:pt x="18132" y="18802"/>
                </a:cubicBezTo>
                <a:cubicBezTo>
                  <a:pt x="18080" y="18834"/>
                  <a:pt x="18020" y="18833"/>
                  <a:pt x="17983" y="18901"/>
                </a:cubicBezTo>
                <a:cubicBezTo>
                  <a:pt x="17962" y="18967"/>
                  <a:pt x="17954" y="18982"/>
                  <a:pt x="17959" y="19025"/>
                </a:cubicBezTo>
                <a:cubicBezTo>
                  <a:pt x="18035" y="19025"/>
                  <a:pt x="18121" y="19040"/>
                  <a:pt x="18182" y="19000"/>
                </a:cubicBezTo>
                <a:cubicBezTo>
                  <a:pt x="18190" y="18992"/>
                  <a:pt x="18199" y="18984"/>
                  <a:pt x="18207" y="18976"/>
                </a:cubicBezTo>
                <a:cubicBezTo>
                  <a:pt x="18251" y="18998"/>
                  <a:pt x="18247" y="19025"/>
                  <a:pt x="18306" y="19025"/>
                </a:cubicBezTo>
                <a:cubicBezTo>
                  <a:pt x="18314" y="19025"/>
                  <a:pt x="18323" y="19025"/>
                  <a:pt x="18331" y="19025"/>
                </a:cubicBezTo>
              </a:path>
              <a:path w="6848" h="1514">
                <a:moveTo>
                  <a:pt x="18455" y="18802"/>
                </a:moveTo>
                <a:cubicBezTo>
                  <a:pt x="18464" y="18811"/>
                  <a:pt x="18473" y="18947"/>
                  <a:pt x="18455" y="19000"/>
                </a:cubicBezTo>
                <a:cubicBezTo>
                  <a:pt x="18447" y="19008"/>
                  <a:pt x="18438" y="19017"/>
                  <a:pt x="18430" y="19025"/>
                </a:cubicBezTo>
                <a:cubicBezTo>
                  <a:pt x="18522" y="18943"/>
                  <a:pt x="18509" y="18872"/>
                  <a:pt x="18579" y="18777"/>
                </a:cubicBezTo>
                <a:cubicBezTo>
                  <a:pt x="18611" y="18734"/>
                  <a:pt x="18666" y="18677"/>
                  <a:pt x="18728" y="18703"/>
                </a:cubicBezTo>
                <a:cubicBezTo>
                  <a:pt x="18797" y="18732"/>
                  <a:pt x="18786" y="18871"/>
                  <a:pt x="18777" y="18926"/>
                </a:cubicBezTo>
                <a:cubicBezTo>
                  <a:pt x="18759" y="19039"/>
                  <a:pt x="18774" y="19025"/>
                  <a:pt x="18703" y="19025"/>
                </a:cubicBezTo>
              </a:path>
              <a:path w="6848" h="1514">
                <a:moveTo>
                  <a:pt x="18976" y="18157"/>
                </a:moveTo>
                <a:cubicBezTo>
                  <a:pt x="19144" y="18197"/>
                  <a:pt x="19131" y="18200"/>
                  <a:pt x="19224" y="18331"/>
                </a:cubicBezTo>
                <a:cubicBezTo>
                  <a:pt x="19232" y="18339"/>
                  <a:pt x="19240" y="18347"/>
                  <a:pt x="19248" y="18355"/>
                </a:cubicBezTo>
                <a:cubicBezTo>
                  <a:pt x="19199" y="18395"/>
                  <a:pt x="19151" y="18396"/>
                  <a:pt x="19100" y="18430"/>
                </a:cubicBezTo>
                <a:cubicBezTo>
                  <a:pt x="19047" y="18466"/>
                  <a:pt x="19028" y="18546"/>
                  <a:pt x="19025" y="18604"/>
                </a:cubicBezTo>
                <a:cubicBezTo>
                  <a:pt x="19021" y="18692"/>
                  <a:pt x="19066" y="18835"/>
                  <a:pt x="19124" y="18901"/>
                </a:cubicBezTo>
                <a:cubicBezTo>
                  <a:pt x="19141" y="18909"/>
                  <a:pt x="19157" y="18918"/>
                  <a:pt x="19174" y="18926"/>
                </a:cubicBezTo>
              </a:path>
              <a:path w="6848" h="1514">
                <a:moveTo>
                  <a:pt x="19397" y="18752"/>
                </a:moveTo>
                <a:cubicBezTo>
                  <a:pt x="19400" y="18827"/>
                  <a:pt x="19388" y="19025"/>
                  <a:pt x="19422" y="19025"/>
                </a:cubicBezTo>
                <a:cubicBezTo>
                  <a:pt x="19447" y="19025"/>
                  <a:pt x="19455" y="19025"/>
                  <a:pt x="19472" y="19025"/>
                </a:cubicBezTo>
              </a:path>
              <a:path w="6848" h="1514">
                <a:moveTo>
                  <a:pt x="19670" y="18827"/>
                </a:moveTo>
                <a:cubicBezTo>
                  <a:pt x="19423" y="18932"/>
                  <a:pt x="19263" y="19020"/>
                  <a:pt x="19000" y="19025"/>
                </a:cubicBezTo>
                <a:cubicBezTo>
                  <a:pt x="18860" y="19025"/>
                  <a:pt x="18819" y="19025"/>
                  <a:pt x="18728" y="19025"/>
                </a:cubicBezTo>
              </a:path>
              <a:path w="6848" h="1514">
                <a:moveTo>
                  <a:pt x="19968" y="18479"/>
                </a:moveTo>
                <a:cubicBezTo>
                  <a:pt x="20052" y="18500"/>
                  <a:pt x="20152" y="18521"/>
                  <a:pt x="20241" y="18504"/>
                </a:cubicBezTo>
                <a:cubicBezTo>
                  <a:pt x="20308" y="18481"/>
                  <a:pt x="20326" y="18476"/>
                  <a:pt x="20365" y="18455"/>
                </a:cubicBezTo>
              </a:path>
              <a:path w="6848" h="1514">
                <a:moveTo>
                  <a:pt x="20687" y="18008"/>
                </a:moveTo>
                <a:cubicBezTo>
                  <a:pt x="20850" y="18122"/>
                  <a:pt x="20871" y="18147"/>
                  <a:pt x="20960" y="18306"/>
                </a:cubicBezTo>
                <a:cubicBezTo>
                  <a:pt x="20994" y="18367"/>
                  <a:pt x="21064" y="18466"/>
                  <a:pt x="20935" y="18479"/>
                </a:cubicBezTo>
                <a:cubicBezTo>
                  <a:pt x="20857" y="18487"/>
                  <a:pt x="20790" y="18455"/>
                  <a:pt x="20712" y="18455"/>
                </a:cubicBezTo>
                <a:cubicBezTo>
                  <a:pt x="20687" y="18455"/>
                  <a:pt x="20679" y="18455"/>
                  <a:pt x="20662" y="18455"/>
                </a:cubicBezTo>
                <a:cubicBezTo>
                  <a:pt x="20673" y="18487"/>
                  <a:pt x="20726" y="18517"/>
                  <a:pt x="20762" y="18554"/>
                </a:cubicBezTo>
                <a:cubicBezTo>
                  <a:pt x="20825" y="18618"/>
                  <a:pt x="20889" y="18759"/>
                  <a:pt x="20886" y="18852"/>
                </a:cubicBezTo>
                <a:cubicBezTo>
                  <a:pt x="20880" y="19027"/>
                  <a:pt x="20717" y="19020"/>
                  <a:pt x="20588" y="19025"/>
                </a:cubicBezTo>
                <a:cubicBezTo>
                  <a:pt x="20493" y="19029"/>
                  <a:pt x="20502" y="19002"/>
                  <a:pt x="20464" y="189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55920" y="2017800"/>
            <a:ext cx="741240" cy="571320"/>
          </a:xfrm>
          <a:custGeom>
            <a:avLst/>
            <a:gdLst/>
            <a:ahLst/>
            <a:rect l="l" t="t" r="r" b="b"/>
            <a:pathLst>
              <a:path w="2060" h="1588">
                <a:moveTo>
                  <a:pt x="7169" y="5606"/>
                </a:moveTo>
                <a:cubicBezTo>
                  <a:pt x="7193" y="5606"/>
                  <a:pt x="7202" y="5606"/>
                  <a:pt x="7218" y="5606"/>
                </a:cubicBezTo>
                <a:cubicBezTo>
                  <a:pt x="7239" y="5627"/>
                  <a:pt x="7256" y="5635"/>
                  <a:pt x="7293" y="5655"/>
                </a:cubicBezTo>
                <a:cubicBezTo>
                  <a:pt x="7333" y="5675"/>
                  <a:pt x="7339" y="5684"/>
                  <a:pt x="7367" y="5680"/>
                </a:cubicBezTo>
                <a:cubicBezTo>
                  <a:pt x="7383" y="5696"/>
                  <a:pt x="7412" y="5726"/>
                  <a:pt x="7441" y="5755"/>
                </a:cubicBezTo>
                <a:cubicBezTo>
                  <a:pt x="7486" y="5799"/>
                  <a:pt x="7474" y="5830"/>
                  <a:pt x="7491" y="5879"/>
                </a:cubicBezTo>
                <a:cubicBezTo>
                  <a:pt x="7509" y="5934"/>
                  <a:pt x="7513" y="5948"/>
                  <a:pt x="7516" y="6003"/>
                </a:cubicBezTo>
                <a:cubicBezTo>
                  <a:pt x="7522" y="6124"/>
                  <a:pt x="7512" y="6245"/>
                  <a:pt x="7491" y="6350"/>
                </a:cubicBezTo>
                <a:cubicBezTo>
                  <a:pt x="7483" y="6389"/>
                  <a:pt x="7482" y="6414"/>
                  <a:pt x="7466" y="6449"/>
                </a:cubicBezTo>
                <a:cubicBezTo>
                  <a:pt x="7453" y="6478"/>
                  <a:pt x="7455" y="6520"/>
                  <a:pt x="7441" y="6548"/>
                </a:cubicBezTo>
                <a:cubicBezTo>
                  <a:pt x="7427" y="6576"/>
                  <a:pt x="7408" y="6625"/>
                  <a:pt x="7392" y="6648"/>
                </a:cubicBezTo>
                <a:cubicBezTo>
                  <a:pt x="7367" y="6683"/>
                  <a:pt x="7344" y="6717"/>
                  <a:pt x="7317" y="6747"/>
                </a:cubicBezTo>
                <a:cubicBezTo>
                  <a:pt x="7292" y="6775"/>
                  <a:pt x="7283" y="6794"/>
                  <a:pt x="7268" y="6821"/>
                </a:cubicBezTo>
                <a:cubicBezTo>
                  <a:pt x="7247" y="6837"/>
                  <a:pt x="7239" y="6830"/>
                  <a:pt x="7218" y="6846"/>
                </a:cubicBezTo>
                <a:cubicBezTo>
                  <a:pt x="7203" y="6867"/>
                  <a:pt x="7208" y="6875"/>
                  <a:pt x="7193" y="6896"/>
                </a:cubicBezTo>
                <a:cubicBezTo>
                  <a:pt x="7173" y="6911"/>
                  <a:pt x="7164" y="6906"/>
                  <a:pt x="7144" y="6921"/>
                </a:cubicBezTo>
                <a:cubicBezTo>
                  <a:pt x="7129" y="6941"/>
                  <a:pt x="7134" y="6950"/>
                  <a:pt x="7119" y="6970"/>
                </a:cubicBezTo>
                <a:cubicBezTo>
                  <a:pt x="7096" y="6982"/>
                  <a:pt x="7045" y="7013"/>
                  <a:pt x="7020" y="7020"/>
                </a:cubicBezTo>
                <a:cubicBezTo>
                  <a:pt x="6986" y="7029"/>
                  <a:pt x="6953" y="7041"/>
                  <a:pt x="6921" y="7045"/>
                </a:cubicBezTo>
                <a:cubicBezTo>
                  <a:pt x="6888" y="7045"/>
                  <a:pt x="6871" y="7045"/>
                  <a:pt x="6846" y="7045"/>
                </a:cubicBezTo>
              </a:path>
              <a:path w="2060" h="1588">
                <a:moveTo>
                  <a:pt x="8682" y="5631"/>
                </a:moveTo>
                <a:cubicBezTo>
                  <a:pt x="8663" y="5619"/>
                  <a:pt x="8659" y="5596"/>
                  <a:pt x="8607" y="5606"/>
                </a:cubicBezTo>
                <a:cubicBezTo>
                  <a:pt x="8554" y="5616"/>
                  <a:pt x="8479" y="5645"/>
                  <a:pt x="8434" y="5680"/>
                </a:cubicBezTo>
                <a:cubicBezTo>
                  <a:pt x="8371" y="5729"/>
                  <a:pt x="8333" y="5796"/>
                  <a:pt x="8285" y="5854"/>
                </a:cubicBezTo>
                <a:cubicBezTo>
                  <a:pt x="8238" y="5910"/>
                  <a:pt x="8155" y="6012"/>
                  <a:pt x="8136" y="6077"/>
                </a:cubicBezTo>
                <a:cubicBezTo>
                  <a:pt x="8118" y="6139"/>
                  <a:pt x="8089" y="6234"/>
                  <a:pt x="8086" y="6300"/>
                </a:cubicBezTo>
                <a:cubicBezTo>
                  <a:pt x="8083" y="6365"/>
                  <a:pt x="8096" y="6484"/>
                  <a:pt x="8111" y="6548"/>
                </a:cubicBezTo>
                <a:cubicBezTo>
                  <a:pt x="8129" y="6623"/>
                  <a:pt x="8158" y="6694"/>
                  <a:pt x="8161" y="6772"/>
                </a:cubicBezTo>
                <a:cubicBezTo>
                  <a:pt x="8164" y="6847"/>
                  <a:pt x="8199" y="6918"/>
                  <a:pt x="8260" y="6970"/>
                </a:cubicBezTo>
                <a:cubicBezTo>
                  <a:pt x="8350" y="7048"/>
                  <a:pt x="8500" y="7079"/>
                  <a:pt x="8607" y="7119"/>
                </a:cubicBezTo>
                <a:cubicBezTo>
                  <a:pt x="8686" y="7149"/>
                  <a:pt x="8719" y="7169"/>
                  <a:pt x="8806" y="7169"/>
                </a:cubicBezTo>
                <a:cubicBezTo>
                  <a:pt x="8835" y="7198"/>
                  <a:pt x="8850" y="7203"/>
                  <a:pt x="8880" y="7169"/>
                </a:cubicBezTo>
              </a:path>
              <a:path w="2060" h="1588">
                <a:moveTo>
                  <a:pt x="6846" y="5829"/>
                </a:moveTo>
                <a:cubicBezTo>
                  <a:pt x="6818" y="5867"/>
                  <a:pt x="6821" y="5880"/>
                  <a:pt x="6821" y="5928"/>
                </a:cubicBezTo>
                <a:cubicBezTo>
                  <a:pt x="6821" y="6117"/>
                  <a:pt x="6789" y="6356"/>
                  <a:pt x="6846" y="6524"/>
                </a:cubicBezTo>
                <a:cubicBezTo>
                  <a:pt x="6850" y="6537"/>
                  <a:pt x="6846" y="6664"/>
                  <a:pt x="6846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3240" y="2027160"/>
            <a:ext cx="304920" cy="571680"/>
          </a:xfrm>
          <a:custGeom>
            <a:avLst/>
            <a:gdLst/>
            <a:ahLst/>
            <a:rect l="l" t="t" r="r" b="b"/>
            <a:pathLst>
              <a:path w="845" h="1588">
                <a:moveTo>
                  <a:pt x="12030" y="5631"/>
                </a:moveTo>
                <a:cubicBezTo>
                  <a:pt x="12063" y="5643"/>
                  <a:pt x="12095" y="5644"/>
                  <a:pt x="12129" y="5655"/>
                </a:cubicBezTo>
                <a:cubicBezTo>
                  <a:pt x="12161" y="5666"/>
                  <a:pt x="12225" y="5708"/>
                  <a:pt x="12254" y="5730"/>
                </a:cubicBezTo>
                <a:cubicBezTo>
                  <a:pt x="12291" y="5759"/>
                  <a:pt x="12320" y="5808"/>
                  <a:pt x="12328" y="5854"/>
                </a:cubicBezTo>
                <a:cubicBezTo>
                  <a:pt x="12338" y="5909"/>
                  <a:pt x="12350" y="5950"/>
                  <a:pt x="12353" y="6003"/>
                </a:cubicBezTo>
                <a:cubicBezTo>
                  <a:pt x="12356" y="6060"/>
                  <a:pt x="12339" y="6142"/>
                  <a:pt x="12328" y="6201"/>
                </a:cubicBezTo>
                <a:cubicBezTo>
                  <a:pt x="12315" y="6272"/>
                  <a:pt x="12289" y="6386"/>
                  <a:pt x="12254" y="6449"/>
                </a:cubicBezTo>
                <a:cubicBezTo>
                  <a:pt x="12222" y="6506"/>
                  <a:pt x="12185" y="6563"/>
                  <a:pt x="12154" y="6623"/>
                </a:cubicBezTo>
                <a:cubicBezTo>
                  <a:pt x="12120" y="6690"/>
                  <a:pt x="12070" y="6736"/>
                  <a:pt x="12030" y="6796"/>
                </a:cubicBezTo>
                <a:cubicBezTo>
                  <a:pt x="11978" y="6873"/>
                  <a:pt x="11924" y="6907"/>
                  <a:pt x="11857" y="6970"/>
                </a:cubicBezTo>
                <a:cubicBezTo>
                  <a:pt x="11795" y="7028"/>
                  <a:pt x="11721" y="7066"/>
                  <a:pt x="11658" y="7119"/>
                </a:cubicBezTo>
                <a:cubicBezTo>
                  <a:pt x="11598" y="7170"/>
                  <a:pt x="11575" y="7185"/>
                  <a:pt x="11509" y="7218"/>
                </a:cubicBezTo>
              </a:path>
              <a:path w="845" h="1588">
                <a:moveTo>
                  <a:pt x="11633" y="5928"/>
                </a:moveTo>
                <a:cubicBezTo>
                  <a:pt x="11687" y="5889"/>
                  <a:pt x="11708" y="5884"/>
                  <a:pt x="11782" y="5879"/>
                </a:cubicBezTo>
                <a:cubicBezTo>
                  <a:pt x="11851" y="5874"/>
                  <a:pt x="11954" y="5859"/>
                  <a:pt x="12005" y="5904"/>
                </a:cubicBezTo>
                <a:cubicBezTo>
                  <a:pt x="12047" y="5941"/>
                  <a:pt x="12055" y="5918"/>
                  <a:pt x="12055" y="5978"/>
                </a:cubicBezTo>
                <a:cubicBezTo>
                  <a:pt x="12055" y="6014"/>
                  <a:pt x="12048" y="6050"/>
                  <a:pt x="12030" y="6077"/>
                </a:cubicBezTo>
                <a:cubicBezTo>
                  <a:pt x="11985" y="6144"/>
                  <a:pt x="11920" y="6176"/>
                  <a:pt x="11857" y="6201"/>
                </a:cubicBezTo>
                <a:cubicBezTo>
                  <a:pt x="11788" y="6228"/>
                  <a:pt x="11720" y="6259"/>
                  <a:pt x="11658" y="6276"/>
                </a:cubicBezTo>
                <a:cubicBezTo>
                  <a:pt x="11594" y="6293"/>
                  <a:pt x="11704" y="6252"/>
                  <a:pt x="11708" y="6251"/>
                </a:cubicBezTo>
                <a:cubicBezTo>
                  <a:pt x="11766" y="6232"/>
                  <a:pt x="11834" y="6264"/>
                  <a:pt x="11857" y="6276"/>
                </a:cubicBezTo>
                <a:cubicBezTo>
                  <a:pt x="11902" y="6299"/>
                  <a:pt x="11905" y="6311"/>
                  <a:pt x="11931" y="6350"/>
                </a:cubicBezTo>
                <a:cubicBezTo>
                  <a:pt x="11974" y="6414"/>
                  <a:pt x="11938" y="6372"/>
                  <a:pt x="11931" y="6424"/>
                </a:cubicBezTo>
                <a:cubicBezTo>
                  <a:pt x="11926" y="6461"/>
                  <a:pt x="11925" y="6496"/>
                  <a:pt x="11906" y="6524"/>
                </a:cubicBezTo>
                <a:cubicBezTo>
                  <a:pt x="11880" y="6562"/>
                  <a:pt x="11798" y="6599"/>
                  <a:pt x="11782" y="6623"/>
                </a:cubicBezTo>
                <a:cubicBezTo>
                  <a:pt x="11762" y="6653"/>
                  <a:pt x="11765" y="6676"/>
                  <a:pt x="11708" y="6697"/>
                </a:cubicBezTo>
                <a:cubicBezTo>
                  <a:pt x="11672" y="6710"/>
                  <a:pt x="11651" y="6722"/>
                  <a:pt x="11609" y="6722"/>
                </a:cubicBezTo>
                <a:cubicBezTo>
                  <a:pt x="11564" y="6722"/>
                  <a:pt x="11547" y="6735"/>
                  <a:pt x="11534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2197080"/>
            <a:ext cx="3384720" cy="249120"/>
          </a:xfrm>
          <a:custGeom>
            <a:avLst/>
            <a:gdLst/>
            <a:ahLst/>
            <a:rect l="l" t="t" r="r" b="b"/>
            <a:pathLst>
              <a:path w="9402" h="695">
                <a:moveTo>
                  <a:pt x="3175" y="6102"/>
                </a:moveTo>
                <a:cubicBezTo>
                  <a:pt x="3323" y="6113"/>
                  <a:pt x="3432" y="6145"/>
                  <a:pt x="3572" y="6176"/>
                </a:cubicBezTo>
                <a:cubicBezTo>
                  <a:pt x="3649" y="6193"/>
                  <a:pt x="3714" y="6197"/>
                  <a:pt x="3795" y="6201"/>
                </a:cubicBezTo>
                <a:cubicBezTo>
                  <a:pt x="4069" y="6215"/>
                  <a:pt x="4339" y="6158"/>
                  <a:pt x="4614" y="6176"/>
                </a:cubicBezTo>
                <a:cubicBezTo>
                  <a:pt x="4770" y="6186"/>
                  <a:pt x="4925" y="6199"/>
                  <a:pt x="5085" y="6201"/>
                </a:cubicBezTo>
                <a:cubicBezTo>
                  <a:pt x="5607" y="6207"/>
                  <a:pt x="6128" y="6198"/>
                  <a:pt x="6648" y="6226"/>
                </a:cubicBezTo>
                <a:cubicBezTo>
                  <a:pt x="6903" y="6240"/>
                  <a:pt x="7160" y="6268"/>
                  <a:pt x="7417" y="6276"/>
                </a:cubicBezTo>
                <a:cubicBezTo>
                  <a:pt x="7624" y="6283"/>
                  <a:pt x="7830" y="6289"/>
                  <a:pt x="8037" y="6300"/>
                </a:cubicBezTo>
                <a:cubicBezTo>
                  <a:pt x="8285" y="6314"/>
                  <a:pt x="8532" y="6347"/>
                  <a:pt x="8781" y="6350"/>
                </a:cubicBezTo>
                <a:cubicBezTo>
                  <a:pt x="9005" y="6353"/>
                  <a:pt x="9228" y="6357"/>
                  <a:pt x="9451" y="6375"/>
                </a:cubicBezTo>
                <a:cubicBezTo>
                  <a:pt x="9624" y="6389"/>
                  <a:pt x="9796" y="6417"/>
                  <a:pt x="9971" y="6424"/>
                </a:cubicBezTo>
                <a:cubicBezTo>
                  <a:pt x="10147" y="6431"/>
                  <a:pt x="10318" y="6442"/>
                  <a:pt x="10492" y="6449"/>
                </a:cubicBezTo>
                <a:cubicBezTo>
                  <a:pt x="10707" y="6458"/>
                  <a:pt x="10926" y="6465"/>
                  <a:pt x="11137" y="6474"/>
                </a:cubicBezTo>
                <a:cubicBezTo>
                  <a:pt x="11228" y="6478"/>
                  <a:pt x="11327" y="6494"/>
                  <a:pt x="11410" y="6499"/>
                </a:cubicBezTo>
                <a:cubicBezTo>
                  <a:pt x="11571" y="6508"/>
                  <a:pt x="11728" y="6489"/>
                  <a:pt x="11881" y="6524"/>
                </a:cubicBezTo>
                <a:cubicBezTo>
                  <a:pt x="11936" y="6537"/>
                  <a:pt x="11983" y="6563"/>
                  <a:pt x="12030" y="6573"/>
                </a:cubicBezTo>
                <a:cubicBezTo>
                  <a:pt x="12076" y="6583"/>
                  <a:pt x="12134" y="6585"/>
                  <a:pt x="12179" y="6598"/>
                </a:cubicBezTo>
                <a:cubicBezTo>
                  <a:pt x="12214" y="6608"/>
                  <a:pt x="12295" y="6633"/>
                  <a:pt x="12328" y="6648"/>
                </a:cubicBezTo>
                <a:cubicBezTo>
                  <a:pt x="12376" y="6670"/>
                  <a:pt x="12405" y="6695"/>
                  <a:pt x="12452" y="6722"/>
                </a:cubicBezTo>
                <a:cubicBezTo>
                  <a:pt x="12491" y="6744"/>
                  <a:pt x="12532" y="6769"/>
                  <a:pt x="12576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ges 389-390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#19-21,25-29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(pg 389 #1,3,7,9)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6240" y="2152800"/>
            <a:ext cx="1893960" cy="509400"/>
          </a:xfrm>
          <a:custGeom>
            <a:avLst/>
            <a:gdLst/>
            <a:ahLst/>
            <a:rect l="l" t="t" r="r" b="b"/>
            <a:pathLst>
              <a:path w="5259" h="1415">
                <a:moveTo>
                  <a:pt x="8706" y="5978"/>
                </a:moveTo>
                <a:cubicBezTo>
                  <a:pt x="8629" y="6032"/>
                  <a:pt x="8557" y="6074"/>
                  <a:pt x="8483" y="6127"/>
                </a:cubicBezTo>
                <a:cubicBezTo>
                  <a:pt x="8409" y="6179"/>
                  <a:pt x="8293" y="6233"/>
                  <a:pt x="8235" y="6300"/>
                </a:cubicBezTo>
                <a:cubicBezTo>
                  <a:pt x="8216" y="6322"/>
                  <a:pt x="8188" y="6422"/>
                  <a:pt x="8210" y="6449"/>
                </a:cubicBezTo>
                <a:cubicBezTo>
                  <a:pt x="8224" y="6466"/>
                  <a:pt x="8355" y="6513"/>
                  <a:pt x="8384" y="6524"/>
                </a:cubicBezTo>
                <a:cubicBezTo>
                  <a:pt x="8501" y="6569"/>
                  <a:pt x="8605" y="6621"/>
                  <a:pt x="8706" y="6697"/>
                </a:cubicBezTo>
                <a:cubicBezTo>
                  <a:pt x="8807" y="6773"/>
                  <a:pt x="8898" y="6840"/>
                  <a:pt x="8905" y="6970"/>
                </a:cubicBezTo>
                <a:cubicBezTo>
                  <a:pt x="8910" y="7057"/>
                  <a:pt x="8846" y="7140"/>
                  <a:pt x="8781" y="7193"/>
                </a:cubicBezTo>
                <a:cubicBezTo>
                  <a:pt x="8696" y="7263"/>
                  <a:pt x="8561" y="7304"/>
                  <a:pt x="8458" y="7342"/>
                </a:cubicBezTo>
                <a:cubicBezTo>
                  <a:pt x="8373" y="7374"/>
                  <a:pt x="8325" y="7388"/>
                  <a:pt x="8235" y="7392"/>
                </a:cubicBezTo>
                <a:cubicBezTo>
                  <a:pt x="8162" y="7395"/>
                  <a:pt x="8186" y="7356"/>
                  <a:pt x="8186" y="7293"/>
                </a:cubicBezTo>
              </a:path>
              <a:path w="5259" h="1415">
                <a:moveTo>
                  <a:pt x="9103" y="6573"/>
                </a:moveTo>
                <a:cubicBezTo>
                  <a:pt x="9144" y="6679"/>
                  <a:pt x="9187" y="6785"/>
                  <a:pt x="9203" y="6896"/>
                </a:cubicBezTo>
                <a:cubicBezTo>
                  <a:pt x="9211" y="6948"/>
                  <a:pt x="9227" y="6992"/>
                  <a:pt x="9227" y="7045"/>
                </a:cubicBezTo>
                <a:cubicBezTo>
                  <a:pt x="9227" y="7081"/>
                  <a:pt x="9247" y="7031"/>
                  <a:pt x="9252" y="6995"/>
                </a:cubicBezTo>
              </a:path>
              <a:path w="5259" h="1415">
                <a:moveTo>
                  <a:pt x="9178" y="6201"/>
                </a:moveTo>
                <a:cubicBezTo>
                  <a:pt x="9170" y="6201"/>
                  <a:pt x="9161" y="6201"/>
                  <a:pt x="9153" y="6201"/>
                </a:cubicBezTo>
              </a:path>
              <a:path w="5259" h="1415">
                <a:moveTo>
                  <a:pt x="9575" y="6499"/>
                </a:moveTo>
                <a:cubicBezTo>
                  <a:pt x="9628" y="6613"/>
                  <a:pt x="9655" y="6688"/>
                  <a:pt x="9699" y="6796"/>
                </a:cubicBezTo>
                <a:cubicBezTo>
                  <a:pt x="9725" y="6858"/>
                  <a:pt x="9721" y="6938"/>
                  <a:pt x="9748" y="6995"/>
                </a:cubicBezTo>
                <a:cubicBezTo>
                  <a:pt x="9765" y="7031"/>
                  <a:pt x="9784" y="7052"/>
                  <a:pt x="9798" y="7069"/>
                </a:cubicBezTo>
                <a:cubicBezTo>
                  <a:pt x="9820" y="6989"/>
                  <a:pt x="9808" y="6973"/>
                  <a:pt x="9798" y="6896"/>
                </a:cubicBezTo>
                <a:cubicBezTo>
                  <a:pt x="9781" y="6769"/>
                  <a:pt x="9755" y="6535"/>
                  <a:pt x="9823" y="6424"/>
                </a:cubicBezTo>
                <a:cubicBezTo>
                  <a:pt x="9844" y="6389"/>
                  <a:pt x="9893" y="6297"/>
                  <a:pt x="9947" y="6300"/>
                </a:cubicBezTo>
                <a:cubicBezTo>
                  <a:pt x="10005" y="6303"/>
                  <a:pt x="10013" y="6336"/>
                  <a:pt x="10046" y="6375"/>
                </a:cubicBezTo>
                <a:cubicBezTo>
                  <a:pt x="10099" y="6438"/>
                  <a:pt x="10157" y="6513"/>
                  <a:pt x="10170" y="6598"/>
                </a:cubicBezTo>
                <a:cubicBezTo>
                  <a:pt x="10188" y="6713"/>
                  <a:pt x="10225" y="6787"/>
                  <a:pt x="10269" y="6896"/>
                </a:cubicBezTo>
                <a:cubicBezTo>
                  <a:pt x="10293" y="6955"/>
                  <a:pt x="10348" y="7071"/>
                  <a:pt x="10418" y="7094"/>
                </a:cubicBezTo>
                <a:cubicBezTo>
                  <a:pt x="10482" y="7115"/>
                  <a:pt x="10533" y="7107"/>
                  <a:pt x="10592" y="7094"/>
                </a:cubicBezTo>
              </a:path>
              <a:path w="5259" h="1415">
                <a:moveTo>
                  <a:pt x="10542" y="6573"/>
                </a:moveTo>
                <a:cubicBezTo>
                  <a:pt x="10623" y="6699"/>
                  <a:pt x="10686" y="6747"/>
                  <a:pt x="10790" y="6846"/>
                </a:cubicBezTo>
                <a:cubicBezTo>
                  <a:pt x="10871" y="6923"/>
                  <a:pt x="10953" y="6968"/>
                  <a:pt x="11063" y="6995"/>
                </a:cubicBezTo>
                <a:cubicBezTo>
                  <a:pt x="11124" y="7010"/>
                  <a:pt x="11148" y="6984"/>
                  <a:pt x="11187" y="6945"/>
                </a:cubicBezTo>
              </a:path>
              <a:path w="5259" h="1415">
                <a:moveTo>
                  <a:pt x="10939" y="6375"/>
                </a:moveTo>
                <a:cubicBezTo>
                  <a:pt x="10843" y="6493"/>
                  <a:pt x="10726" y="6631"/>
                  <a:pt x="10666" y="6772"/>
                </a:cubicBezTo>
                <a:cubicBezTo>
                  <a:pt x="10622" y="6875"/>
                  <a:pt x="10594" y="6988"/>
                  <a:pt x="10567" y="7094"/>
                </a:cubicBezTo>
                <a:cubicBezTo>
                  <a:pt x="10550" y="7163"/>
                  <a:pt x="10510" y="7213"/>
                  <a:pt x="10468" y="7268"/>
                </a:cubicBezTo>
              </a:path>
              <a:path w="5259" h="1415">
                <a:moveTo>
                  <a:pt x="11757" y="6598"/>
                </a:moveTo>
                <a:cubicBezTo>
                  <a:pt x="11707" y="6598"/>
                  <a:pt x="11695" y="6599"/>
                  <a:pt x="11683" y="6648"/>
                </a:cubicBezTo>
                <a:cubicBezTo>
                  <a:pt x="11713" y="6638"/>
                  <a:pt x="11728" y="6604"/>
                  <a:pt x="11683" y="6598"/>
                </a:cubicBezTo>
                <a:cubicBezTo>
                  <a:pt x="11653" y="6594"/>
                  <a:pt x="11640" y="6627"/>
                  <a:pt x="11633" y="6648"/>
                </a:cubicBezTo>
                <a:cubicBezTo>
                  <a:pt x="11674" y="6658"/>
                  <a:pt x="11685" y="6665"/>
                  <a:pt x="11733" y="6672"/>
                </a:cubicBezTo>
              </a:path>
              <a:path w="5259" h="1415">
                <a:moveTo>
                  <a:pt x="12576" y="6300"/>
                </a:moveTo>
                <a:cubicBezTo>
                  <a:pt x="12508" y="6272"/>
                  <a:pt x="12509" y="6268"/>
                  <a:pt x="12452" y="6300"/>
                </a:cubicBezTo>
                <a:cubicBezTo>
                  <a:pt x="12356" y="6354"/>
                  <a:pt x="12339" y="6426"/>
                  <a:pt x="12278" y="6524"/>
                </a:cubicBezTo>
                <a:cubicBezTo>
                  <a:pt x="12211" y="6631"/>
                  <a:pt x="12218" y="6705"/>
                  <a:pt x="12229" y="6821"/>
                </a:cubicBezTo>
                <a:cubicBezTo>
                  <a:pt x="12238" y="6916"/>
                  <a:pt x="12317" y="6999"/>
                  <a:pt x="12402" y="7045"/>
                </a:cubicBezTo>
                <a:cubicBezTo>
                  <a:pt x="12496" y="7095"/>
                  <a:pt x="12597" y="7094"/>
                  <a:pt x="12700" y="7094"/>
                </a:cubicBezTo>
                <a:cubicBezTo>
                  <a:pt x="12767" y="7094"/>
                  <a:pt x="12812" y="7081"/>
                  <a:pt x="12874" y="7069"/>
                </a:cubicBezTo>
              </a:path>
              <a:path w="5259" h="1415">
                <a:moveTo>
                  <a:pt x="13146" y="6449"/>
                </a:moveTo>
                <a:cubicBezTo>
                  <a:pt x="13079" y="6456"/>
                  <a:pt x="13009" y="6461"/>
                  <a:pt x="12948" y="6499"/>
                </a:cubicBezTo>
                <a:cubicBezTo>
                  <a:pt x="12898" y="6530"/>
                  <a:pt x="12886" y="6557"/>
                  <a:pt x="12923" y="6598"/>
                </a:cubicBezTo>
                <a:cubicBezTo>
                  <a:pt x="12960" y="6639"/>
                  <a:pt x="13045" y="6654"/>
                  <a:pt x="13097" y="6672"/>
                </a:cubicBezTo>
                <a:cubicBezTo>
                  <a:pt x="13191" y="6704"/>
                  <a:pt x="13291" y="6733"/>
                  <a:pt x="13370" y="6796"/>
                </a:cubicBezTo>
                <a:cubicBezTo>
                  <a:pt x="13406" y="6825"/>
                  <a:pt x="13477" y="6889"/>
                  <a:pt x="13444" y="6945"/>
                </a:cubicBezTo>
                <a:cubicBezTo>
                  <a:pt x="13379" y="7055"/>
                  <a:pt x="13339" y="7077"/>
                  <a:pt x="13221" y="7094"/>
                </a:cubicBezTo>
                <a:cubicBezTo>
                  <a:pt x="13155" y="7104"/>
                  <a:pt x="13048" y="7108"/>
                  <a:pt x="12998" y="7069"/>
                </a:cubicBezTo>
                <a:cubicBezTo>
                  <a:pt x="12949" y="7031"/>
                  <a:pt x="12976" y="6987"/>
                  <a:pt x="12998" y="6945"/>
                </a:cubicBezTo>
                <a:cubicBezTo>
                  <a:pt x="13006" y="6929"/>
                  <a:pt x="13014" y="6912"/>
                  <a:pt x="13022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30800" y="4027320"/>
            <a:ext cx="1125360" cy="982800"/>
          </a:xfrm>
          <a:custGeom>
            <a:avLst/>
            <a:gdLst/>
            <a:ahLst/>
            <a:rect l="l" t="t" r="r" b="b"/>
            <a:pathLst>
              <a:path w="3127" h="2729">
                <a:moveTo>
                  <a:pt x="12700" y="11187"/>
                </a:moveTo>
                <a:cubicBezTo>
                  <a:pt x="12758" y="11259"/>
                  <a:pt x="12754" y="11300"/>
                  <a:pt x="12774" y="11385"/>
                </a:cubicBezTo>
                <a:cubicBezTo>
                  <a:pt x="12797" y="11486"/>
                  <a:pt x="12845" y="11585"/>
                  <a:pt x="12874" y="11683"/>
                </a:cubicBezTo>
                <a:cubicBezTo>
                  <a:pt x="12904" y="11783"/>
                  <a:pt x="12923" y="11853"/>
                  <a:pt x="12923" y="11956"/>
                </a:cubicBezTo>
                <a:cubicBezTo>
                  <a:pt x="12923" y="12015"/>
                  <a:pt x="12920" y="12041"/>
                  <a:pt x="12898" y="12080"/>
                </a:cubicBezTo>
              </a:path>
              <a:path w="3127" h="2729">
                <a:moveTo>
                  <a:pt x="12030" y="12626"/>
                </a:moveTo>
                <a:cubicBezTo>
                  <a:pt x="12092" y="12656"/>
                  <a:pt x="12106" y="12651"/>
                  <a:pt x="12179" y="12626"/>
                </a:cubicBezTo>
                <a:cubicBezTo>
                  <a:pt x="12350" y="12567"/>
                  <a:pt x="12468" y="12535"/>
                  <a:pt x="12650" y="12502"/>
                </a:cubicBezTo>
                <a:cubicBezTo>
                  <a:pt x="12824" y="12470"/>
                  <a:pt x="12994" y="12477"/>
                  <a:pt x="13171" y="12477"/>
                </a:cubicBezTo>
                <a:cubicBezTo>
                  <a:pt x="13394" y="12477"/>
                  <a:pt x="13618" y="12477"/>
                  <a:pt x="13841" y="12477"/>
                </a:cubicBezTo>
              </a:path>
              <a:path w="3127" h="2729">
                <a:moveTo>
                  <a:pt x="12824" y="12750"/>
                </a:moveTo>
                <a:cubicBezTo>
                  <a:pt x="12751" y="12758"/>
                  <a:pt x="12721" y="12771"/>
                  <a:pt x="12650" y="12799"/>
                </a:cubicBezTo>
                <a:cubicBezTo>
                  <a:pt x="12563" y="12833"/>
                  <a:pt x="12449" y="12865"/>
                  <a:pt x="12378" y="12923"/>
                </a:cubicBezTo>
                <a:cubicBezTo>
                  <a:pt x="12314" y="12976"/>
                  <a:pt x="12358" y="13017"/>
                  <a:pt x="12402" y="13047"/>
                </a:cubicBezTo>
                <a:cubicBezTo>
                  <a:pt x="12486" y="13105"/>
                  <a:pt x="12608" y="13126"/>
                  <a:pt x="12700" y="13171"/>
                </a:cubicBezTo>
                <a:cubicBezTo>
                  <a:pt x="12819" y="13229"/>
                  <a:pt x="12959" y="13264"/>
                  <a:pt x="13047" y="13370"/>
                </a:cubicBezTo>
                <a:cubicBezTo>
                  <a:pt x="13127" y="13466"/>
                  <a:pt x="13123" y="13491"/>
                  <a:pt x="13072" y="13593"/>
                </a:cubicBezTo>
                <a:cubicBezTo>
                  <a:pt x="13041" y="13654"/>
                  <a:pt x="12911" y="13781"/>
                  <a:pt x="12849" y="13816"/>
                </a:cubicBezTo>
                <a:cubicBezTo>
                  <a:pt x="12846" y="13818"/>
                  <a:pt x="12554" y="13958"/>
                  <a:pt x="12526" y="13891"/>
                </a:cubicBezTo>
                <a:cubicBezTo>
                  <a:pt x="12518" y="13873"/>
                  <a:pt x="12526" y="13806"/>
                  <a:pt x="12526" y="13791"/>
                </a:cubicBezTo>
              </a:path>
              <a:path w="3127" h="2729">
                <a:moveTo>
                  <a:pt x="13171" y="13022"/>
                </a:moveTo>
                <a:cubicBezTo>
                  <a:pt x="13212" y="13196"/>
                  <a:pt x="13221" y="13327"/>
                  <a:pt x="13246" y="13494"/>
                </a:cubicBezTo>
                <a:cubicBezTo>
                  <a:pt x="13263" y="13605"/>
                  <a:pt x="13247" y="13733"/>
                  <a:pt x="13271" y="13841"/>
                </a:cubicBezTo>
                <a:cubicBezTo>
                  <a:pt x="13286" y="13910"/>
                  <a:pt x="13294" y="13928"/>
                  <a:pt x="13345" y="13891"/>
                </a:cubicBezTo>
              </a:path>
              <a:path w="3127" h="2729">
                <a:moveTo>
                  <a:pt x="13543" y="13072"/>
                </a:moveTo>
                <a:cubicBezTo>
                  <a:pt x="13561" y="13194"/>
                  <a:pt x="13568" y="13298"/>
                  <a:pt x="13568" y="13419"/>
                </a:cubicBezTo>
                <a:cubicBezTo>
                  <a:pt x="13568" y="13519"/>
                  <a:pt x="13575" y="13596"/>
                  <a:pt x="13593" y="13692"/>
                </a:cubicBezTo>
                <a:cubicBezTo>
                  <a:pt x="13593" y="13717"/>
                  <a:pt x="13593" y="13725"/>
                  <a:pt x="13618" y="13717"/>
                </a:cubicBezTo>
                <a:cubicBezTo>
                  <a:pt x="13633" y="13657"/>
                  <a:pt x="13660" y="13589"/>
                  <a:pt x="13667" y="13519"/>
                </a:cubicBezTo>
                <a:cubicBezTo>
                  <a:pt x="13679" y="13411"/>
                  <a:pt x="13688" y="13303"/>
                  <a:pt x="13717" y="13196"/>
                </a:cubicBezTo>
                <a:cubicBezTo>
                  <a:pt x="13728" y="13154"/>
                  <a:pt x="13765" y="13030"/>
                  <a:pt x="13791" y="12998"/>
                </a:cubicBezTo>
                <a:cubicBezTo>
                  <a:pt x="13837" y="12941"/>
                  <a:pt x="13901" y="13036"/>
                  <a:pt x="13915" y="13047"/>
                </a:cubicBezTo>
                <a:cubicBezTo>
                  <a:pt x="13987" y="13103"/>
                  <a:pt x="14025" y="13182"/>
                  <a:pt x="14064" y="13271"/>
                </a:cubicBezTo>
                <a:cubicBezTo>
                  <a:pt x="14109" y="13373"/>
                  <a:pt x="14129" y="13487"/>
                  <a:pt x="14163" y="13593"/>
                </a:cubicBezTo>
                <a:cubicBezTo>
                  <a:pt x="14191" y="13680"/>
                  <a:pt x="14210" y="13750"/>
                  <a:pt x="14312" y="13767"/>
                </a:cubicBezTo>
                <a:cubicBezTo>
                  <a:pt x="14337" y="13771"/>
                  <a:pt x="14379" y="13658"/>
                  <a:pt x="14387" y="13643"/>
                </a:cubicBezTo>
              </a:path>
              <a:path w="3127" h="2729">
                <a:moveTo>
                  <a:pt x="14238" y="13221"/>
                </a:moveTo>
                <a:cubicBezTo>
                  <a:pt x="14382" y="13377"/>
                  <a:pt x="14508" y="13539"/>
                  <a:pt x="14709" y="13618"/>
                </a:cubicBezTo>
                <a:cubicBezTo>
                  <a:pt x="14807" y="13657"/>
                  <a:pt x="14883" y="13684"/>
                  <a:pt x="14982" y="13643"/>
                </a:cubicBezTo>
                <a:cubicBezTo>
                  <a:pt x="15061" y="13610"/>
                  <a:pt x="15101" y="13546"/>
                  <a:pt x="15131" y="13469"/>
                </a:cubicBezTo>
                <a:cubicBezTo>
                  <a:pt x="15139" y="13444"/>
                  <a:pt x="15148" y="13420"/>
                  <a:pt x="15156" y="13395"/>
                </a:cubicBezTo>
              </a:path>
              <a:path w="3127" h="2729">
                <a:moveTo>
                  <a:pt x="15081" y="13097"/>
                </a:moveTo>
                <a:cubicBezTo>
                  <a:pt x="15008" y="13065"/>
                  <a:pt x="15012" y="13067"/>
                  <a:pt x="14957" y="13122"/>
                </a:cubicBezTo>
                <a:cubicBezTo>
                  <a:pt x="14864" y="13215"/>
                  <a:pt x="14803" y="13382"/>
                  <a:pt x="14734" y="13494"/>
                </a:cubicBezTo>
                <a:cubicBezTo>
                  <a:pt x="14693" y="13560"/>
                  <a:pt x="14641" y="13690"/>
                  <a:pt x="14585" y="13742"/>
                </a:cubicBezTo>
                <a:cubicBezTo>
                  <a:pt x="14544" y="13780"/>
                  <a:pt x="14507" y="13808"/>
                  <a:pt x="14461" y="13841"/>
                </a:cubicBezTo>
              </a:path>
              <a:path w="3127" h="2729">
                <a:moveTo>
                  <a:pt x="13122" y="12650"/>
                </a:moveTo>
                <a:cubicBezTo>
                  <a:pt x="13094" y="12650"/>
                  <a:pt x="13083" y="12648"/>
                  <a:pt x="13072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6160" y="5776920"/>
            <a:ext cx="785880" cy="590400"/>
          </a:xfrm>
          <a:custGeom>
            <a:avLst/>
            <a:gdLst/>
            <a:ahLst/>
            <a:rect l="l" t="t" r="r" b="b"/>
            <a:pathLst>
              <a:path w="2184" h="1638">
                <a:moveTo>
                  <a:pt x="11906" y="16173"/>
                </a:moveTo>
                <a:cubicBezTo>
                  <a:pt x="11913" y="16384"/>
                  <a:pt x="11938" y="16563"/>
                  <a:pt x="11981" y="16768"/>
                </a:cubicBezTo>
                <a:cubicBezTo>
                  <a:pt x="12021" y="16957"/>
                  <a:pt x="12056" y="17151"/>
                  <a:pt x="12105" y="17338"/>
                </a:cubicBezTo>
                <a:cubicBezTo>
                  <a:pt x="12131" y="17439"/>
                  <a:pt x="12203" y="17544"/>
                  <a:pt x="12229" y="17636"/>
                </a:cubicBezTo>
                <a:cubicBezTo>
                  <a:pt x="12229" y="17653"/>
                  <a:pt x="12229" y="17669"/>
                  <a:pt x="12229" y="17686"/>
                </a:cubicBezTo>
              </a:path>
              <a:path w="2184" h="1638">
                <a:moveTo>
                  <a:pt x="12626" y="16743"/>
                </a:moveTo>
                <a:cubicBezTo>
                  <a:pt x="12732" y="16767"/>
                  <a:pt x="12847" y="16790"/>
                  <a:pt x="12948" y="16818"/>
                </a:cubicBezTo>
                <a:cubicBezTo>
                  <a:pt x="13017" y="16837"/>
                  <a:pt x="13077" y="16870"/>
                  <a:pt x="13146" y="16892"/>
                </a:cubicBezTo>
                <a:cubicBezTo>
                  <a:pt x="13178" y="16902"/>
                  <a:pt x="13213" y="16910"/>
                  <a:pt x="13246" y="16917"/>
                </a:cubicBezTo>
              </a:path>
              <a:path w="2184" h="1638">
                <a:moveTo>
                  <a:pt x="12849" y="17214"/>
                </a:moveTo>
                <a:cubicBezTo>
                  <a:pt x="12962" y="17214"/>
                  <a:pt x="13062" y="17202"/>
                  <a:pt x="13171" y="17190"/>
                </a:cubicBezTo>
                <a:cubicBezTo>
                  <a:pt x="13261" y="17180"/>
                  <a:pt x="13359" y="17176"/>
                  <a:pt x="13444" y="17140"/>
                </a:cubicBezTo>
                <a:cubicBezTo>
                  <a:pt x="13477" y="17123"/>
                  <a:pt x="13510" y="17107"/>
                  <a:pt x="13543" y="17090"/>
                </a:cubicBezTo>
              </a:path>
              <a:path w="2184" h="1638">
                <a:moveTo>
                  <a:pt x="13791" y="16049"/>
                </a:moveTo>
                <a:cubicBezTo>
                  <a:pt x="13851" y="16108"/>
                  <a:pt x="13904" y="16169"/>
                  <a:pt x="13940" y="16247"/>
                </a:cubicBezTo>
                <a:cubicBezTo>
                  <a:pt x="13989" y="16353"/>
                  <a:pt x="14023" y="16503"/>
                  <a:pt x="14039" y="16619"/>
                </a:cubicBezTo>
                <a:cubicBezTo>
                  <a:pt x="14069" y="16838"/>
                  <a:pt x="14089" y="17044"/>
                  <a:pt x="14089" y="17264"/>
                </a:cubicBezTo>
                <a:cubicBezTo>
                  <a:pt x="14089" y="17402"/>
                  <a:pt x="14048" y="17523"/>
                  <a:pt x="14039" y="176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48200" y="2224080"/>
            <a:ext cx="447840" cy="588960"/>
          </a:xfrm>
          <a:custGeom>
            <a:avLst/>
            <a:gdLst/>
            <a:ahLst/>
            <a:rect l="l" t="t" r="r" b="b"/>
            <a:pathLst>
              <a:path w="1241" h="1638">
                <a:moveTo>
                  <a:pt x="16247" y="6747"/>
                </a:moveTo>
                <a:cubicBezTo>
                  <a:pt x="16433" y="6754"/>
                  <a:pt x="16609" y="6787"/>
                  <a:pt x="16793" y="6796"/>
                </a:cubicBezTo>
              </a:path>
              <a:path w="1241" h="1638">
                <a:moveTo>
                  <a:pt x="16321" y="7020"/>
                </a:moveTo>
                <a:cubicBezTo>
                  <a:pt x="16499" y="7027"/>
                  <a:pt x="16689" y="7067"/>
                  <a:pt x="16867" y="7045"/>
                </a:cubicBezTo>
                <a:cubicBezTo>
                  <a:pt x="16962" y="7021"/>
                  <a:pt x="16992" y="7015"/>
                  <a:pt x="17041" y="6970"/>
                </a:cubicBezTo>
              </a:path>
              <a:path w="1241" h="1638">
                <a:moveTo>
                  <a:pt x="17214" y="6176"/>
                </a:moveTo>
                <a:cubicBezTo>
                  <a:pt x="17275" y="6315"/>
                  <a:pt x="17329" y="6450"/>
                  <a:pt x="17363" y="6598"/>
                </a:cubicBezTo>
                <a:cubicBezTo>
                  <a:pt x="17421" y="6850"/>
                  <a:pt x="17458" y="7109"/>
                  <a:pt x="17462" y="7367"/>
                </a:cubicBezTo>
                <a:cubicBezTo>
                  <a:pt x="17464" y="7511"/>
                  <a:pt x="17436" y="7678"/>
                  <a:pt x="17487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9840" y="2330280"/>
            <a:ext cx="1044360" cy="223920"/>
          </a:xfrm>
          <a:custGeom>
            <a:avLst/>
            <a:gdLst/>
            <a:ahLst/>
            <a:rect l="l" t="t" r="r" b="b"/>
            <a:pathLst>
              <a:path w="2903" h="621">
                <a:moveTo>
                  <a:pt x="943" y="6598"/>
                </a:moveTo>
                <a:cubicBezTo>
                  <a:pt x="1024" y="6530"/>
                  <a:pt x="1087" y="6458"/>
                  <a:pt x="1191" y="6499"/>
                </a:cubicBezTo>
                <a:cubicBezTo>
                  <a:pt x="1256" y="6525"/>
                  <a:pt x="1311" y="6635"/>
                  <a:pt x="1339" y="6697"/>
                </a:cubicBezTo>
                <a:cubicBezTo>
                  <a:pt x="1380" y="6786"/>
                  <a:pt x="1433" y="6879"/>
                  <a:pt x="1513" y="6945"/>
                </a:cubicBezTo>
                <a:cubicBezTo>
                  <a:pt x="1635" y="7045"/>
                  <a:pt x="1757" y="7059"/>
                  <a:pt x="1910" y="7045"/>
                </a:cubicBezTo>
                <a:cubicBezTo>
                  <a:pt x="2262" y="7012"/>
                  <a:pt x="2622" y="6897"/>
                  <a:pt x="2977" y="6921"/>
                </a:cubicBezTo>
                <a:cubicBezTo>
                  <a:pt x="3159" y="6933"/>
                  <a:pt x="3344" y="6983"/>
                  <a:pt x="3522" y="7020"/>
                </a:cubicBezTo>
                <a:cubicBezTo>
                  <a:pt x="3639" y="7045"/>
                  <a:pt x="3736" y="7046"/>
                  <a:pt x="3845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7200" y="3197160"/>
            <a:ext cx="1832040" cy="608040"/>
          </a:xfrm>
          <a:custGeom>
            <a:avLst/>
            <a:gdLst/>
            <a:ahLst/>
            <a:rect l="l" t="t" r="r" b="b"/>
            <a:pathLst>
              <a:path w="5086" h="1688">
                <a:moveTo>
                  <a:pt x="571" y="8880"/>
                </a:moveTo>
                <a:cubicBezTo>
                  <a:pt x="571" y="9096"/>
                  <a:pt x="570" y="9312"/>
                  <a:pt x="546" y="9525"/>
                </a:cubicBezTo>
                <a:cubicBezTo>
                  <a:pt x="528" y="9679"/>
                  <a:pt x="473" y="9897"/>
                  <a:pt x="546" y="10046"/>
                </a:cubicBezTo>
                <a:cubicBezTo>
                  <a:pt x="605" y="10168"/>
                  <a:pt x="652" y="10145"/>
                  <a:pt x="769" y="10120"/>
                </a:cubicBezTo>
                <a:cubicBezTo>
                  <a:pt x="923" y="10086"/>
                  <a:pt x="1101" y="9838"/>
                  <a:pt x="1191" y="9723"/>
                </a:cubicBezTo>
                <a:cubicBezTo>
                  <a:pt x="1316" y="9564"/>
                  <a:pt x="1399" y="9440"/>
                  <a:pt x="1588" y="9351"/>
                </a:cubicBezTo>
                <a:cubicBezTo>
                  <a:pt x="1612" y="9351"/>
                  <a:pt x="1621" y="9351"/>
                  <a:pt x="1637" y="9351"/>
                </a:cubicBezTo>
                <a:cubicBezTo>
                  <a:pt x="1698" y="9458"/>
                  <a:pt x="1762" y="9554"/>
                  <a:pt x="1811" y="9674"/>
                </a:cubicBezTo>
                <a:cubicBezTo>
                  <a:pt x="1889" y="9864"/>
                  <a:pt x="2001" y="9988"/>
                  <a:pt x="2158" y="10120"/>
                </a:cubicBezTo>
                <a:cubicBezTo>
                  <a:pt x="2330" y="10265"/>
                  <a:pt x="2553" y="10326"/>
                  <a:pt x="2778" y="10344"/>
                </a:cubicBezTo>
                <a:cubicBezTo>
                  <a:pt x="3107" y="10370"/>
                  <a:pt x="3399" y="10219"/>
                  <a:pt x="3721" y="10195"/>
                </a:cubicBezTo>
                <a:cubicBezTo>
                  <a:pt x="3973" y="10176"/>
                  <a:pt x="4196" y="10218"/>
                  <a:pt x="4440" y="10269"/>
                </a:cubicBezTo>
                <a:cubicBezTo>
                  <a:pt x="4738" y="10332"/>
                  <a:pt x="5012" y="10450"/>
                  <a:pt x="5308" y="10517"/>
                </a:cubicBezTo>
                <a:cubicBezTo>
                  <a:pt x="5457" y="10542"/>
                  <a:pt x="5507" y="10550"/>
                  <a:pt x="5606" y="10567"/>
                </a:cubicBezTo>
              </a:path>
              <a:path w="5086" h="1688">
                <a:moveTo>
                  <a:pt x="1364" y="9079"/>
                </a:moveTo>
                <a:cubicBezTo>
                  <a:pt x="1527" y="9072"/>
                  <a:pt x="1698" y="9072"/>
                  <a:pt x="1860" y="9054"/>
                </a:cubicBezTo>
                <a:cubicBezTo>
                  <a:pt x="1992" y="9027"/>
                  <a:pt x="2041" y="9018"/>
                  <a:pt x="2133" y="9004"/>
                </a:cubicBezTo>
              </a:path>
              <a:path w="5086" h="1688">
                <a:moveTo>
                  <a:pt x="2952" y="9178"/>
                </a:moveTo>
                <a:cubicBezTo>
                  <a:pt x="2998" y="9203"/>
                  <a:pt x="3078" y="9270"/>
                  <a:pt x="3101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1320" y="2768760"/>
            <a:ext cx="963720" cy="53640"/>
          </a:xfrm>
          <a:custGeom>
            <a:avLst/>
            <a:gdLst/>
            <a:ahLst/>
            <a:rect l="l" t="t" r="r" b="b"/>
            <a:pathLst>
              <a:path w="2680" h="150">
                <a:moveTo>
                  <a:pt x="8086" y="7838"/>
                </a:moveTo>
                <a:cubicBezTo>
                  <a:pt x="8213" y="7838"/>
                  <a:pt x="8334" y="7822"/>
                  <a:pt x="8458" y="7813"/>
                </a:cubicBezTo>
                <a:cubicBezTo>
                  <a:pt x="8662" y="7798"/>
                  <a:pt x="8875" y="7798"/>
                  <a:pt x="9079" y="7789"/>
                </a:cubicBezTo>
                <a:cubicBezTo>
                  <a:pt x="9352" y="7777"/>
                  <a:pt x="9625" y="7776"/>
                  <a:pt x="9897" y="7764"/>
                </a:cubicBezTo>
                <a:cubicBezTo>
                  <a:pt x="10164" y="7752"/>
                  <a:pt x="10430" y="7773"/>
                  <a:pt x="10691" y="7739"/>
                </a:cubicBezTo>
                <a:cubicBezTo>
                  <a:pt x="10780" y="7727"/>
                  <a:pt x="10763" y="7725"/>
                  <a:pt x="10691" y="76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928960"/>
            <a:ext cx="36360" cy="519120"/>
          </a:xfrm>
          <a:custGeom>
            <a:avLst/>
            <a:gdLst/>
            <a:ahLst/>
            <a:rect l="l" t="t" r="r" b="b"/>
            <a:pathLst>
              <a:path w="100" h="1440">
                <a:moveTo>
                  <a:pt x="9525" y="8136"/>
                </a:moveTo>
                <a:cubicBezTo>
                  <a:pt x="9565" y="8273"/>
                  <a:pt x="9613" y="8418"/>
                  <a:pt x="9624" y="8558"/>
                </a:cubicBezTo>
                <a:cubicBezTo>
                  <a:pt x="9637" y="8723"/>
                  <a:pt x="9627" y="8892"/>
                  <a:pt x="9599" y="9054"/>
                </a:cubicBezTo>
                <a:cubicBezTo>
                  <a:pt x="9575" y="9189"/>
                  <a:pt x="9575" y="9314"/>
                  <a:pt x="9575" y="9451"/>
                </a:cubicBezTo>
                <a:cubicBezTo>
                  <a:pt x="9575" y="9493"/>
                  <a:pt x="9615" y="9530"/>
                  <a:pt x="9624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89160" y="4054320"/>
            <a:ext cx="295560" cy="446400"/>
          </a:xfrm>
          <a:custGeom>
            <a:avLst/>
            <a:gdLst/>
            <a:ahLst/>
            <a:rect l="l" t="t" r="r" b="b"/>
            <a:pathLst>
              <a:path w="820" h="1242">
                <a:moveTo>
                  <a:pt x="9227" y="11261"/>
                </a:moveTo>
                <a:cubicBezTo>
                  <a:pt x="9138" y="11286"/>
                  <a:pt x="9038" y="11293"/>
                  <a:pt x="8954" y="11336"/>
                </a:cubicBezTo>
                <a:cubicBezTo>
                  <a:pt x="8854" y="11387"/>
                  <a:pt x="8745" y="11437"/>
                  <a:pt x="8657" y="11509"/>
                </a:cubicBezTo>
                <a:cubicBezTo>
                  <a:pt x="8607" y="11550"/>
                  <a:pt x="8607" y="11569"/>
                  <a:pt x="8582" y="11609"/>
                </a:cubicBezTo>
                <a:cubicBezTo>
                  <a:pt x="8663" y="11688"/>
                  <a:pt x="8760" y="11676"/>
                  <a:pt x="8855" y="11708"/>
                </a:cubicBezTo>
                <a:cubicBezTo>
                  <a:pt x="8994" y="11755"/>
                  <a:pt x="9148" y="11808"/>
                  <a:pt x="9277" y="11881"/>
                </a:cubicBezTo>
                <a:cubicBezTo>
                  <a:pt x="9356" y="11926"/>
                  <a:pt x="9429" y="11979"/>
                  <a:pt x="9401" y="12080"/>
                </a:cubicBezTo>
                <a:cubicBezTo>
                  <a:pt x="9368" y="12198"/>
                  <a:pt x="9189" y="12248"/>
                  <a:pt x="9103" y="12303"/>
                </a:cubicBezTo>
                <a:cubicBezTo>
                  <a:pt x="8985" y="12378"/>
                  <a:pt x="8900" y="12476"/>
                  <a:pt x="8756" y="12502"/>
                </a:cubicBezTo>
                <a:cubicBezTo>
                  <a:pt x="8715" y="12502"/>
                  <a:pt x="8707" y="12502"/>
                  <a:pt x="8682" y="12502"/>
                </a:cubicBezTo>
                <a:cubicBezTo>
                  <a:pt x="8698" y="12412"/>
                  <a:pt x="8710" y="12399"/>
                  <a:pt x="8781" y="12328"/>
                </a:cubicBezTo>
                <a:cubicBezTo>
                  <a:pt x="8872" y="12237"/>
                  <a:pt x="8913" y="12196"/>
                  <a:pt x="8979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8360" y="417996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9550" y="11609"/>
                </a:moveTo>
                <a:cubicBezTo>
                  <a:pt x="9609" y="11748"/>
                  <a:pt x="9573" y="11809"/>
                  <a:pt x="9599" y="11956"/>
                </a:cubicBezTo>
                <a:cubicBezTo>
                  <a:pt x="9607" y="11999"/>
                  <a:pt x="9624" y="12123"/>
                  <a:pt x="9624" y="12080"/>
                </a:cubicBezTo>
                <a:cubicBezTo>
                  <a:pt x="9624" y="12072"/>
                  <a:pt x="9624" y="12063"/>
                  <a:pt x="9624" y="12055"/>
                </a:cubicBezTo>
                <a:cubicBezTo>
                  <a:pt x="9624" y="11966"/>
                  <a:pt x="9607" y="11894"/>
                  <a:pt x="9599" y="11807"/>
                </a:cubicBezTo>
                <a:cubicBezTo>
                  <a:pt x="9599" y="11708"/>
                  <a:pt x="9599" y="11675"/>
                  <a:pt x="9599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46640" y="4027320"/>
            <a:ext cx="1872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9575" y="11261"/>
                </a:moveTo>
                <a:cubicBezTo>
                  <a:pt x="9612" y="11160"/>
                  <a:pt x="9584" y="11183"/>
                  <a:pt x="9624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54280" y="4125960"/>
            <a:ext cx="303480" cy="23184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9872" y="11509"/>
                </a:moveTo>
                <a:cubicBezTo>
                  <a:pt x="9908" y="11639"/>
                  <a:pt x="9973" y="11817"/>
                  <a:pt x="9996" y="11956"/>
                </a:cubicBezTo>
                <a:cubicBezTo>
                  <a:pt x="9996" y="12005"/>
                  <a:pt x="9996" y="12022"/>
                  <a:pt x="9996" y="12055"/>
                </a:cubicBezTo>
                <a:cubicBezTo>
                  <a:pt x="9996" y="12119"/>
                  <a:pt x="9972" y="11987"/>
                  <a:pt x="9971" y="11981"/>
                </a:cubicBezTo>
                <a:cubicBezTo>
                  <a:pt x="9956" y="11899"/>
                  <a:pt x="9978" y="11786"/>
                  <a:pt x="9996" y="11708"/>
                </a:cubicBezTo>
                <a:cubicBezTo>
                  <a:pt x="10017" y="11612"/>
                  <a:pt x="10051" y="11503"/>
                  <a:pt x="10145" y="11460"/>
                </a:cubicBezTo>
                <a:cubicBezTo>
                  <a:pt x="10175" y="11446"/>
                  <a:pt x="10256" y="11488"/>
                  <a:pt x="10269" y="11509"/>
                </a:cubicBezTo>
                <a:cubicBezTo>
                  <a:pt x="10317" y="11585"/>
                  <a:pt x="10316" y="11720"/>
                  <a:pt x="10344" y="11807"/>
                </a:cubicBezTo>
                <a:cubicBezTo>
                  <a:pt x="10374" y="11903"/>
                  <a:pt x="10425" y="11982"/>
                  <a:pt x="10492" y="12055"/>
                </a:cubicBezTo>
                <a:cubicBezTo>
                  <a:pt x="10534" y="12101"/>
                  <a:pt x="10604" y="12122"/>
                  <a:pt x="10666" y="12105"/>
                </a:cubicBezTo>
                <a:cubicBezTo>
                  <a:pt x="10683" y="12097"/>
                  <a:pt x="10699" y="12088"/>
                  <a:pt x="10716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0120" y="4152960"/>
            <a:ext cx="312840" cy="133200"/>
          </a:xfrm>
          <a:custGeom>
            <a:avLst/>
            <a:gdLst/>
            <a:ahLst/>
            <a:rect l="l" t="t" r="r" b="b"/>
            <a:pathLst>
              <a:path w="869" h="373">
                <a:moveTo>
                  <a:pt x="10691" y="11534"/>
                </a:moveTo>
                <a:cubicBezTo>
                  <a:pt x="10664" y="11543"/>
                  <a:pt x="10652" y="11570"/>
                  <a:pt x="10666" y="11609"/>
                </a:cubicBezTo>
                <a:cubicBezTo>
                  <a:pt x="10691" y="11677"/>
                  <a:pt x="10749" y="11772"/>
                  <a:pt x="10815" y="11807"/>
                </a:cubicBezTo>
                <a:cubicBezTo>
                  <a:pt x="10940" y="11874"/>
                  <a:pt x="11073" y="11901"/>
                  <a:pt x="11212" y="11906"/>
                </a:cubicBezTo>
                <a:cubicBezTo>
                  <a:pt x="11338" y="11911"/>
                  <a:pt x="11397" y="11854"/>
                  <a:pt x="11460" y="11757"/>
                </a:cubicBezTo>
                <a:cubicBezTo>
                  <a:pt x="11516" y="11670"/>
                  <a:pt x="11525" y="11657"/>
                  <a:pt x="11534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95840" y="4116240"/>
            <a:ext cx="330120" cy="27792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11460" y="11435"/>
                </a:moveTo>
                <a:cubicBezTo>
                  <a:pt x="11337" y="11480"/>
                  <a:pt x="11288" y="11553"/>
                  <a:pt x="11187" y="11633"/>
                </a:cubicBezTo>
                <a:cubicBezTo>
                  <a:pt x="11086" y="11713"/>
                  <a:pt x="11007" y="11813"/>
                  <a:pt x="10914" y="11906"/>
                </a:cubicBezTo>
                <a:cubicBezTo>
                  <a:pt x="10818" y="12002"/>
                  <a:pt x="10729" y="12079"/>
                  <a:pt x="10616" y="12154"/>
                </a:cubicBezTo>
                <a:cubicBezTo>
                  <a:pt x="10591" y="12171"/>
                  <a:pt x="10567" y="12187"/>
                  <a:pt x="10542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97160" y="4500720"/>
            <a:ext cx="768240" cy="196560"/>
          </a:xfrm>
          <a:custGeom>
            <a:avLst/>
            <a:gdLst/>
            <a:ahLst/>
            <a:rect l="l" t="t" r="r" b="b"/>
            <a:pathLst>
              <a:path w="2134" h="546">
                <a:moveTo>
                  <a:pt x="9029" y="12973"/>
                </a:moveTo>
                <a:cubicBezTo>
                  <a:pt x="8952" y="13011"/>
                  <a:pt x="8937" y="13010"/>
                  <a:pt x="8905" y="13047"/>
                </a:cubicBezTo>
                <a:cubicBezTo>
                  <a:pt x="8953" y="13023"/>
                  <a:pt x="8954" y="13017"/>
                  <a:pt x="9004" y="12998"/>
                </a:cubicBezTo>
                <a:cubicBezTo>
                  <a:pt x="9137" y="12947"/>
                  <a:pt x="9268" y="12900"/>
                  <a:pt x="9401" y="12849"/>
                </a:cubicBezTo>
                <a:cubicBezTo>
                  <a:pt x="9582" y="12779"/>
                  <a:pt x="9779" y="12733"/>
                  <a:pt x="9971" y="12700"/>
                </a:cubicBezTo>
                <a:cubicBezTo>
                  <a:pt x="10169" y="12666"/>
                  <a:pt x="10369" y="12652"/>
                  <a:pt x="10567" y="12626"/>
                </a:cubicBezTo>
                <a:cubicBezTo>
                  <a:pt x="10668" y="12613"/>
                  <a:pt x="10848" y="12591"/>
                  <a:pt x="10939" y="12551"/>
                </a:cubicBezTo>
                <a:cubicBezTo>
                  <a:pt x="10964" y="12535"/>
                  <a:pt x="10988" y="12518"/>
                  <a:pt x="11013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6840" y="4724280"/>
            <a:ext cx="54000" cy="285840"/>
          </a:xfrm>
          <a:custGeom>
            <a:avLst/>
            <a:gdLst/>
            <a:ahLst/>
            <a:rect l="l" t="t" r="r" b="b"/>
            <a:pathLst>
              <a:path w="150" h="794">
                <a:moveTo>
                  <a:pt x="10021" y="13122"/>
                </a:moveTo>
                <a:cubicBezTo>
                  <a:pt x="10067" y="13326"/>
                  <a:pt x="10062" y="13477"/>
                  <a:pt x="10096" y="13667"/>
                </a:cubicBezTo>
                <a:cubicBezTo>
                  <a:pt x="10108" y="13733"/>
                  <a:pt x="10134" y="13810"/>
                  <a:pt x="10145" y="13866"/>
                </a:cubicBezTo>
                <a:cubicBezTo>
                  <a:pt x="10145" y="13907"/>
                  <a:pt x="10137" y="13923"/>
                  <a:pt x="10170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0" y="4411800"/>
            <a:ext cx="204480" cy="9360"/>
          </a:xfrm>
          <a:custGeom>
            <a:avLst/>
            <a:gdLst/>
            <a:ahLst/>
            <a:rect l="l" t="t" r="r" b="b"/>
            <a:pathLst>
              <a:path w="571" h="25">
                <a:moveTo>
                  <a:pt x="15429" y="12278"/>
                </a:moveTo>
                <a:cubicBezTo>
                  <a:pt x="15548" y="12255"/>
                  <a:pt x="15654" y="12254"/>
                  <a:pt x="15776" y="12254"/>
                </a:cubicBezTo>
                <a:cubicBezTo>
                  <a:pt x="15850" y="12254"/>
                  <a:pt x="15925" y="12254"/>
                  <a:pt x="15999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9720" y="4491000"/>
            <a:ext cx="125280" cy="190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15528" y="12526"/>
                </a:moveTo>
                <a:cubicBezTo>
                  <a:pt x="15647" y="12510"/>
                  <a:pt x="15761" y="12491"/>
                  <a:pt x="15875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83200" y="4152960"/>
            <a:ext cx="17640" cy="482400"/>
          </a:xfrm>
          <a:custGeom>
            <a:avLst/>
            <a:gdLst/>
            <a:ahLst/>
            <a:rect l="l" t="t" r="r" b="b"/>
            <a:pathLst>
              <a:path w="51" h="1341">
                <a:moveTo>
                  <a:pt x="16619" y="11534"/>
                </a:moveTo>
                <a:cubicBezTo>
                  <a:pt x="16636" y="11810"/>
                  <a:pt x="16644" y="12077"/>
                  <a:pt x="16644" y="12353"/>
                </a:cubicBezTo>
                <a:cubicBezTo>
                  <a:pt x="16644" y="12531"/>
                  <a:pt x="16650" y="12697"/>
                  <a:pt x="16669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7720" y="4170240"/>
            <a:ext cx="866520" cy="420840"/>
          </a:xfrm>
          <a:custGeom>
            <a:avLst/>
            <a:gdLst/>
            <a:ahLst/>
            <a:rect l="l" t="t" r="r" b="b"/>
            <a:pathLst>
              <a:path w="2407" h="1167">
                <a:moveTo>
                  <a:pt x="9327" y="11584"/>
                </a:moveTo>
                <a:cubicBezTo>
                  <a:pt x="9382" y="11619"/>
                  <a:pt x="9444" y="11679"/>
                  <a:pt x="9500" y="11708"/>
                </a:cubicBezTo>
                <a:cubicBezTo>
                  <a:pt x="9615" y="11768"/>
                  <a:pt x="9751" y="11809"/>
                  <a:pt x="9872" y="11857"/>
                </a:cubicBezTo>
                <a:cubicBezTo>
                  <a:pt x="10053" y="11928"/>
                  <a:pt x="10234" y="11993"/>
                  <a:pt x="10418" y="12055"/>
                </a:cubicBezTo>
                <a:cubicBezTo>
                  <a:pt x="10623" y="12124"/>
                  <a:pt x="10824" y="12222"/>
                  <a:pt x="11013" y="12328"/>
                </a:cubicBezTo>
                <a:cubicBezTo>
                  <a:pt x="11225" y="12447"/>
                  <a:pt x="11417" y="12589"/>
                  <a:pt x="11633" y="12700"/>
                </a:cubicBezTo>
                <a:cubicBezTo>
                  <a:pt x="11666" y="12717"/>
                  <a:pt x="11700" y="12733"/>
                  <a:pt x="11733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0"/>
            <a:ext cx="974520" cy="401760"/>
          </a:xfrm>
          <a:custGeom>
            <a:avLst/>
            <a:gdLst/>
            <a:ahLst/>
            <a:rect l="l" t="t" r="r" b="b"/>
            <a:pathLst>
              <a:path w="2705" h="1117">
                <a:moveTo>
                  <a:pt x="12278" y="12700"/>
                </a:moveTo>
                <a:cubicBezTo>
                  <a:pt x="12424" y="12747"/>
                  <a:pt x="12555" y="12770"/>
                  <a:pt x="12700" y="12799"/>
                </a:cubicBezTo>
                <a:cubicBezTo>
                  <a:pt x="12838" y="12827"/>
                  <a:pt x="12992" y="12873"/>
                  <a:pt x="13122" y="12923"/>
                </a:cubicBezTo>
                <a:cubicBezTo>
                  <a:pt x="13291" y="12989"/>
                  <a:pt x="13452" y="13076"/>
                  <a:pt x="13618" y="13146"/>
                </a:cubicBezTo>
                <a:cubicBezTo>
                  <a:pt x="13790" y="13218"/>
                  <a:pt x="13972" y="13285"/>
                  <a:pt x="14139" y="13370"/>
                </a:cubicBezTo>
                <a:cubicBezTo>
                  <a:pt x="14289" y="13447"/>
                  <a:pt x="14420" y="13530"/>
                  <a:pt x="14560" y="13618"/>
                </a:cubicBezTo>
                <a:cubicBezTo>
                  <a:pt x="14681" y="13694"/>
                  <a:pt x="14821" y="13778"/>
                  <a:pt x="14957" y="13816"/>
                </a:cubicBezTo>
                <a:cubicBezTo>
                  <a:pt x="14965" y="13816"/>
                  <a:pt x="14974" y="13816"/>
                  <a:pt x="14982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67200" y="2340000"/>
            <a:ext cx="15084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3841" y="6524"/>
                </a:moveTo>
                <a:cubicBezTo>
                  <a:pt x="13841" y="6549"/>
                  <a:pt x="13841" y="6573"/>
                  <a:pt x="13841" y="6598"/>
                </a:cubicBezTo>
                <a:cubicBezTo>
                  <a:pt x="13780" y="6598"/>
                  <a:pt x="13794" y="6588"/>
                  <a:pt x="13767" y="6548"/>
                </a:cubicBezTo>
                <a:cubicBezTo>
                  <a:pt x="13725" y="6485"/>
                  <a:pt x="13715" y="6507"/>
                  <a:pt x="13667" y="6524"/>
                </a:cubicBezTo>
                <a:cubicBezTo>
                  <a:pt x="13638" y="6534"/>
                  <a:pt x="13616" y="6585"/>
                  <a:pt x="13593" y="6623"/>
                </a:cubicBezTo>
                <a:cubicBezTo>
                  <a:pt x="13558" y="6681"/>
                  <a:pt x="13529" y="6756"/>
                  <a:pt x="13519" y="6821"/>
                </a:cubicBezTo>
                <a:cubicBezTo>
                  <a:pt x="13507" y="6893"/>
                  <a:pt x="13512" y="6987"/>
                  <a:pt x="13543" y="7045"/>
                </a:cubicBezTo>
                <a:cubicBezTo>
                  <a:pt x="13573" y="7102"/>
                  <a:pt x="13601" y="7132"/>
                  <a:pt x="13667" y="7144"/>
                </a:cubicBezTo>
                <a:cubicBezTo>
                  <a:pt x="13766" y="7162"/>
                  <a:pt x="13815" y="7115"/>
                  <a:pt x="13891" y="7094"/>
                </a:cubicBezTo>
                <a:cubicBezTo>
                  <a:pt x="13907" y="7094"/>
                  <a:pt x="13924" y="7094"/>
                  <a:pt x="13940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60960" y="2340000"/>
            <a:ext cx="2779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4337" y="6499"/>
                </a:moveTo>
                <a:cubicBezTo>
                  <a:pt x="14377" y="6499"/>
                  <a:pt x="14417" y="6504"/>
                  <a:pt x="14436" y="6548"/>
                </a:cubicBezTo>
                <a:cubicBezTo>
                  <a:pt x="14466" y="6616"/>
                  <a:pt x="14495" y="6659"/>
                  <a:pt x="14536" y="6722"/>
                </a:cubicBezTo>
                <a:cubicBezTo>
                  <a:pt x="14576" y="6782"/>
                  <a:pt x="14646" y="6850"/>
                  <a:pt x="14709" y="6896"/>
                </a:cubicBezTo>
                <a:cubicBezTo>
                  <a:pt x="14774" y="6943"/>
                  <a:pt x="14850" y="7003"/>
                  <a:pt x="14932" y="7020"/>
                </a:cubicBezTo>
                <a:cubicBezTo>
                  <a:pt x="14968" y="7028"/>
                  <a:pt x="15043" y="7064"/>
                  <a:pt x="15081" y="7045"/>
                </a:cubicBezTo>
                <a:cubicBezTo>
                  <a:pt x="15104" y="7022"/>
                  <a:pt x="15112" y="7018"/>
                  <a:pt x="15106" y="69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3680" y="2367000"/>
            <a:ext cx="258480" cy="214200"/>
          </a:xfrm>
          <a:custGeom>
            <a:avLst/>
            <a:gdLst/>
            <a:ahLst/>
            <a:rect l="l" t="t" r="r" b="b"/>
            <a:pathLst>
              <a:path w="720" h="597">
                <a:moveTo>
                  <a:pt x="15007" y="6573"/>
                </a:moveTo>
                <a:cubicBezTo>
                  <a:pt x="14892" y="6639"/>
                  <a:pt x="14835" y="6714"/>
                  <a:pt x="14734" y="6796"/>
                </a:cubicBezTo>
                <a:cubicBezTo>
                  <a:pt x="14631" y="6880"/>
                  <a:pt x="14532" y="6964"/>
                  <a:pt x="14436" y="7045"/>
                </a:cubicBezTo>
                <a:cubicBezTo>
                  <a:pt x="14357" y="7097"/>
                  <a:pt x="14329" y="7117"/>
                  <a:pt x="14288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803240" y="1320840"/>
            <a:ext cx="1590840" cy="492120"/>
          </a:xfrm>
          <a:custGeom>
            <a:avLst/>
            <a:gdLst/>
            <a:ahLst/>
            <a:rect l="l" t="t" r="r" b="b"/>
            <a:pathLst>
              <a:path w="4416" h="1365">
                <a:moveTo>
                  <a:pt x="5556" y="4217"/>
                </a:moveTo>
                <a:cubicBezTo>
                  <a:pt x="5522" y="4234"/>
                  <a:pt x="5492" y="4245"/>
                  <a:pt x="5457" y="4266"/>
                </a:cubicBezTo>
                <a:cubicBezTo>
                  <a:pt x="5340" y="4336"/>
                  <a:pt x="5273" y="4386"/>
                  <a:pt x="5184" y="4490"/>
                </a:cubicBezTo>
                <a:cubicBezTo>
                  <a:pt x="5091" y="4599"/>
                  <a:pt x="4972" y="4733"/>
                  <a:pt x="5011" y="4887"/>
                </a:cubicBezTo>
                <a:cubicBezTo>
                  <a:pt x="5034" y="4977"/>
                  <a:pt x="5095" y="5018"/>
                  <a:pt x="5184" y="5035"/>
                </a:cubicBezTo>
                <a:cubicBezTo>
                  <a:pt x="5278" y="5052"/>
                  <a:pt x="5392" y="5034"/>
                  <a:pt x="5482" y="5011"/>
                </a:cubicBezTo>
                <a:cubicBezTo>
                  <a:pt x="5611" y="4977"/>
                  <a:pt x="5730" y="4933"/>
                  <a:pt x="5854" y="4887"/>
                </a:cubicBezTo>
                <a:cubicBezTo>
                  <a:pt x="5921" y="4864"/>
                  <a:pt x="5942" y="4863"/>
                  <a:pt x="5953" y="4812"/>
                </a:cubicBezTo>
              </a:path>
              <a:path w="4416" h="1365">
                <a:moveTo>
                  <a:pt x="6400" y="4142"/>
                </a:moveTo>
                <a:cubicBezTo>
                  <a:pt x="6357" y="4174"/>
                  <a:pt x="6303" y="4191"/>
                  <a:pt x="6251" y="4217"/>
                </a:cubicBezTo>
                <a:cubicBezTo>
                  <a:pt x="6189" y="4248"/>
                  <a:pt x="6167" y="4315"/>
                  <a:pt x="6102" y="4341"/>
                </a:cubicBezTo>
                <a:cubicBezTo>
                  <a:pt x="6062" y="4357"/>
                  <a:pt x="6070" y="4379"/>
                  <a:pt x="6102" y="4415"/>
                </a:cubicBezTo>
                <a:cubicBezTo>
                  <a:pt x="6140" y="4458"/>
                  <a:pt x="6199" y="4451"/>
                  <a:pt x="6251" y="4465"/>
                </a:cubicBezTo>
                <a:cubicBezTo>
                  <a:pt x="6337" y="4488"/>
                  <a:pt x="6416" y="4503"/>
                  <a:pt x="6499" y="4539"/>
                </a:cubicBezTo>
                <a:cubicBezTo>
                  <a:pt x="6565" y="4567"/>
                  <a:pt x="6594" y="4623"/>
                  <a:pt x="6598" y="4688"/>
                </a:cubicBezTo>
                <a:cubicBezTo>
                  <a:pt x="6603" y="4779"/>
                  <a:pt x="6551" y="4806"/>
                  <a:pt x="6474" y="4837"/>
                </a:cubicBezTo>
                <a:cubicBezTo>
                  <a:pt x="6403" y="4865"/>
                  <a:pt x="6345" y="4888"/>
                  <a:pt x="6276" y="4911"/>
                </a:cubicBezTo>
                <a:cubicBezTo>
                  <a:pt x="6235" y="4931"/>
                  <a:pt x="6229" y="4940"/>
                  <a:pt x="6201" y="4936"/>
                </a:cubicBezTo>
              </a:path>
              <a:path w="4416" h="1365">
                <a:moveTo>
                  <a:pt x="7392" y="4291"/>
                </a:moveTo>
                <a:cubicBezTo>
                  <a:pt x="7383" y="4264"/>
                  <a:pt x="7356" y="4252"/>
                  <a:pt x="7317" y="4266"/>
                </a:cubicBezTo>
                <a:cubicBezTo>
                  <a:pt x="7246" y="4292"/>
                  <a:pt x="7219" y="4350"/>
                  <a:pt x="7169" y="4390"/>
                </a:cubicBezTo>
                <a:cubicBezTo>
                  <a:pt x="7099" y="4446"/>
                  <a:pt x="7076" y="4484"/>
                  <a:pt x="7045" y="4564"/>
                </a:cubicBezTo>
                <a:cubicBezTo>
                  <a:pt x="7019" y="4631"/>
                  <a:pt x="7003" y="4669"/>
                  <a:pt x="7045" y="4738"/>
                </a:cubicBezTo>
                <a:cubicBezTo>
                  <a:pt x="7091" y="4814"/>
                  <a:pt x="7114" y="4816"/>
                  <a:pt x="7193" y="4837"/>
                </a:cubicBezTo>
                <a:cubicBezTo>
                  <a:pt x="7331" y="4873"/>
                  <a:pt x="7447" y="4845"/>
                  <a:pt x="7590" y="4812"/>
                </a:cubicBezTo>
                <a:cubicBezTo>
                  <a:pt x="7659" y="4796"/>
                  <a:pt x="7725" y="4766"/>
                  <a:pt x="7789" y="4738"/>
                </a:cubicBezTo>
              </a:path>
              <a:path w="4416" h="1365">
                <a:moveTo>
                  <a:pt x="7789" y="3746"/>
                </a:moveTo>
                <a:cubicBezTo>
                  <a:pt x="7851" y="3730"/>
                  <a:pt x="7916" y="3680"/>
                  <a:pt x="7987" y="3671"/>
                </a:cubicBezTo>
                <a:cubicBezTo>
                  <a:pt x="8046" y="3663"/>
                  <a:pt x="8140" y="3654"/>
                  <a:pt x="8186" y="3696"/>
                </a:cubicBezTo>
                <a:cubicBezTo>
                  <a:pt x="8233" y="3739"/>
                  <a:pt x="8235" y="3757"/>
                  <a:pt x="8235" y="3820"/>
                </a:cubicBezTo>
                <a:cubicBezTo>
                  <a:pt x="8235" y="3893"/>
                  <a:pt x="8186" y="3941"/>
                  <a:pt x="8136" y="3994"/>
                </a:cubicBezTo>
                <a:cubicBezTo>
                  <a:pt x="8108" y="4024"/>
                  <a:pt x="8054" y="4081"/>
                  <a:pt x="8037" y="4118"/>
                </a:cubicBezTo>
                <a:cubicBezTo>
                  <a:pt x="8019" y="4159"/>
                  <a:pt x="8072" y="4197"/>
                  <a:pt x="8111" y="4192"/>
                </a:cubicBezTo>
                <a:cubicBezTo>
                  <a:pt x="8181" y="4184"/>
                  <a:pt x="8261" y="4150"/>
                  <a:pt x="8334" y="4142"/>
                </a:cubicBezTo>
                <a:cubicBezTo>
                  <a:pt x="8426" y="4142"/>
                  <a:pt x="8468" y="4139"/>
                  <a:pt x="8533" y="4118"/>
                </a:cubicBezTo>
              </a:path>
              <a:path w="4416" h="1365">
                <a:moveTo>
                  <a:pt x="8781" y="4266"/>
                </a:moveTo>
                <a:cubicBezTo>
                  <a:pt x="8773" y="4266"/>
                  <a:pt x="8764" y="4266"/>
                  <a:pt x="8756" y="4266"/>
                </a:cubicBezTo>
                <a:cubicBezTo>
                  <a:pt x="8756" y="4307"/>
                  <a:pt x="8766" y="4332"/>
                  <a:pt x="8781" y="4366"/>
                </a:cubicBezTo>
                <a:cubicBezTo>
                  <a:pt x="8805" y="4422"/>
                  <a:pt x="8855" y="4480"/>
                  <a:pt x="8905" y="4514"/>
                </a:cubicBezTo>
                <a:cubicBezTo>
                  <a:pt x="8967" y="4556"/>
                  <a:pt x="8971" y="4622"/>
                  <a:pt x="9029" y="4663"/>
                </a:cubicBezTo>
                <a:cubicBezTo>
                  <a:pt x="9079" y="4699"/>
                  <a:pt x="9175" y="4724"/>
                  <a:pt x="9203" y="4787"/>
                </a:cubicBezTo>
                <a:cubicBezTo>
                  <a:pt x="9229" y="4846"/>
                  <a:pt x="9217" y="4794"/>
                  <a:pt x="9203" y="4787"/>
                </a:cubicBezTo>
                <a:cubicBezTo>
                  <a:pt x="9195" y="4787"/>
                  <a:pt x="9186" y="4787"/>
                  <a:pt x="9178" y="4787"/>
                </a:cubicBezTo>
              </a:path>
              <a:path w="4416" h="1365">
                <a:moveTo>
                  <a:pt x="8731" y="4663"/>
                </a:moveTo>
                <a:cubicBezTo>
                  <a:pt x="8794" y="4553"/>
                  <a:pt x="8852" y="4491"/>
                  <a:pt x="8954" y="4415"/>
                </a:cubicBezTo>
                <a:cubicBezTo>
                  <a:pt x="9039" y="4352"/>
                  <a:pt x="9135" y="4294"/>
                  <a:pt x="9227" y="4242"/>
                </a:cubicBezTo>
                <a:cubicBezTo>
                  <a:pt x="9279" y="4212"/>
                  <a:pt x="9349" y="4163"/>
                  <a:pt x="9401" y="4142"/>
                </a:cubicBezTo>
                <a:cubicBezTo>
                  <a:pt x="9409" y="4142"/>
                  <a:pt x="9418" y="4142"/>
                  <a:pt x="9426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1040" y="1741320"/>
            <a:ext cx="5303880" cy="723960"/>
          </a:xfrm>
          <a:custGeom>
            <a:avLst/>
            <a:gdLst/>
            <a:ahLst/>
            <a:rect l="l" t="t" r="r" b="b"/>
            <a:pathLst>
              <a:path w="14735" h="2010">
                <a:moveTo>
                  <a:pt x="4862" y="5283"/>
                </a:moveTo>
                <a:cubicBezTo>
                  <a:pt x="4874" y="5279"/>
                  <a:pt x="4894" y="5260"/>
                  <a:pt x="4936" y="5259"/>
                </a:cubicBezTo>
                <a:cubicBezTo>
                  <a:pt x="5039" y="5256"/>
                  <a:pt x="5135" y="5243"/>
                  <a:pt x="5234" y="5234"/>
                </a:cubicBezTo>
                <a:cubicBezTo>
                  <a:pt x="5413" y="5218"/>
                  <a:pt x="5601" y="5220"/>
                  <a:pt x="5779" y="5209"/>
                </a:cubicBezTo>
                <a:cubicBezTo>
                  <a:pt x="5978" y="5197"/>
                  <a:pt x="6176" y="5197"/>
                  <a:pt x="6375" y="5184"/>
                </a:cubicBezTo>
                <a:cubicBezTo>
                  <a:pt x="6716" y="5162"/>
                  <a:pt x="7074" y="5134"/>
                  <a:pt x="7417" y="5159"/>
                </a:cubicBezTo>
                <a:cubicBezTo>
                  <a:pt x="7722" y="5182"/>
                  <a:pt x="8029" y="5193"/>
                  <a:pt x="8334" y="5209"/>
                </a:cubicBezTo>
                <a:cubicBezTo>
                  <a:pt x="8521" y="5219"/>
                  <a:pt x="8720" y="5211"/>
                  <a:pt x="8905" y="5234"/>
                </a:cubicBezTo>
                <a:cubicBezTo>
                  <a:pt x="9013" y="5247"/>
                  <a:pt x="9124" y="5262"/>
                  <a:pt x="9227" y="5283"/>
                </a:cubicBezTo>
                <a:cubicBezTo>
                  <a:pt x="9279" y="5283"/>
                  <a:pt x="9297" y="5284"/>
                  <a:pt x="9327" y="5308"/>
                </a:cubicBezTo>
              </a:path>
              <a:path w="14735" h="2010">
                <a:moveTo>
                  <a:pt x="6276" y="6028"/>
                </a:moveTo>
                <a:cubicBezTo>
                  <a:pt x="6218" y="5984"/>
                  <a:pt x="6220" y="5992"/>
                  <a:pt x="6152" y="6003"/>
                </a:cubicBezTo>
                <a:cubicBezTo>
                  <a:pt x="6062" y="6018"/>
                  <a:pt x="6005" y="6052"/>
                  <a:pt x="5928" y="6102"/>
                </a:cubicBezTo>
                <a:cubicBezTo>
                  <a:pt x="5814" y="6177"/>
                  <a:pt x="5704" y="6256"/>
                  <a:pt x="5606" y="6350"/>
                </a:cubicBezTo>
                <a:cubicBezTo>
                  <a:pt x="5508" y="6443"/>
                  <a:pt x="5429" y="6498"/>
                  <a:pt x="5457" y="6648"/>
                </a:cubicBezTo>
                <a:cubicBezTo>
                  <a:pt x="5470" y="6721"/>
                  <a:pt x="5591" y="6711"/>
                  <a:pt x="5631" y="6722"/>
                </a:cubicBezTo>
                <a:cubicBezTo>
                  <a:pt x="5727" y="6750"/>
                  <a:pt x="5803" y="6708"/>
                  <a:pt x="5904" y="6697"/>
                </a:cubicBezTo>
                <a:cubicBezTo>
                  <a:pt x="6002" y="6686"/>
                  <a:pt x="6063" y="6642"/>
                  <a:pt x="6152" y="6598"/>
                </a:cubicBezTo>
              </a:path>
              <a:path w="14735" h="2010">
                <a:moveTo>
                  <a:pt x="6548" y="6152"/>
                </a:moveTo>
                <a:cubicBezTo>
                  <a:pt x="6499" y="6229"/>
                  <a:pt x="6449" y="6301"/>
                  <a:pt x="6400" y="6375"/>
                </a:cubicBezTo>
                <a:cubicBezTo>
                  <a:pt x="6362" y="6432"/>
                  <a:pt x="6354" y="6531"/>
                  <a:pt x="6350" y="6598"/>
                </a:cubicBezTo>
                <a:cubicBezTo>
                  <a:pt x="6346" y="6664"/>
                  <a:pt x="6378" y="6730"/>
                  <a:pt x="6449" y="6747"/>
                </a:cubicBezTo>
                <a:cubicBezTo>
                  <a:pt x="6530" y="6766"/>
                  <a:pt x="6630" y="6699"/>
                  <a:pt x="6697" y="6672"/>
                </a:cubicBezTo>
                <a:cubicBezTo>
                  <a:pt x="6820" y="6623"/>
                  <a:pt x="6917" y="6535"/>
                  <a:pt x="6995" y="6424"/>
                </a:cubicBezTo>
                <a:cubicBezTo>
                  <a:pt x="7038" y="6362"/>
                  <a:pt x="7044" y="6264"/>
                  <a:pt x="7020" y="6201"/>
                </a:cubicBezTo>
                <a:cubicBezTo>
                  <a:pt x="6984" y="6105"/>
                  <a:pt x="6925" y="6068"/>
                  <a:pt x="6821" y="6052"/>
                </a:cubicBezTo>
                <a:cubicBezTo>
                  <a:pt x="6721" y="6037"/>
                  <a:pt x="6636" y="6060"/>
                  <a:pt x="6548" y="6102"/>
                </a:cubicBezTo>
                <a:cubicBezTo>
                  <a:pt x="6495" y="6129"/>
                  <a:pt x="6475" y="6141"/>
                  <a:pt x="6449" y="6176"/>
                </a:cubicBezTo>
              </a:path>
              <a:path w="14735" h="2010">
                <a:moveTo>
                  <a:pt x="7317" y="5531"/>
                </a:moveTo>
                <a:cubicBezTo>
                  <a:pt x="7342" y="5663"/>
                  <a:pt x="7367" y="5771"/>
                  <a:pt x="7367" y="5904"/>
                </a:cubicBezTo>
                <a:cubicBezTo>
                  <a:pt x="7367" y="6022"/>
                  <a:pt x="7392" y="6130"/>
                  <a:pt x="7392" y="6251"/>
                </a:cubicBezTo>
                <a:cubicBezTo>
                  <a:pt x="7392" y="6350"/>
                  <a:pt x="7385" y="6475"/>
                  <a:pt x="7367" y="6573"/>
                </a:cubicBezTo>
                <a:cubicBezTo>
                  <a:pt x="7356" y="6631"/>
                  <a:pt x="7342" y="6806"/>
                  <a:pt x="7342" y="6747"/>
                </a:cubicBezTo>
                <a:cubicBezTo>
                  <a:pt x="7342" y="6739"/>
                  <a:pt x="7342" y="6730"/>
                  <a:pt x="7342" y="6722"/>
                </a:cubicBezTo>
              </a:path>
              <a:path w="14735" h="2010">
                <a:moveTo>
                  <a:pt x="7169" y="5904"/>
                </a:moveTo>
                <a:cubicBezTo>
                  <a:pt x="7144" y="5904"/>
                  <a:pt x="7136" y="5904"/>
                  <a:pt x="7119" y="5904"/>
                </a:cubicBezTo>
                <a:cubicBezTo>
                  <a:pt x="7168" y="5939"/>
                  <a:pt x="7201" y="5928"/>
                  <a:pt x="7268" y="5928"/>
                </a:cubicBezTo>
                <a:cubicBezTo>
                  <a:pt x="7450" y="5928"/>
                  <a:pt x="7640" y="5913"/>
                  <a:pt x="7813" y="5953"/>
                </a:cubicBezTo>
                <a:cubicBezTo>
                  <a:pt x="7858" y="5963"/>
                  <a:pt x="7873" y="5954"/>
                  <a:pt x="7913" y="5978"/>
                </a:cubicBezTo>
              </a:path>
              <a:path w="14735" h="2010">
                <a:moveTo>
                  <a:pt x="8161" y="6152"/>
                </a:moveTo>
                <a:cubicBezTo>
                  <a:pt x="8199" y="6201"/>
                  <a:pt x="8212" y="6249"/>
                  <a:pt x="8260" y="6300"/>
                </a:cubicBezTo>
                <a:cubicBezTo>
                  <a:pt x="8307" y="6350"/>
                  <a:pt x="8338" y="6417"/>
                  <a:pt x="8384" y="6474"/>
                </a:cubicBezTo>
                <a:cubicBezTo>
                  <a:pt x="8430" y="6531"/>
                  <a:pt x="8515" y="6645"/>
                  <a:pt x="8533" y="6722"/>
                </a:cubicBezTo>
                <a:cubicBezTo>
                  <a:pt x="8540" y="6750"/>
                  <a:pt x="8557" y="6829"/>
                  <a:pt x="8582" y="6846"/>
                </a:cubicBezTo>
                <a:cubicBezTo>
                  <a:pt x="8607" y="6846"/>
                  <a:pt x="8615" y="6846"/>
                  <a:pt x="8632" y="6846"/>
                </a:cubicBezTo>
              </a:path>
              <a:path w="14735" h="2010">
                <a:moveTo>
                  <a:pt x="8161" y="6648"/>
                </a:moveTo>
                <a:cubicBezTo>
                  <a:pt x="8264" y="6561"/>
                  <a:pt x="8346" y="6537"/>
                  <a:pt x="8458" y="6474"/>
                </a:cubicBezTo>
                <a:cubicBezTo>
                  <a:pt x="8597" y="6395"/>
                  <a:pt x="8740" y="6326"/>
                  <a:pt x="8880" y="6251"/>
                </a:cubicBezTo>
                <a:cubicBezTo>
                  <a:pt x="8964" y="6205"/>
                  <a:pt x="9014" y="6130"/>
                  <a:pt x="9079" y="6077"/>
                </a:cubicBezTo>
                <a:cubicBezTo>
                  <a:pt x="9122" y="6055"/>
                  <a:pt x="9133" y="6051"/>
                  <a:pt x="9153" y="6028"/>
                </a:cubicBezTo>
              </a:path>
              <a:path w="14735" h="2010">
                <a:moveTo>
                  <a:pt x="10443" y="5060"/>
                </a:moveTo>
                <a:cubicBezTo>
                  <a:pt x="10500" y="5060"/>
                  <a:pt x="10539" y="5076"/>
                  <a:pt x="10592" y="5085"/>
                </a:cubicBezTo>
                <a:cubicBezTo>
                  <a:pt x="10673" y="5099"/>
                  <a:pt x="10760" y="5092"/>
                  <a:pt x="10840" y="5110"/>
                </a:cubicBezTo>
                <a:cubicBezTo>
                  <a:pt x="10961" y="5137"/>
                  <a:pt x="11094" y="5127"/>
                  <a:pt x="11212" y="5159"/>
                </a:cubicBezTo>
                <a:cubicBezTo>
                  <a:pt x="11280" y="5178"/>
                  <a:pt x="11310" y="5209"/>
                  <a:pt x="11385" y="5209"/>
                </a:cubicBezTo>
              </a:path>
              <a:path w="14735" h="2010">
                <a:moveTo>
                  <a:pt x="10666" y="5556"/>
                </a:moveTo>
                <a:cubicBezTo>
                  <a:pt x="10658" y="5564"/>
                  <a:pt x="10649" y="5573"/>
                  <a:pt x="10641" y="5581"/>
                </a:cubicBezTo>
                <a:cubicBezTo>
                  <a:pt x="10761" y="5581"/>
                  <a:pt x="10872" y="5569"/>
                  <a:pt x="10988" y="5556"/>
                </a:cubicBezTo>
                <a:cubicBezTo>
                  <a:pt x="11085" y="5545"/>
                  <a:pt x="11190" y="5548"/>
                  <a:pt x="11286" y="5531"/>
                </a:cubicBezTo>
                <a:cubicBezTo>
                  <a:pt x="11374" y="5515"/>
                  <a:pt x="11443" y="5507"/>
                  <a:pt x="11534" y="5507"/>
                </a:cubicBezTo>
                <a:cubicBezTo>
                  <a:pt x="11542" y="5507"/>
                  <a:pt x="11551" y="5507"/>
                  <a:pt x="11559" y="5507"/>
                </a:cubicBezTo>
              </a:path>
              <a:path w="14735" h="2010">
                <a:moveTo>
                  <a:pt x="12576" y="4936"/>
                </a:moveTo>
                <a:cubicBezTo>
                  <a:pt x="12589" y="4898"/>
                  <a:pt x="12610" y="4911"/>
                  <a:pt x="12626" y="4887"/>
                </a:cubicBezTo>
                <a:cubicBezTo>
                  <a:pt x="12626" y="4862"/>
                  <a:pt x="12626" y="4854"/>
                  <a:pt x="12650" y="4862"/>
                </a:cubicBezTo>
                <a:cubicBezTo>
                  <a:pt x="12599" y="4914"/>
                  <a:pt x="12511" y="4972"/>
                  <a:pt x="12477" y="5035"/>
                </a:cubicBezTo>
                <a:cubicBezTo>
                  <a:pt x="12432" y="5118"/>
                  <a:pt x="12383" y="5185"/>
                  <a:pt x="12378" y="5283"/>
                </a:cubicBezTo>
                <a:cubicBezTo>
                  <a:pt x="12373" y="5372"/>
                  <a:pt x="12384" y="5411"/>
                  <a:pt x="12427" y="5482"/>
                </a:cubicBezTo>
                <a:cubicBezTo>
                  <a:pt x="12471" y="5555"/>
                  <a:pt x="12526" y="5583"/>
                  <a:pt x="12601" y="5606"/>
                </a:cubicBezTo>
                <a:cubicBezTo>
                  <a:pt x="12726" y="5645"/>
                  <a:pt x="12870" y="5631"/>
                  <a:pt x="12998" y="5606"/>
                </a:cubicBezTo>
                <a:cubicBezTo>
                  <a:pt x="13099" y="5586"/>
                  <a:pt x="13183" y="5531"/>
                  <a:pt x="13271" y="5482"/>
                </a:cubicBezTo>
              </a:path>
              <a:path w="14735" h="2010">
                <a:moveTo>
                  <a:pt x="13692" y="4862"/>
                </a:moveTo>
                <a:cubicBezTo>
                  <a:pt x="13645" y="4843"/>
                  <a:pt x="13570" y="4866"/>
                  <a:pt x="13519" y="4911"/>
                </a:cubicBezTo>
                <a:cubicBezTo>
                  <a:pt x="13407" y="5009"/>
                  <a:pt x="13277" y="5108"/>
                  <a:pt x="13196" y="5234"/>
                </a:cubicBezTo>
                <a:cubicBezTo>
                  <a:pt x="13153" y="5302"/>
                  <a:pt x="13079" y="5395"/>
                  <a:pt x="13097" y="5482"/>
                </a:cubicBezTo>
                <a:cubicBezTo>
                  <a:pt x="13112" y="5552"/>
                  <a:pt x="13174" y="5618"/>
                  <a:pt x="13246" y="5631"/>
                </a:cubicBezTo>
                <a:cubicBezTo>
                  <a:pt x="13371" y="5653"/>
                  <a:pt x="13499" y="5617"/>
                  <a:pt x="13618" y="5606"/>
                </a:cubicBezTo>
                <a:cubicBezTo>
                  <a:pt x="13726" y="5596"/>
                  <a:pt x="13768" y="5553"/>
                  <a:pt x="13866" y="5531"/>
                </a:cubicBezTo>
                <a:cubicBezTo>
                  <a:pt x="13882" y="5531"/>
                  <a:pt x="13899" y="5531"/>
                  <a:pt x="13915" y="5531"/>
                </a:cubicBezTo>
              </a:path>
              <a:path w="14735" h="2010">
                <a:moveTo>
                  <a:pt x="13171" y="4887"/>
                </a:moveTo>
                <a:cubicBezTo>
                  <a:pt x="13121" y="4887"/>
                  <a:pt x="13085" y="4878"/>
                  <a:pt x="13047" y="4911"/>
                </a:cubicBezTo>
                <a:cubicBezTo>
                  <a:pt x="13002" y="4951"/>
                  <a:pt x="12991" y="4960"/>
                  <a:pt x="12948" y="5011"/>
                </a:cubicBezTo>
                <a:cubicBezTo>
                  <a:pt x="12909" y="5049"/>
                  <a:pt x="12892" y="5051"/>
                  <a:pt x="12898" y="5085"/>
                </a:cubicBezTo>
                <a:cubicBezTo>
                  <a:pt x="12947" y="5134"/>
                  <a:pt x="12993" y="5168"/>
                  <a:pt x="13047" y="5209"/>
                </a:cubicBezTo>
                <a:cubicBezTo>
                  <a:pt x="13101" y="5250"/>
                  <a:pt x="13159" y="5277"/>
                  <a:pt x="13221" y="5308"/>
                </a:cubicBezTo>
                <a:cubicBezTo>
                  <a:pt x="13302" y="5348"/>
                  <a:pt x="13345" y="5338"/>
                  <a:pt x="13395" y="5432"/>
                </a:cubicBezTo>
                <a:cubicBezTo>
                  <a:pt x="13412" y="5463"/>
                  <a:pt x="13341" y="5563"/>
                  <a:pt x="13320" y="5581"/>
                </a:cubicBezTo>
                <a:cubicBezTo>
                  <a:pt x="13244" y="5643"/>
                  <a:pt x="13155" y="5700"/>
                  <a:pt x="13072" y="5755"/>
                </a:cubicBezTo>
                <a:cubicBezTo>
                  <a:pt x="13007" y="5798"/>
                  <a:pt x="12925" y="5855"/>
                  <a:pt x="12849" y="5879"/>
                </a:cubicBezTo>
                <a:cubicBezTo>
                  <a:pt x="12766" y="5905"/>
                  <a:pt x="12897" y="5804"/>
                  <a:pt x="12898" y="5804"/>
                </a:cubicBezTo>
              </a:path>
              <a:path w="14735" h="2010">
                <a:moveTo>
                  <a:pt x="14362" y="4936"/>
                </a:moveTo>
                <a:cubicBezTo>
                  <a:pt x="14374" y="4986"/>
                  <a:pt x="14393" y="5031"/>
                  <a:pt x="14412" y="5085"/>
                </a:cubicBezTo>
                <a:cubicBezTo>
                  <a:pt x="14452" y="5200"/>
                  <a:pt x="14492" y="5318"/>
                  <a:pt x="14536" y="5432"/>
                </a:cubicBezTo>
                <a:cubicBezTo>
                  <a:pt x="14567" y="5512"/>
                  <a:pt x="14621" y="5579"/>
                  <a:pt x="14660" y="5655"/>
                </a:cubicBezTo>
                <a:cubicBezTo>
                  <a:pt x="14688" y="5708"/>
                  <a:pt x="14717" y="5737"/>
                  <a:pt x="14759" y="5779"/>
                </a:cubicBezTo>
                <a:cubicBezTo>
                  <a:pt x="14789" y="5809"/>
                  <a:pt x="14793" y="5804"/>
                  <a:pt x="14833" y="5804"/>
                </a:cubicBezTo>
              </a:path>
              <a:path w="14735" h="2010">
                <a:moveTo>
                  <a:pt x="14387" y="5631"/>
                </a:moveTo>
                <a:cubicBezTo>
                  <a:pt x="14346" y="5604"/>
                  <a:pt x="14310" y="5571"/>
                  <a:pt x="14337" y="5507"/>
                </a:cubicBezTo>
                <a:cubicBezTo>
                  <a:pt x="14368" y="5434"/>
                  <a:pt x="14457" y="5360"/>
                  <a:pt x="14511" y="5308"/>
                </a:cubicBezTo>
                <a:cubicBezTo>
                  <a:pt x="14615" y="5209"/>
                  <a:pt x="14695" y="5148"/>
                  <a:pt x="14808" y="5060"/>
                </a:cubicBezTo>
                <a:cubicBezTo>
                  <a:pt x="14880" y="5004"/>
                  <a:pt x="14940" y="4968"/>
                  <a:pt x="15032" y="4961"/>
                </a:cubicBezTo>
                <a:cubicBezTo>
                  <a:pt x="15067" y="4961"/>
                  <a:pt x="15084" y="4966"/>
                  <a:pt x="15106" y="4986"/>
                </a:cubicBezTo>
              </a:path>
              <a:path w="14735" h="2010">
                <a:moveTo>
                  <a:pt x="17041" y="4887"/>
                </a:moveTo>
                <a:cubicBezTo>
                  <a:pt x="17115" y="4862"/>
                  <a:pt x="17021" y="4877"/>
                  <a:pt x="16991" y="4887"/>
                </a:cubicBezTo>
                <a:cubicBezTo>
                  <a:pt x="16906" y="4916"/>
                  <a:pt x="16798" y="4910"/>
                  <a:pt x="16718" y="4961"/>
                </a:cubicBezTo>
                <a:cubicBezTo>
                  <a:pt x="16669" y="4992"/>
                  <a:pt x="16613" y="5027"/>
                  <a:pt x="16570" y="5060"/>
                </a:cubicBezTo>
                <a:cubicBezTo>
                  <a:pt x="16632" y="5111"/>
                  <a:pt x="16699" y="5122"/>
                  <a:pt x="16768" y="5159"/>
                </a:cubicBezTo>
                <a:cubicBezTo>
                  <a:pt x="16864" y="5211"/>
                  <a:pt x="16979" y="5238"/>
                  <a:pt x="17066" y="5308"/>
                </a:cubicBezTo>
                <a:cubicBezTo>
                  <a:pt x="17141" y="5368"/>
                  <a:pt x="17206" y="5401"/>
                  <a:pt x="17140" y="5507"/>
                </a:cubicBezTo>
                <a:cubicBezTo>
                  <a:pt x="17092" y="5584"/>
                  <a:pt x="16972" y="5649"/>
                  <a:pt x="16892" y="5680"/>
                </a:cubicBezTo>
                <a:cubicBezTo>
                  <a:pt x="16804" y="5714"/>
                  <a:pt x="16701" y="5744"/>
                  <a:pt x="16619" y="5779"/>
                </a:cubicBezTo>
                <a:cubicBezTo>
                  <a:pt x="16566" y="5802"/>
                  <a:pt x="16574" y="5812"/>
                  <a:pt x="16520" y="5779"/>
                </a:cubicBezTo>
              </a:path>
              <a:path w="14735" h="2010">
                <a:moveTo>
                  <a:pt x="17363" y="5209"/>
                </a:moveTo>
                <a:cubicBezTo>
                  <a:pt x="17424" y="5209"/>
                  <a:pt x="17480" y="5244"/>
                  <a:pt x="17537" y="5234"/>
                </a:cubicBezTo>
                <a:cubicBezTo>
                  <a:pt x="17622" y="5219"/>
                  <a:pt x="17706" y="5196"/>
                  <a:pt x="17785" y="5159"/>
                </a:cubicBezTo>
                <a:cubicBezTo>
                  <a:pt x="17854" y="5127"/>
                  <a:pt x="17926" y="5112"/>
                  <a:pt x="17983" y="5060"/>
                </a:cubicBezTo>
                <a:cubicBezTo>
                  <a:pt x="18019" y="5027"/>
                  <a:pt x="18008" y="5010"/>
                  <a:pt x="18008" y="4961"/>
                </a:cubicBezTo>
                <a:cubicBezTo>
                  <a:pt x="17957" y="4922"/>
                  <a:pt x="17876" y="4926"/>
                  <a:pt x="17810" y="4936"/>
                </a:cubicBezTo>
                <a:cubicBezTo>
                  <a:pt x="17651" y="4961"/>
                  <a:pt x="17544" y="5022"/>
                  <a:pt x="17413" y="5110"/>
                </a:cubicBezTo>
                <a:cubicBezTo>
                  <a:pt x="17309" y="5180"/>
                  <a:pt x="17231" y="5251"/>
                  <a:pt x="17214" y="5383"/>
                </a:cubicBezTo>
                <a:cubicBezTo>
                  <a:pt x="17197" y="5520"/>
                  <a:pt x="17282" y="5555"/>
                  <a:pt x="17388" y="5606"/>
                </a:cubicBezTo>
                <a:cubicBezTo>
                  <a:pt x="17494" y="5657"/>
                  <a:pt x="17617" y="5671"/>
                  <a:pt x="17735" y="5655"/>
                </a:cubicBezTo>
                <a:cubicBezTo>
                  <a:pt x="17835" y="5631"/>
                  <a:pt x="17868" y="5623"/>
                  <a:pt x="17934" y="5606"/>
                </a:cubicBezTo>
              </a:path>
              <a:path w="14735" h="2010">
                <a:moveTo>
                  <a:pt x="18777" y="5035"/>
                </a:moveTo>
                <a:cubicBezTo>
                  <a:pt x="18660" y="4972"/>
                  <a:pt x="18653" y="4992"/>
                  <a:pt x="18529" y="5035"/>
                </a:cubicBezTo>
                <a:cubicBezTo>
                  <a:pt x="18406" y="5077"/>
                  <a:pt x="18314" y="5162"/>
                  <a:pt x="18207" y="5234"/>
                </a:cubicBezTo>
                <a:cubicBezTo>
                  <a:pt x="18091" y="5312"/>
                  <a:pt x="17994" y="5459"/>
                  <a:pt x="18033" y="5606"/>
                </a:cubicBezTo>
                <a:cubicBezTo>
                  <a:pt x="18058" y="5700"/>
                  <a:pt x="18178" y="5703"/>
                  <a:pt x="18256" y="5705"/>
                </a:cubicBezTo>
                <a:cubicBezTo>
                  <a:pt x="18385" y="5709"/>
                  <a:pt x="18480" y="5688"/>
                  <a:pt x="18604" y="5655"/>
                </a:cubicBezTo>
                <a:cubicBezTo>
                  <a:pt x="18763" y="5612"/>
                  <a:pt x="18856" y="5564"/>
                  <a:pt x="19000" y="5482"/>
                </a:cubicBezTo>
                <a:cubicBezTo>
                  <a:pt x="19017" y="5474"/>
                  <a:pt x="19033" y="5465"/>
                  <a:pt x="19050" y="5457"/>
                </a:cubicBezTo>
              </a:path>
              <a:path w="14735" h="2010">
                <a:moveTo>
                  <a:pt x="19100" y="5035"/>
                </a:moveTo>
                <a:cubicBezTo>
                  <a:pt x="19110" y="5105"/>
                  <a:pt x="19138" y="5159"/>
                  <a:pt x="19149" y="5234"/>
                </a:cubicBezTo>
                <a:cubicBezTo>
                  <a:pt x="19164" y="5338"/>
                  <a:pt x="19196" y="5391"/>
                  <a:pt x="19248" y="5482"/>
                </a:cubicBezTo>
                <a:cubicBezTo>
                  <a:pt x="19294" y="5562"/>
                  <a:pt x="19314" y="5657"/>
                  <a:pt x="19372" y="5730"/>
                </a:cubicBezTo>
                <a:cubicBezTo>
                  <a:pt x="19425" y="5796"/>
                  <a:pt x="19468" y="5893"/>
                  <a:pt x="19546" y="5928"/>
                </a:cubicBezTo>
                <a:cubicBezTo>
                  <a:pt x="19571" y="5928"/>
                  <a:pt x="19579" y="5928"/>
                  <a:pt x="19596" y="5928"/>
                </a:cubicBezTo>
              </a:path>
              <a:path w="14735" h="2010">
                <a:moveTo>
                  <a:pt x="18802" y="5631"/>
                </a:moveTo>
                <a:cubicBezTo>
                  <a:pt x="18812" y="5516"/>
                  <a:pt x="18843" y="5489"/>
                  <a:pt x="18926" y="5407"/>
                </a:cubicBezTo>
                <a:cubicBezTo>
                  <a:pt x="19015" y="5318"/>
                  <a:pt x="19125" y="5235"/>
                  <a:pt x="19224" y="5159"/>
                </a:cubicBezTo>
                <a:cubicBezTo>
                  <a:pt x="19305" y="5097"/>
                  <a:pt x="19389" y="5046"/>
                  <a:pt x="19472" y="4986"/>
                </a:cubicBezTo>
                <a:cubicBezTo>
                  <a:pt x="19530" y="4944"/>
                  <a:pt x="19534" y="4929"/>
                  <a:pt x="19596" y="49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200" y="3241800"/>
            <a:ext cx="1366920" cy="1482480"/>
          </a:xfrm>
          <a:custGeom>
            <a:avLst/>
            <a:gdLst/>
            <a:ahLst/>
            <a:rect l="l" t="t" r="r" b="b"/>
            <a:pathLst>
              <a:path w="3796" h="4119">
                <a:moveTo>
                  <a:pt x="670" y="13047"/>
                </a:moveTo>
                <a:cubicBezTo>
                  <a:pt x="737" y="13115"/>
                  <a:pt x="781" y="13105"/>
                  <a:pt x="843" y="12923"/>
                </a:cubicBezTo>
                <a:cubicBezTo>
                  <a:pt x="935" y="12652"/>
                  <a:pt x="946" y="12336"/>
                  <a:pt x="992" y="12055"/>
                </a:cubicBezTo>
                <a:cubicBezTo>
                  <a:pt x="1059" y="11647"/>
                  <a:pt x="1183" y="11262"/>
                  <a:pt x="1290" y="10864"/>
                </a:cubicBezTo>
                <a:cubicBezTo>
                  <a:pt x="1315" y="10765"/>
                  <a:pt x="1339" y="10666"/>
                  <a:pt x="1364" y="10567"/>
                </a:cubicBezTo>
              </a:path>
              <a:path w="3796" h="4119">
                <a:moveTo>
                  <a:pt x="1935" y="9079"/>
                </a:moveTo>
                <a:cubicBezTo>
                  <a:pt x="1941" y="9144"/>
                  <a:pt x="1958" y="9206"/>
                  <a:pt x="1935" y="9351"/>
                </a:cubicBezTo>
                <a:cubicBezTo>
                  <a:pt x="1832" y="10000"/>
                  <a:pt x="1766" y="10612"/>
                  <a:pt x="1712" y="11261"/>
                </a:cubicBezTo>
                <a:cubicBezTo>
                  <a:pt x="1687" y="11562"/>
                  <a:pt x="1688" y="11890"/>
                  <a:pt x="1588" y="12179"/>
                </a:cubicBezTo>
                <a:cubicBezTo>
                  <a:pt x="1541" y="12272"/>
                  <a:pt x="1528" y="12299"/>
                  <a:pt x="1488" y="12353"/>
                </a:cubicBezTo>
                <a:cubicBezTo>
                  <a:pt x="1296" y="12292"/>
                  <a:pt x="1230" y="12207"/>
                  <a:pt x="1116" y="12030"/>
                </a:cubicBezTo>
                <a:cubicBezTo>
                  <a:pt x="1028" y="11893"/>
                  <a:pt x="960" y="11699"/>
                  <a:pt x="967" y="11534"/>
                </a:cubicBezTo>
                <a:cubicBezTo>
                  <a:pt x="973" y="11393"/>
                  <a:pt x="1042" y="11339"/>
                  <a:pt x="1141" y="11261"/>
                </a:cubicBezTo>
                <a:cubicBezTo>
                  <a:pt x="1291" y="11144"/>
                  <a:pt x="1522" y="11089"/>
                  <a:pt x="1687" y="10988"/>
                </a:cubicBezTo>
                <a:cubicBezTo>
                  <a:pt x="2135" y="10713"/>
                  <a:pt x="2457" y="10322"/>
                  <a:pt x="2729" y="9872"/>
                </a:cubicBezTo>
                <a:cubicBezTo>
                  <a:pt x="2904" y="9583"/>
                  <a:pt x="2964" y="9274"/>
                  <a:pt x="3175" y="9004"/>
                </a:cubicBezTo>
                <a:cubicBezTo>
                  <a:pt x="3168" y="9162"/>
                  <a:pt x="3148" y="9330"/>
                  <a:pt x="3101" y="9500"/>
                </a:cubicBezTo>
                <a:cubicBezTo>
                  <a:pt x="2945" y="10065"/>
                  <a:pt x="2838" y="10699"/>
                  <a:pt x="2604" y="11237"/>
                </a:cubicBezTo>
                <a:cubicBezTo>
                  <a:pt x="2562" y="11333"/>
                  <a:pt x="2505" y="11390"/>
                  <a:pt x="2456" y="11460"/>
                </a:cubicBezTo>
                <a:cubicBezTo>
                  <a:pt x="2398" y="11263"/>
                  <a:pt x="2400" y="11151"/>
                  <a:pt x="2406" y="10939"/>
                </a:cubicBezTo>
                <a:cubicBezTo>
                  <a:pt x="2415" y="10621"/>
                  <a:pt x="2482" y="10340"/>
                  <a:pt x="2604" y="10046"/>
                </a:cubicBezTo>
                <a:cubicBezTo>
                  <a:pt x="2734" y="9735"/>
                  <a:pt x="2883" y="9488"/>
                  <a:pt x="3150" y="9277"/>
                </a:cubicBezTo>
                <a:cubicBezTo>
                  <a:pt x="3332" y="9133"/>
                  <a:pt x="3426" y="9125"/>
                  <a:pt x="3646" y="9103"/>
                </a:cubicBezTo>
                <a:cubicBezTo>
                  <a:pt x="3647" y="9427"/>
                  <a:pt x="3587" y="9361"/>
                  <a:pt x="3299" y="9699"/>
                </a:cubicBezTo>
                <a:cubicBezTo>
                  <a:pt x="3110" y="9921"/>
                  <a:pt x="2927" y="10109"/>
                  <a:pt x="2828" y="10368"/>
                </a:cubicBezTo>
                <a:cubicBezTo>
                  <a:pt x="3006" y="10433"/>
                  <a:pt x="3138" y="10443"/>
                  <a:pt x="3349" y="10443"/>
                </a:cubicBezTo>
                <a:cubicBezTo>
                  <a:pt x="3650" y="10443"/>
                  <a:pt x="3966" y="10458"/>
                  <a:pt x="4242" y="10592"/>
                </a:cubicBezTo>
                <a:cubicBezTo>
                  <a:pt x="4375" y="10681"/>
                  <a:pt x="4414" y="10700"/>
                  <a:pt x="4465" y="10790"/>
                </a:cubicBezTo>
                <a:cubicBezTo>
                  <a:pt x="4356" y="11013"/>
                  <a:pt x="4297" y="11112"/>
                  <a:pt x="4043" y="11261"/>
                </a:cubicBezTo>
                <a:cubicBezTo>
                  <a:pt x="3716" y="11453"/>
                  <a:pt x="3361" y="11607"/>
                  <a:pt x="3026" y="11782"/>
                </a:cubicBezTo>
                <a:cubicBezTo>
                  <a:pt x="2766" y="11918"/>
                  <a:pt x="2527" y="12093"/>
                  <a:pt x="2282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84280" y="2705040"/>
            <a:ext cx="3786480" cy="1090800"/>
          </a:xfrm>
          <a:custGeom>
            <a:avLst/>
            <a:gdLst/>
            <a:ahLst/>
            <a:rect l="l" t="t" r="r" b="b"/>
            <a:pathLst>
              <a:path w="10518" h="3027">
                <a:moveTo>
                  <a:pt x="7590" y="7516"/>
                </a:moveTo>
                <a:cubicBezTo>
                  <a:pt x="7633" y="7601"/>
                  <a:pt x="7640" y="7643"/>
                  <a:pt x="7640" y="7739"/>
                </a:cubicBezTo>
                <a:cubicBezTo>
                  <a:pt x="7640" y="7857"/>
                  <a:pt x="7599" y="7971"/>
                  <a:pt x="7590" y="8086"/>
                </a:cubicBezTo>
                <a:cubicBezTo>
                  <a:pt x="7580" y="8209"/>
                  <a:pt x="7569" y="8336"/>
                  <a:pt x="7565" y="8458"/>
                </a:cubicBezTo>
                <a:cubicBezTo>
                  <a:pt x="7564" y="8484"/>
                  <a:pt x="7556" y="8840"/>
                  <a:pt x="7590" y="8830"/>
                </a:cubicBezTo>
                <a:cubicBezTo>
                  <a:pt x="7590" y="8822"/>
                  <a:pt x="7590" y="8814"/>
                  <a:pt x="7590" y="8806"/>
                </a:cubicBezTo>
              </a:path>
              <a:path w="10518" h="3027">
                <a:moveTo>
                  <a:pt x="6747" y="8731"/>
                </a:moveTo>
                <a:cubicBezTo>
                  <a:pt x="6831" y="8762"/>
                  <a:pt x="6888" y="8763"/>
                  <a:pt x="6970" y="8781"/>
                </a:cubicBezTo>
                <a:cubicBezTo>
                  <a:pt x="7080" y="8805"/>
                  <a:pt x="7183" y="8788"/>
                  <a:pt x="7293" y="8806"/>
                </a:cubicBezTo>
                <a:cubicBezTo>
                  <a:pt x="7456" y="8832"/>
                  <a:pt x="7626" y="8828"/>
                  <a:pt x="7789" y="8855"/>
                </a:cubicBezTo>
                <a:cubicBezTo>
                  <a:pt x="7905" y="8874"/>
                  <a:pt x="8021" y="8913"/>
                  <a:pt x="8136" y="8930"/>
                </a:cubicBezTo>
                <a:cubicBezTo>
                  <a:pt x="8214" y="8941"/>
                  <a:pt x="8287" y="8950"/>
                  <a:pt x="8359" y="8979"/>
                </a:cubicBezTo>
                <a:cubicBezTo>
                  <a:pt x="8407" y="8999"/>
                  <a:pt x="8421" y="9004"/>
                  <a:pt x="8458" y="9029"/>
                </a:cubicBezTo>
              </a:path>
              <a:path w="10518" h="3027">
                <a:moveTo>
                  <a:pt x="7020" y="9575"/>
                </a:moveTo>
                <a:cubicBezTo>
                  <a:pt x="7002" y="9520"/>
                  <a:pt x="6984" y="9562"/>
                  <a:pt x="6945" y="9575"/>
                </a:cubicBezTo>
                <a:cubicBezTo>
                  <a:pt x="6895" y="9592"/>
                  <a:pt x="6839" y="9613"/>
                  <a:pt x="6796" y="9649"/>
                </a:cubicBezTo>
                <a:cubicBezTo>
                  <a:pt x="6744" y="9692"/>
                  <a:pt x="6696" y="9760"/>
                  <a:pt x="6648" y="9798"/>
                </a:cubicBezTo>
                <a:cubicBezTo>
                  <a:pt x="6623" y="9798"/>
                  <a:pt x="6615" y="9798"/>
                  <a:pt x="6623" y="9823"/>
                </a:cubicBezTo>
                <a:cubicBezTo>
                  <a:pt x="6695" y="9840"/>
                  <a:pt x="6730" y="9829"/>
                  <a:pt x="6821" y="9847"/>
                </a:cubicBezTo>
                <a:cubicBezTo>
                  <a:pt x="6899" y="9862"/>
                  <a:pt x="6971" y="9885"/>
                  <a:pt x="7045" y="9922"/>
                </a:cubicBezTo>
                <a:cubicBezTo>
                  <a:pt x="7084" y="9942"/>
                  <a:pt x="7180" y="9998"/>
                  <a:pt x="7193" y="10046"/>
                </a:cubicBezTo>
                <a:cubicBezTo>
                  <a:pt x="7205" y="10091"/>
                  <a:pt x="7146" y="10185"/>
                  <a:pt x="7119" y="10220"/>
                </a:cubicBezTo>
                <a:cubicBezTo>
                  <a:pt x="7065" y="10288"/>
                  <a:pt x="6991" y="10346"/>
                  <a:pt x="6921" y="10393"/>
                </a:cubicBezTo>
                <a:cubicBezTo>
                  <a:pt x="6861" y="10433"/>
                  <a:pt x="6763" y="10500"/>
                  <a:pt x="6697" y="10517"/>
                </a:cubicBezTo>
                <a:cubicBezTo>
                  <a:pt x="6656" y="10517"/>
                  <a:pt x="6648" y="10517"/>
                  <a:pt x="6623" y="10517"/>
                </a:cubicBezTo>
              </a:path>
              <a:path w="10518" h="3027">
                <a:moveTo>
                  <a:pt x="7516" y="9798"/>
                </a:moveTo>
                <a:cubicBezTo>
                  <a:pt x="7528" y="9881"/>
                  <a:pt x="7537" y="9983"/>
                  <a:pt x="7516" y="10071"/>
                </a:cubicBezTo>
                <a:cubicBezTo>
                  <a:pt x="7500" y="10136"/>
                  <a:pt x="7471" y="10179"/>
                  <a:pt x="7466" y="10244"/>
                </a:cubicBezTo>
                <a:cubicBezTo>
                  <a:pt x="7461" y="10308"/>
                  <a:pt x="7489" y="10164"/>
                  <a:pt x="7491" y="10145"/>
                </a:cubicBezTo>
              </a:path>
              <a:path w="10518" h="3027">
                <a:moveTo>
                  <a:pt x="7590" y="9252"/>
                </a:moveTo>
                <a:cubicBezTo>
                  <a:pt x="7565" y="9252"/>
                  <a:pt x="7557" y="9252"/>
                  <a:pt x="7565" y="9227"/>
                </a:cubicBezTo>
                <a:cubicBezTo>
                  <a:pt x="7553" y="9277"/>
                  <a:pt x="7541" y="9292"/>
                  <a:pt x="7541" y="9351"/>
                </a:cubicBezTo>
                <a:cubicBezTo>
                  <a:pt x="7541" y="9359"/>
                  <a:pt x="7541" y="9368"/>
                  <a:pt x="7541" y="9376"/>
                </a:cubicBezTo>
              </a:path>
              <a:path w="10518" h="3027">
                <a:moveTo>
                  <a:pt x="7764" y="9674"/>
                </a:moveTo>
                <a:cubicBezTo>
                  <a:pt x="7799" y="9721"/>
                  <a:pt x="7789" y="9761"/>
                  <a:pt x="7789" y="9823"/>
                </a:cubicBezTo>
                <a:cubicBezTo>
                  <a:pt x="7789" y="9900"/>
                  <a:pt x="7776" y="9952"/>
                  <a:pt x="7764" y="10021"/>
                </a:cubicBezTo>
                <a:cubicBezTo>
                  <a:pt x="7751" y="10098"/>
                  <a:pt x="7703" y="10175"/>
                  <a:pt x="7739" y="10244"/>
                </a:cubicBezTo>
                <a:cubicBezTo>
                  <a:pt x="7747" y="10244"/>
                  <a:pt x="7756" y="10244"/>
                  <a:pt x="7764" y="10244"/>
                </a:cubicBezTo>
                <a:cubicBezTo>
                  <a:pt x="7764" y="10179"/>
                  <a:pt x="7781" y="10130"/>
                  <a:pt x="7789" y="10071"/>
                </a:cubicBezTo>
                <a:cubicBezTo>
                  <a:pt x="7800" y="9984"/>
                  <a:pt x="7805" y="9897"/>
                  <a:pt x="7863" y="9823"/>
                </a:cubicBezTo>
                <a:cubicBezTo>
                  <a:pt x="7903" y="9772"/>
                  <a:pt x="7972" y="9713"/>
                  <a:pt x="8037" y="9699"/>
                </a:cubicBezTo>
                <a:cubicBezTo>
                  <a:pt x="8094" y="9686"/>
                  <a:pt x="8156" y="9755"/>
                  <a:pt x="8186" y="9798"/>
                </a:cubicBezTo>
                <a:cubicBezTo>
                  <a:pt x="8233" y="9865"/>
                  <a:pt x="8210" y="9969"/>
                  <a:pt x="8210" y="10046"/>
                </a:cubicBezTo>
                <a:cubicBezTo>
                  <a:pt x="8210" y="10102"/>
                  <a:pt x="8195" y="10198"/>
                  <a:pt x="8161" y="10244"/>
                </a:cubicBezTo>
                <a:cubicBezTo>
                  <a:pt x="8099" y="10328"/>
                  <a:pt x="8090" y="10264"/>
                  <a:pt x="8086" y="10195"/>
                </a:cubicBezTo>
                <a:cubicBezTo>
                  <a:pt x="8086" y="10178"/>
                  <a:pt x="8086" y="10162"/>
                  <a:pt x="8086" y="10145"/>
                </a:cubicBezTo>
              </a:path>
              <a:path w="10518" h="3027">
                <a:moveTo>
                  <a:pt x="8384" y="9227"/>
                </a:moveTo>
                <a:cubicBezTo>
                  <a:pt x="8416" y="9251"/>
                  <a:pt x="8453" y="9257"/>
                  <a:pt x="8483" y="9277"/>
                </a:cubicBezTo>
                <a:cubicBezTo>
                  <a:pt x="8519" y="9301"/>
                  <a:pt x="8551" y="9345"/>
                  <a:pt x="8582" y="9376"/>
                </a:cubicBezTo>
                <a:cubicBezTo>
                  <a:pt x="8626" y="9421"/>
                  <a:pt x="8607" y="9453"/>
                  <a:pt x="8582" y="9500"/>
                </a:cubicBezTo>
                <a:cubicBezTo>
                  <a:pt x="8551" y="9559"/>
                  <a:pt x="8530" y="9602"/>
                  <a:pt x="8483" y="9649"/>
                </a:cubicBezTo>
                <a:cubicBezTo>
                  <a:pt x="8451" y="9681"/>
                  <a:pt x="8443" y="9706"/>
                  <a:pt x="8409" y="9723"/>
                </a:cubicBezTo>
                <a:cubicBezTo>
                  <a:pt x="8445" y="9760"/>
                  <a:pt x="8474" y="9793"/>
                  <a:pt x="8533" y="9773"/>
                </a:cubicBezTo>
                <a:cubicBezTo>
                  <a:pt x="8595" y="9752"/>
                  <a:pt x="8638" y="9748"/>
                  <a:pt x="8706" y="9748"/>
                </a:cubicBezTo>
              </a:path>
              <a:path w="10518" h="3027">
                <a:moveTo>
                  <a:pt x="8905" y="9674"/>
                </a:moveTo>
                <a:cubicBezTo>
                  <a:pt x="8912" y="9722"/>
                  <a:pt x="8915" y="9776"/>
                  <a:pt x="8930" y="9823"/>
                </a:cubicBezTo>
                <a:cubicBezTo>
                  <a:pt x="8952" y="9892"/>
                  <a:pt x="8970" y="9932"/>
                  <a:pt x="9004" y="9996"/>
                </a:cubicBezTo>
                <a:cubicBezTo>
                  <a:pt x="9035" y="10055"/>
                  <a:pt x="9064" y="10117"/>
                  <a:pt x="9103" y="10170"/>
                </a:cubicBezTo>
                <a:cubicBezTo>
                  <a:pt x="9131" y="10198"/>
                  <a:pt x="9140" y="10211"/>
                  <a:pt x="9128" y="10244"/>
                </a:cubicBezTo>
              </a:path>
              <a:path w="10518" h="3027">
                <a:moveTo>
                  <a:pt x="8806" y="10145"/>
                </a:moveTo>
                <a:cubicBezTo>
                  <a:pt x="8831" y="10037"/>
                  <a:pt x="8874" y="9956"/>
                  <a:pt x="8954" y="9872"/>
                </a:cubicBezTo>
                <a:cubicBezTo>
                  <a:pt x="9051" y="9770"/>
                  <a:pt x="9145" y="9700"/>
                  <a:pt x="9252" y="9624"/>
                </a:cubicBezTo>
                <a:cubicBezTo>
                  <a:pt x="9316" y="9579"/>
                  <a:pt x="9341" y="9518"/>
                  <a:pt x="9401" y="9475"/>
                </a:cubicBezTo>
              </a:path>
              <a:path w="10518" h="3027">
                <a:moveTo>
                  <a:pt x="10269" y="8310"/>
                </a:moveTo>
                <a:cubicBezTo>
                  <a:pt x="10240" y="8347"/>
                  <a:pt x="10244" y="8361"/>
                  <a:pt x="10244" y="8409"/>
                </a:cubicBezTo>
                <a:cubicBezTo>
                  <a:pt x="10244" y="8417"/>
                  <a:pt x="10244" y="8426"/>
                  <a:pt x="10244" y="8434"/>
                </a:cubicBezTo>
              </a:path>
              <a:path w="10518" h="3027">
                <a:moveTo>
                  <a:pt x="9847" y="8954"/>
                </a:moveTo>
                <a:cubicBezTo>
                  <a:pt x="9907" y="8929"/>
                  <a:pt x="9931" y="8930"/>
                  <a:pt x="9996" y="8930"/>
                </a:cubicBezTo>
                <a:cubicBezTo>
                  <a:pt x="10029" y="8930"/>
                  <a:pt x="10138" y="8917"/>
                  <a:pt x="10170" y="8905"/>
                </a:cubicBezTo>
                <a:cubicBezTo>
                  <a:pt x="10223" y="8884"/>
                  <a:pt x="10255" y="8880"/>
                  <a:pt x="10319" y="8880"/>
                </a:cubicBezTo>
                <a:cubicBezTo>
                  <a:pt x="10361" y="8880"/>
                  <a:pt x="10357" y="8870"/>
                  <a:pt x="10368" y="8905"/>
                </a:cubicBezTo>
              </a:path>
              <a:path w="10518" h="3027">
                <a:moveTo>
                  <a:pt x="9996" y="9277"/>
                </a:moveTo>
                <a:cubicBezTo>
                  <a:pt x="10006" y="9316"/>
                  <a:pt x="10021" y="9332"/>
                  <a:pt x="10021" y="9376"/>
                </a:cubicBezTo>
                <a:cubicBezTo>
                  <a:pt x="10021" y="9384"/>
                  <a:pt x="10021" y="9393"/>
                  <a:pt x="10021" y="9401"/>
                </a:cubicBezTo>
              </a:path>
              <a:path w="10518" h="3027">
                <a:moveTo>
                  <a:pt x="11460" y="8210"/>
                </a:moveTo>
                <a:cubicBezTo>
                  <a:pt x="11442" y="8158"/>
                  <a:pt x="11424" y="8197"/>
                  <a:pt x="11385" y="8210"/>
                </a:cubicBezTo>
                <a:cubicBezTo>
                  <a:pt x="11351" y="8221"/>
                  <a:pt x="11353" y="8258"/>
                  <a:pt x="11311" y="8285"/>
                </a:cubicBezTo>
                <a:cubicBezTo>
                  <a:pt x="11263" y="8316"/>
                  <a:pt x="11220" y="8359"/>
                  <a:pt x="11187" y="8409"/>
                </a:cubicBezTo>
                <a:cubicBezTo>
                  <a:pt x="11149" y="8467"/>
                  <a:pt x="11137" y="8490"/>
                  <a:pt x="11137" y="8558"/>
                </a:cubicBezTo>
                <a:cubicBezTo>
                  <a:pt x="11137" y="8588"/>
                  <a:pt x="11156" y="8667"/>
                  <a:pt x="11187" y="8682"/>
                </a:cubicBezTo>
                <a:cubicBezTo>
                  <a:pt x="11226" y="8701"/>
                  <a:pt x="11263" y="8706"/>
                  <a:pt x="11311" y="8706"/>
                </a:cubicBezTo>
                <a:cubicBezTo>
                  <a:pt x="11339" y="8706"/>
                  <a:pt x="11350" y="8704"/>
                  <a:pt x="11361" y="8682"/>
                </a:cubicBezTo>
              </a:path>
              <a:path w="10518" h="3027">
                <a:moveTo>
                  <a:pt x="11757" y="8285"/>
                </a:moveTo>
                <a:cubicBezTo>
                  <a:pt x="11665" y="8352"/>
                  <a:pt x="11651" y="8375"/>
                  <a:pt x="11609" y="8458"/>
                </a:cubicBezTo>
                <a:cubicBezTo>
                  <a:pt x="11588" y="8500"/>
                  <a:pt x="11584" y="8507"/>
                  <a:pt x="11584" y="8558"/>
                </a:cubicBezTo>
                <a:cubicBezTo>
                  <a:pt x="11678" y="8558"/>
                  <a:pt x="11719" y="8562"/>
                  <a:pt x="11807" y="8508"/>
                </a:cubicBezTo>
                <a:cubicBezTo>
                  <a:pt x="11845" y="8484"/>
                  <a:pt x="11887" y="8433"/>
                  <a:pt x="11906" y="8409"/>
                </a:cubicBezTo>
                <a:cubicBezTo>
                  <a:pt x="11932" y="8376"/>
                  <a:pt x="11941" y="8327"/>
                  <a:pt x="11881" y="8310"/>
                </a:cubicBezTo>
                <a:cubicBezTo>
                  <a:pt x="11818" y="8292"/>
                  <a:pt x="11723" y="8310"/>
                  <a:pt x="11658" y="8310"/>
                </a:cubicBezTo>
              </a:path>
              <a:path w="10518" h="3027">
                <a:moveTo>
                  <a:pt x="12229" y="8235"/>
                </a:moveTo>
                <a:cubicBezTo>
                  <a:pt x="12173" y="8244"/>
                  <a:pt x="12173" y="8245"/>
                  <a:pt x="12129" y="8285"/>
                </a:cubicBezTo>
                <a:cubicBezTo>
                  <a:pt x="12104" y="8308"/>
                  <a:pt x="12084" y="8352"/>
                  <a:pt x="12080" y="8384"/>
                </a:cubicBezTo>
                <a:cubicBezTo>
                  <a:pt x="12072" y="8457"/>
                  <a:pt x="12220" y="8499"/>
                  <a:pt x="12254" y="8508"/>
                </a:cubicBezTo>
                <a:cubicBezTo>
                  <a:pt x="12305" y="8522"/>
                  <a:pt x="12346" y="8516"/>
                  <a:pt x="12353" y="8582"/>
                </a:cubicBezTo>
                <a:cubicBezTo>
                  <a:pt x="12360" y="8645"/>
                  <a:pt x="12332" y="8654"/>
                  <a:pt x="12278" y="8682"/>
                </a:cubicBezTo>
                <a:cubicBezTo>
                  <a:pt x="12217" y="8714"/>
                  <a:pt x="12173" y="8740"/>
                  <a:pt x="12105" y="8756"/>
                </a:cubicBezTo>
                <a:cubicBezTo>
                  <a:pt x="12077" y="8756"/>
                  <a:pt x="12066" y="8754"/>
                  <a:pt x="12055" y="8731"/>
                </a:cubicBezTo>
              </a:path>
              <a:path w="10518" h="3027">
                <a:moveTo>
                  <a:pt x="12502" y="8210"/>
                </a:moveTo>
                <a:cubicBezTo>
                  <a:pt x="12502" y="8255"/>
                  <a:pt x="12495" y="8276"/>
                  <a:pt x="12526" y="8310"/>
                </a:cubicBezTo>
                <a:cubicBezTo>
                  <a:pt x="12552" y="8339"/>
                  <a:pt x="12586" y="8398"/>
                  <a:pt x="12601" y="8434"/>
                </a:cubicBezTo>
                <a:cubicBezTo>
                  <a:pt x="12618" y="8476"/>
                  <a:pt x="12640" y="8520"/>
                  <a:pt x="12675" y="8558"/>
                </a:cubicBezTo>
                <a:cubicBezTo>
                  <a:pt x="12707" y="8593"/>
                  <a:pt x="12729" y="8624"/>
                  <a:pt x="12750" y="8657"/>
                </a:cubicBezTo>
                <a:cubicBezTo>
                  <a:pt x="12758" y="8665"/>
                  <a:pt x="12766" y="8674"/>
                  <a:pt x="12774" y="8682"/>
                </a:cubicBezTo>
              </a:path>
              <a:path w="10518" h="3027">
                <a:moveTo>
                  <a:pt x="12502" y="8582"/>
                </a:moveTo>
                <a:cubicBezTo>
                  <a:pt x="12446" y="8527"/>
                  <a:pt x="12421" y="8529"/>
                  <a:pt x="12427" y="8483"/>
                </a:cubicBezTo>
                <a:cubicBezTo>
                  <a:pt x="12477" y="8434"/>
                  <a:pt x="12526" y="8383"/>
                  <a:pt x="12576" y="8334"/>
                </a:cubicBezTo>
                <a:cubicBezTo>
                  <a:pt x="12643" y="8267"/>
                  <a:pt x="12715" y="8249"/>
                  <a:pt x="12799" y="8210"/>
                </a:cubicBezTo>
                <a:cubicBezTo>
                  <a:pt x="12847" y="8188"/>
                  <a:pt x="12897" y="8171"/>
                  <a:pt x="12948" y="8161"/>
                </a:cubicBezTo>
              </a:path>
              <a:path w="10518" h="3027">
                <a:moveTo>
                  <a:pt x="11063" y="9103"/>
                </a:moveTo>
                <a:cubicBezTo>
                  <a:pt x="11187" y="9092"/>
                  <a:pt x="11306" y="9079"/>
                  <a:pt x="11435" y="9079"/>
                </a:cubicBezTo>
                <a:cubicBezTo>
                  <a:pt x="11580" y="9079"/>
                  <a:pt x="11714" y="9058"/>
                  <a:pt x="11857" y="9054"/>
                </a:cubicBezTo>
                <a:cubicBezTo>
                  <a:pt x="11989" y="9051"/>
                  <a:pt x="12122" y="9054"/>
                  <a:pt x="12254" y="9054"/>
                </a:cubicBezTo>
              </a:path>
              <a:path w="10518" h="3027">
                <a:moveTo>
                  <a:pt x="11361" y="9401"/>
                </a:moveTo>
                <a:cubicBezTo>
                  <a:pt x="11417" y="9382"/>
                  <a:pt x="11419" y="9377"/>
                  <a:pt x="11435" y="9426"/>
                </a:cubicBezTo>
                <a:cubicBezTo>
                  <a:pt x="11393" y="9467"/>
                  <a:pt x="11352" y="9509"/>
                  <a:pt x="11311" y="9550"/>
                </a:cubicBezTo>
                <a:cubicBezTo>
                  <a:pt x="11270" y="9591"/>
                  <a:pt x="11228" y="9633"/>
                  <a:pt x="11187" y="9674"/>
                </a:cubicBezTo>
                <a:cubicBezTo>
                  <a:pt x="11249" y="9757"/>
                  <a:pt x="11276" y="9681"/>
                  <a:pt x="11361" y="9699"/>
                </a:cubicBezTo>
                <a:cubicBezTo>
                  <a:pt x="11442" y="9717"/>
                  <a:pt x="11537" y="9722"/>
                  <a:pt x="11609" y="9773"/>
                </a:cubicBezTo>
                <a:cubicBezTo>
                  <a:pt x="11651" y="9803"/>
                  <a:pt x="11636" y="9841"/>
                  <a:pt x="11609" y="9872"/>
                </a:cubicBezTo>
                <a:cubicBezTo>
                  <a:pt x="11558" y="9930"/>
                  <a:pt x="11519" y="9971"/>
                  <a:pt x="11460" y="10021"/>
                </a:cubicBezTo>
                <a:cubicBezTo>
                  <a:pt x="11420" y="10055"/>
                  <a:pt x="11360" y="10123"/>
                  <a:pt x="11311" y="10145"/>
                </a:cubicBezTo>
                <a:cubicBezTo>
                  <a:pt x="11286" y="10145"/>
                  <a:pt x="11278" y="10145"/>
                  <a:pt x="11286" y="10120"/>
                </a:cubicBezTo>
              </a:path>
              <a:path w="10518" h="3027">
                <a:moveTo>
                  <a:pt x="11832" y="9550"/>
                </a:moveTo>
                <a:cubicBezTo>
                  <a:pt x="11912" y="9562"/>
                  <a:pt x="11906" y="9569"/>
                  <a:pt x="11906" y="9649"/>
                </a:cubicBezTo>
                <a:cubicBezTo>
                  <a:pt x="11906" y="9729"/>
                  <a:pt x="11869" y="9797"/>
                  <a:pt x="11857" y="9872"/>
                </a:cubicBezTo>
                <a:cubicBezTo>
                  <a:pt x="11849" y="9919"/>
                  <a:pt x="11857" y="9973"/>
                  <a:pt x="11857" y="10021"/>
                </a:cubicBezTo>
              </a:path>
              <a:path w="10518" h="3027">
                <a:moveTo>
                  <a:pt x="11906" y="9302"/>
                </a:moveTo>
                <a:cubicBezTo>
                  <a:pt x="11852" y="9302"/>
                  <a:pt x="11898" y="9346"/>
                  <a:pt x="11906" y="9376"/>
                </a:cubicBezTo>
              </a:path>
              <a:path w="10518" h="3027">
                <a:moveTo>
                  <a:pt x="12278" y="9649"/>
                </a:moveTo>
                <a:cubicBezTo>
                  <a:pt x="12278" y="9724"/>
                  <a:pt x="12261" y="9784"/>
                  <a:pt x="12254" y="9847"/>
                </a:cubicBezTo>
                <a:cubicBezTo>
                  <a:pt x="12249" y="9890"/>
                  <a:pt x="12242" y="9857"/>
                  <a:pt x="12229" y="9897"/>
                </a:cubicBezTo>
                <a:cubicBezTo>
                  <a:pt x="12192" y="9885"/>
                  <a:pt x="12194" y="9824"/>
                  <a:pt x="12204" y="9773"/>
                </a:cubicBezTo>
                <a:cubicBezTo>
                  <a:pt x="12222" y="9685"/>
                  <a:pt x="12269" y="9613"/>
                  <a:pt x="12328" y="9550"/>
                </a:cubicBezTo>
                <a:cubicBezTo>
                  <a:pt x="12371" y="9504"/>
                  <a:pt x="12419" y="9480"/>
                  <a:pt x="12477" y="9475"/>
                </a:cubicBezTo>
                <a:cubicBezTo>
                  <a:pt x="12551" y="9469"/>
                  <a:pt x="12573" y="9517"/>
                  <a:pt x="12576" y="9575"/>
                </a:cubicBezTo>
                <a:cubicBezTo>
                  <a:pt x="12582" y="9672"/>
                  <a:pt x="12566" y="9757"/>
                  <a:pt x="12551" y="9847"/>
                </a:cubicBezTo>
                <a:cubicBezTo>
                  <a:pt x="12546" y="9880"/>
                  <a:pt x="12520" y="10036"/>
                  <a:pt x="12551" y="9947"/>
                </a:cubicBezTo>
              </a:path>
              <a:path w="10518" h="3027">
                <a:moveTo>
                  <a:pt x="12774" y="9599"/>
                </a:moveTo>
                <a:cubicBezTo>
                  <a:pt x="12802" y="9636"/>
                  <a:pt x="12816" y="9701"/>
                  <a:pt x="12824" y="9748"/>
                </a:cubicBezTo>
                <a:cubicBezTo>
                  <a:pt x="12836" y="9820"/>
                  <a:pt x="12839" y="9900"/>
                  <a:pt x="12849" y="9971"/>
                </a:cubicBezTo>
                <a:cubicBezTo>
                  <a:pt x="12858" y="10031"/>
                  <a:pt x="12858" y="10100"/>
                  <a:pt x="12824" y="10145"/>
                </a:cubicBezTo>
                <a:cubicBezTo>
                  <a:pt x="12824" y="10095"/>
                  <a:pt x="12813" y="10087"/>
                  <a:pt x="12799" y="10046"/>
                </a:cubicBezTo>
                <a:cubicBezTo>
                  <a:pt x="12787" y="10009"/>
                  <a:pt x="12774" y="9990"/>
                  <a:pt x="12774" y="9947"/>
                </a:cubicBezTo>
                <a:cubicBezTo>
                  <a:pt x="12774" y="9871"/>
                  <a:pt x="12788" y="9865"/>
                  <a:pt x="12824" y="9798"/>
                </a:cubicBezTo>
                <a:cubicBezTo>
                  <a:pt x="12866" y="9720"/>
                  <a:pt x="13002" y="9605"/>
                  <a:pt x="13072" y="9550"/>
                </a:cubicBezTo>
                <a:cubicBezTo>
                  <a:pt x="13126" y="9523"/>
                  <a:pt x="13146" y="9511"/>
                  <a:pt x="13171" y="9475"/>
                </a:cubicBezTo>
              </a:path>
              <a:path w="10518" h="3027">
                <a:moveTo>
                  <a:pt x="13767" y="8930"/>
                </a:moveTo>
                <a:cubicBezTo>
                  <a:pt x="13774" y="8959"/>
                  <a:pt x="13784" y="8975"/>
                  <a:pt x="13791" y="9004"/>
                </a:cubicBezTo>
                <a:cubicBezTo>
                  <a:pt x="13819" y="9004"/>
                  <a:pt x="13830" y="9002"/>
                  <a:pt x="13841" y="8979"/>
                </a:cubicBezTo>
              </a:path>
              <a:path w="10518" h="3027">
                <a:moveTo>
                  <a:pt x="14932" y="8260"/>
                </a:moveTo>
                <a:cubicBezTo>
                  <a:pt x="14895" y="8270"/>
                  <a:pt x="14842" y="8309"/>
                  <a:pt x="14808" y="8334"/>
                </a:cubicBezTo>
                <a:cubicBezTo>
                  <a:pt x="14742" y="8384"/>
                  <a:pt x="14671" y="8426"/>
                  <a:pt x="14610" y="8483"/>
                </a:cubicBezTo>
                <a:cubicBezTo>
                  <a:pt x="14555" y="8535"/>
                  <a:pt x="14560" y="8524"/>
                  <a:pt x="14560" y="8582"/>
                </a:cubicBezTo>
                <a:cubicBezTo>
                  <a:pt x="14688" y="8582"/>
                  <a:pt x="14809" y="8593"/>
                  <a:pt x="14932" y="8607"/>
                </a:cubicBezTo>
                <a:cubicBezTo>
                  <a:pt x="14999" y="8615"/>
                  <a:pt x="15096" y="8624"/>
                  <a:pt x="15156" y="8657"/>
                </a:cubicBezTo>
                <a:cubicBezTo>
                  <a:pt x="15212" y="8688"/>
                  <a:pt x="15219" y="8736"/>
                  <a:pt x="15180" y="8781"/>
                </a:cubicBezTo>
                <a:cubicBezTo>
                  <a:pt x="15129" y="8840"/>
                  <a:pt x="15049" y="8893"/>
                  <a:pt x="14982" y="8930"/>
                </a:cubicBezTo>
                <a:cubicBezTo>
                  <a:pt x="14958" y="8943"/>
                  <a:pt x="14833" y="9024"/>
                  <a:pt x="14808" y="9004"/>
                </a:cubicBezTo>
                <a:cubicBezTo>
                  <a:pt x="14808" y="8976"/>
                  <a:pt x="14810" y="8965"/>
                  <a:pt x="14833" y="8954"/>
                </a:cubicBezTo>
              </a:path>
              <a:path w="10518" h="3027">
                <a:moveTo>
                  <a:pt x="15478" y="8458"/>
                </a:moveTo>
                <a:cubicBezTo>
                  <a:pt x="15469" y="8527"/>
                  <a:pt x="15457" y="8593"/>
                  <a:pt x="15429" y="8657"/>
                </a:cubicBezTo>
                <a:cubicBezTo>
                  <a:pt x="15406" y="8710"/>
                  <a:pt x="15385" y="8773"/>
                  <a:pt x="15379" y="8830"/>
                </a:cubicBezTo>
                <a:cubicBezTo>
                  <a:pt x="15374" y="8879"/>
                  <a:pt x="15396" y="8853"/>
                  <a:pt x="15404" y="8830"/>
                </a:cubicBezTo>
              </a:path>
              <a:path w="10518" h="3027">
                <a:moveTo>
                  <a:pt x="15577" y="8161"/>
                </a:moveTo>
                <a:cubicBezTo>
                  <a:pt x="15577" y="8136"/>
                  <a:pt x="15577" y="8111"/>
                  <a:pt x="15577" y="8086"/>
                </a:cubicBezTo>
                <a:cubicBezTo>
                  <a:pt x="15577" y="8140"/>
                  <a:pt x="15542" y="8182"/>
                  <a:pt x="15553" y="8235"/>
                </a:cubicBezTo>
                <a:cubicBezTo>
                  <a:pt x="15561" y="8252"/>
                  <a:pt x="15569" y="8268"/>
                  <a:pt x="15577" y="8285"/>
                </a:cubicBezTo>
              </a:path>
              <a:path w="10518" h="3027">
                <a:moveTo>
                  <a:pt x="15900" y="8483"/>
                </a:moveTo>
                <a:cubicBezTo>
                  <a:pt x="15900" y="8547"/>
                  <a:pt x="15895" y="8601"/>
                  <a:pt x="15875" y="8657"/>
                </a:cubicBezTo>
                <a:cubicBezTo>
                  <a:pt x="15857" y="8708"/>
                  <a:pt x="15830" y="8752"/>
                  <a:pt x="15825" y="8806"/>
                </a:cubicBezTo>
                <a:cubicBezTo>
                  <a:pt x="15825" y="8830"/>
                  <a:pt x="15825" y="8838"/>
                  <a:pt x="15801" y="8830"/>
                </a:cubicBezTo>
                <a:cubicBezTo>
                  <a:pt x="15801" y="8749"/>
                  <a:pt x="15810" y="8680"/>
                  <a:pt x="15850" y="8607"/>
                </a:cubicBezTo>
                <a:cubicBezTo>
                  <a:pt x="15912" y="8492"/>
                  <a:pt x="15960" y="8443"/>
                  <a:pt x="16073" y="8384"/>
                </a:cubicBezTo>
                <a:cubicBezTo>
                  <a:pt x="16135" y="8352"/>
                  <a:pt x="16200" y="8344"/>
                  <a:pt x="16247" y="8409"/>
                </a:cubicBezTo>
                <a:cubicBezTo>
                  <a:pt x="16302" y="8485"/>
                  <a:pt x="16278" y="8577"/>
                  <a:pt x="16272" y="8657"/>
                </a:cubicBezTo>
                <a:cubicBezTo>
                  <a:pt x="16267" y="8722"/>
                  <a:pt x="16266" y="8818"/>
                  <a:pt x="16247" y="8880"/>
                </a:cubicBezTo>
                <a:cubicBezTo>
                  <a:pt x="16230" y="8935"/>
                  <a:pt x="16201" y="8981"/>
                  <a:pt x="16272" y="8930"/>
                </a:cubicBezTo>
              </a:path>
              <a:path w="10518" h="3027">
                <a:moveTo>
                  <a:pt x="16619" y="8533"/>
                </a:moveTo>
                <a:cubicBezTo>
                  <a:pt x="16626" y="8658"/>
                  <a:pt x="16646" y="8717"/>
                  <a:pt x="16694" y="8830"/>
                </a:cubicBezTo>
                <a:cubicBezTo>
                  <a:pt x="16716" y="8883"/>
                  <a:pt x="16755" y="8937"/>
                  <a:pt x="16793" y="8979"/>
                </a:cubicBezTo>
                <a:cubicBezTo>
                  <a:pt x="16801" y="8987"/>
                  <a:pt x="16810" y="8996"/>
                  <a:pt x="16818" y="9004"/>
                </a:cubicBezTo>
              </a:path>
              <a:path w="10518" h="3027">
                <a:moveTo>
                  <a:pt x="16669" y="8954"/>
                </a:moveTo>
                <a:cubicBezTo>
                  <a:pt x="16616" y="8867"/>
                  <a:pt x="16602" y="8851"/>
                  <a:pt x="16644" y="8756"/>
                </a:cubicBezTo>
                <a:cubicBezTo>
                  <a:pt x="16686" y="8662"/>
                  <a:pt x="16779" y="8586"/>
                  <a:pt x="16867" y="8533"/>
                </a:cubicBezTo>
                <a:cubicBezTo>
                  <a:pt x="16936" y="8492"/>
                  <a:pt x="17008" y="8438"/>
                  <a:pt x="17090" y="8434"/>
                </a:cubicBezTo>
                <a:cubicBezTo>
                  <a:pt x="17107" y="8434"/>
                  <a:pt x="17123" y="8434"/>
                  <a:pt x="17140" y="8434"/>
                </a:cubicBezTo>
              </a:path>
              <a:path w="10518" h="3027">
                <a:moveTo>
                  <a:pt x="14883" y="9376"/>
                </a:moveTo>
                <a:cubicBezTo>
                  <a:pt x="14943" y="9393"/>
                  <a:pt x="14990" y="9401"/>
                  <a:pt x="15056" y="9401"/>
                </a:cubicBezTo>
                <a:cubicBezTo>
                  <a:pt x="15347" y="9401"/>
                  <a:pt x="15634" y="9417"/>
                  <a:pt x="15925" y="9426"/>
                </a:cubicBezTo>
                <a:cubicBezTo>
                  <a:pt x="16113" y="9432"/>
                  <a:pt x="16310" y="9414"/>
                  <a:pt x="16495" y="9451"/>
                </a:cubicBezTo>
                <a:cubicBezTo>
                  <a:pt x="16520" y="9459"/>
                  <a:pt x="16545" y="9467"/>
                  <a:pt x="16570" y="9475"/>
                </a:cubicBezTo>
              </a:path>
              <a:path w="10518" h="3027">
                <a:moveTo>
                  <a:pt x="14833" y="9872"/>
                </a:moveTo>
                <a:cubicBezTo>
                  <a:pt x="14794" y="9924"/>
                  <a:pt x="14825" y="9958"/>
                  <a:pt x="14808" y="10021"/>
                </a:cubicBezTo>
                <a:cubicBezTo>
                  <a:pt x="14790" y="10090"/>
                  <a:pt x="14765" y="10148"/>
                  <a:pt x="14759" y="10220"/>
                </a:cubicBezTo>
                <a:cubicBezTo>
                  <a:pt x="14756" y="10254"/>
                  <a:pt x="14794" y="10333"/>
                  <a:pt x="14833" y="10344"/>
                </a:cubicBezTo>
                <a:cubicBezTo>
                  <a:pt x="14914" y="10367"/>
                  <a:pt x="14976" y="10371"/>
                  <a:pt x="15056" y="10344"/>
                </a:cubicBezTo>
                <a:cubicBezTo>
                  <a:pt x="15139" y="10317"/>
                  <a:pt x="15255" y="10288"/>
                  <a:pt x="15329" y="10244"/>
                </a:cubicBezTo>
                <a:cubicBezTo>
                  <a:pt x="15362" y="10219"/>
                  <a:pt x="15396" y="10195"/>
                  <a:pt x="15429" y="10170"/>
                </a:cubicBezTo>
              </a:path>
              <a:path w="10518" h="3027">
                <a:moveTo>
                  <a:pt x="15602" y="9798"/>
                </a:moveTo>
                <a:cubicBezTo>
                  <a:pt x="15446" y="9888"/>
                  <a:pt x="15455" y="9900"/>
                  <a:pt x="15354" y="10021"/>
                </a:cubicBezTo>
                <a:cubicBezTo>
                  <a:pt x="15332" y="10047"/>
                  <a:pt x="15258" y="10149"/>
                  <a:pt x="15304" y="10195"/>
                </a:cubicBezTo>
                <a:cubicBezTo>
                  <a:pt x="15347" y="10238"/>
                  <a:pt x="15419" y="10256"/>
                  <a:pt x="15478" y="10244"/>
                </a:cubicBezTo>
                <a:cubicBezTo>
                  <a:pt x="15573" y="10224"/>
                  <a:pt x="15644" y="10167"/>
                  <a:pt x="15726" y="10120"/>
                </a:cubicBezTo>
                <a:cubicBezTo>
                  <a:pt x="15822" y="10065"/>
                  <a:pt x="15833" y="10020"/>
                  <a:pt x="15875" y="9922"/>
                </a:cubicBezTo>
                <a:cubicBezTo>
                  <a:pt x="15900" y="9863"/>
                  <a:pt x="15879" y="9796"/>
                  <a:pt x="15801" y="9773"/>
                </a:cubicBezTo>
                <a:cubicBezTo>
                  <a:pt x="15726" y="9751"/>
                  <a:pt x="15644" y="9790"/>
                  <a:pt x="15577" y="9798"/>
                </a:cubicBezTo>
                <a:cubicBezTo>
                  <a:pt x="15552" y="9798"/>
                  <a:pt x="15528" y="9798"/>
                  <a:pt x="15503" y="9798"/>
                </a:cubicBezTo>
              </a:path>
              <a:path w="10518" h="3027">
                <a:moveTo>
                  <a:pt x="16173" y="9773"/>
                </a:moveTo>
                <a:cubicBezTo>
                  <a:pt x="16084" y="9825"/>
                  <a:pt x="15981" y="9864"/>
                  <a:pt x="15900" y="9922"/>
                </a:cubicBezTo>
                <a:cubicBezTo>
                  <a:pt x="15858" y="9952"/>
                  <a:pt x="15816" y="9988"/>
                  <a:pt x="15776" y="10021"/>
                </a:cubicBezTo>
                <a:cubicBezTo>
                  <a:pt x="15793" y="10087"/>
                  <a:pt x="15816" y="10080"/>
                  <a:pt x="15875" y="10096"/>
                </a:cubicBezTo>
                <a:cubicBezTo>
                  <a:pt x="15934" y="10112"/>
                  <a:pt x="16030" y="10135"/>
                  <a:pt x="16073" y="10170"/>
                </a:cubicBezTo>
                <a:cubicBezTo>
                  <a:pt x="16109" y="10199"/>
                  <a:pt x="16110" y="10260"/>
                  <a:pt x="16073" y="10294"/>
                </a:cubicBezTo>
                <a:cubicBezTo>
                  <a:pt x="16025" y="10338"/>
                  <a:pt x="15953" y="10356"/>
                  <a:pt x="15900" y="10393"/>
                </a:cubicBezTo>
                <a:cubicBezTo>
                  <a:pt x="15864" y="10418"/>
                  <a:pt x="15870" y="10418"/>
                  <a:pt x="15825" y="10418"/>
                </a:cubicBezTo>
              </a:path>
              <a:path w="10518" h="3027">
                <a:moveTo>
                  <a:pt x="16297" y="9922"/>
                </a:moveTo>
                <a:cubicBezTo>
                  <a:pt x="16387" y="9958"/>
                  <a:pt x="16410" y="9977"/>
                  <a:pt x="16446" y="10071"/>
                </a:cubicBezTo>
                <a:cubicBezTo>
                  <a:pt x="16476" y="10148"/>
                  <a:pt x="16528" y="10240"/>
                  <a:pt x="16545" y="10319"/>
                </a:cubicBezTo>
                <a:cubicBezTo>
                  <a:pt x="16558" y="10381"/>
                  <a:pt x="16546" y="10452"/>
                  <a:pt x="16495" y="10492"/>
                </a:cubicBezTo>
                <a:cubicBezTo>
                  <a:pt x="16429" y="10544"/>
                  <a:pt x="16433" y="10542"/>
                  <a:pt x="16371" y="10542"/>
                </a:cubicBezTo>
                <a:cubicBezTo>
                  <a:pt x="16323" y="10463"/>
                  <a:pt x="16347" y="10424"/>
                  <a:pt x="16396" y="10344"/>
                </a:cubicBezTo>
                <a:cubicBezTo>
                  <a:pt x="16484" y="10202"/>
                  <a:pt x="16612" y="10154"/>
                  <a:pt x="16743" y="10071"/>
                </a:cubicBezTo>
                <a:cubicBezTo>
                  <a:pt x="16856" y="9999"/>
                  <a:pt x="16966" y="9912"/>
                  <a:pt x="17066" y="9823"/>
                </a:cubicBezTo>
              </a:path>
              <a:path w="10518" h="3027">
                <a:moveTo>
                  <a:pt x="9847" y="8632"/>
                </a:moveTo>
                <a:cubicBezTo>
                  <a:pt x="9939" y="8657"/>
                  <a:pt x="10024" y="8666"/>
                  <a:pt x="10120" y="8682"/>
                </a:cubicBezTo>
                <a:cubicBezTo>
                  <a:pt x="10286" y="8710"/>
                  <a:pt x="10455" y="8759"/>
                  <a:pt x="10616" y="8806"/>
                </a:cubicBezTo>
                <a:cubicBezTo>
                  <a:pt x="10909" y="8892"/>
                  <a:pt x="11201" y="8970"/>
                  <a:pt x="11485" y="9079"/>
                </a:cubicBezTo>
                <a:cubicBezTo>
                  <a:pt x="11742" y="9177"/>
                  <a:pt x="11983" y="9279"/>
                  <a:pt x="12229" y="9401"/>
                </a:cubicBezTo>
                <a:cubicBezTo>
                  <a:pt x="12407" y="9490"/>
                  <a:pt x="12592" y="9576"/>
                  <a:pt x="12750" y="9699"/>
                </a:cubicBezTo>
                <a:cubicBezTo>
                  <a:pt x="12865" y="9788"/>
                  <a:pt x="12974" y="9917"/>
                  <a:pt x="13097" y="9996"/>
                </a:cubicBezTo>
                <a:cubicBezTo>
                  <a:pt x="13157" y="10016"/>
                  <a:pt x="13172" y="10015"/>
                  <a:pt x="13196" y="10046"/>
                </a:cubicBezTo>
              </a:path>
              <a:path w="10518" h="3027">
                <a:moveTo>
                  <a:pt x="14957" y="8905"/>
                </a:moveTo>
                <a:cubicBezTo>
                  <a:pt x="15062" y="8905"/>
                  <a:pt x="15153" y="8905"/>
                  <a:pt x="15255" y="8880"/>
                </a:cubicBezTo>
                <a:cubicBezTo>
                  <a:pt x="15403" y="8844"/>
                  <a:pt x="15551" y="8811"/>
                  <a:pt x="15701" y="8781"/>
                </a:cubicBezTo>
                <a:cubicBezTo>
                  <a:pt x="15873" y="8746"/>
                  <a:pt x="16053" y="8705"/>
                  <a:pt x="16222" y="8657"/>
                </a:cubicBezTo>
                <a:cubicBezTo>
                  <a:pt x="16376" y="8614"/>
                  <a:pt x="16514" y="8585"/>
                  <a:pt x="16669" y="8558"/>
                </a:cubicBezTo>
                <a:cubicBezTo>
                  <a:pt x="16759" y="8542"/>
                  <a:pt x="16836" y="8494"/>
                  <a:pt x="16892" y="8458"/>
                </a:cubicBezTo>
                <a:cubicBezTo>
                  <a:pt x="16821" y="8450"/>
                  <a:pt x="16763" y="8432"/>
                  <a:pt x="16694" y="8409"/>
                </a:cubicBezTo>
              </a:path>
              <a:path w="10518" h="3027">
                <a:moveTo>
                  <a:pt x="8434" y="9599"/>
                </a:moveTo>
                <a:cubicBezTo>
                  <a:pt x="8475" y="9566"/>
                  <a:pt x="8538" y="9499"/>
                  <a:pt x="8582" y="9475"/>
                </a:cubicBezTo>
                <a:cubicBezTo>
                  <a:pt x="8683" y="9421"/>
                  <a:pt x="8781" y="9393"/>
                  <a:pt x="8880" y="9327"/>
                </a:cubicBezTo>
                <a:cubicBezTo>
                  <a:pt x="9018" y="9235"/>
                  <a:pt x="9191" y="9218"/>
                  <a:pt x="9351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16160" y="3776760"/>
            <a:ext cx="2349720" cy="1036440"/>
          </a:xfrm>
          <a:custGeom>
            <a:avLst/>
            <a:gdLst/>
            <a:ahLst/>
            <a:rect l="l" t="t" r="r" b="b"/>
            <a:pathLst>
              <a:path w="6524" h="2879">
                <a:moveTo>
                  <a:pt x="9426" y="10740"/>
                </a:moveTo>
                <a:cubicBezTo>
                  <a:pt x="9436" y="10779"/>
                  <a:pt x="9451" y="10795"/>
                  <a:pt x="9451" y="10840"/>
                </a:cubicBezTo>
                <a:cubicBezTo>
                  <a:pt x="9451" y="10931"/>
                  <a:pt x="9475" y="11017"/>
                  <a:pt x="9475" y="11112"/>
                </a:cubicBezTo>
                <a:cubicBezTo>
                  <a:pt x="9475" y="11248"/>
                  <a:pt x="9479" y="11377"/>
                  <a:pt x="9451" y="11509"/>
                </a:cubicBezTo>
                <a:cubicBezTo>
                  <a:pt x="9429" y="11613"/>
                  <a:pt x="9426" y="11702"/>
                  <a:pt x="9426" y="11807"/>
                </a:cubicBezTo>
                <a:cubicBezTo>
                  <a:pt x="9426" y="11815"/>
                  <a:pt x="9426" y="11824"/>
                  <a:pt x="9426" y="11832"/>
                </a:cubicBezTo>
              </a:path>
              <a:path w="6524" h="2879">
                <a:moveTo>
                  <a:pt x="8756" y="12105"/>
                </a:moveTo>
                <a:cubicBezTo>
                  <a:pt x="8748" y="12113"/>
                  <a:pt x="8739" y="12121"/>
                  <a:pt x="8731" y="12129"/>
                </a:cubicBezTo>
                <a:cubicBezTo>
                  <a:pt x="8813" y="12129"/>
                  <a:pt x="8874" y="12107"/>
                  <a:pt x="8954" y="12105"/>
                </a:cubicBezTo>
                <a:cubicBezTo>
                  <a:pt x="9122" y="12101"/>
                  <a:pt x="9282" y="12080"/>
                  <a:pt x="9451" y="12080"/>
                </a:cubicBezTo>
                <a:cubicBezTo>
                  <a:pt x="9580" y="12080"/>
                  <a:pt x="9699" y="12092"/>
                  <a:pt x="9823" y="12105"/>
                </a:cubicBezTo>
                <a:cubicBezTo>
                  <a:pt x="9910" y="12114"/>
                  <a:pt x="9898" y="12112"/>
                  <a:pt x="9971" y="12154"/>
                </a:cubicBezTo>
              </a:path>
              <a:path w="6524" h="2879">
                <a:moveTo>
                  <a:pt x="9103" y="12254"/>
                </a:moveTo>
                <a:cubicBezTo>
                  <a:pt x="9056" y="12280"/>
                  <a:pt x="9027" y="12316"/>
                  <a:pt x="8979" y="12353"/>
                </a:cubicBezTo>
                <a:cubicBezTo>
                  <a:pt x="8884" y="12426"/>
                  <a:pt x="8834" y="12511"/>
                  <a:pt x="8756" y="12601"/>
                </a:cubicBezTo>
                <a:cubicBezTo>
                  <a:pt x="8703" y="12662"/>
                  <a:pt x="8683" y="12701"/>
                  <a:pt x="8657" y="12774"/>
                </a:cubicBezTo>
                <a:cubicBezTo>
                  <a:pt x="8717" y="12810"/>
                  <a:pt x="8781" y="12799"/>
                  <a:pt x="8855" y="12799"/>
                </a:cubicBezTo>
                <a:cubicBezTo>
                  <a:pt x="8963" y="12799"/>
                  <a:pt x="9081" y="12805"/>
                  <a:pt x="9178" y="12849"/>
                </a:cubicBezTo>
                <a:cubicBezTo>
                  <a:pt x="9269" y="12890"/>
                  <a:pt x="9222" y="12935"/>
                  <a:pt x="9178" y="12998"/>
                </a:cubicBezTo>
                <a:cubicBezTo>
                  <a:pt x="9110" y="13096"/>
                  <a:pt x="9024" y="13173"/>
                  <a:pt x="8930" y="13246"/>
                </a:cubicBezTo>
                <a:cubicBezTo>
                  <a:pt x="8883" y="13282"/>
                  <a:pt x="8748" y="13387"/>
                  <a:pt x="8706" y="13345"/>
                </a:cubicBezTo>
                <a:cubicBezTo>
                  <a:pt x="8706" y="13337"/>
                  <a:pt x="8706" y="13328"/>
                  <a:pt x="8706" y="13320"/>
                </a:cubicBezTo>
              </a:path>
              <a:path w="6524" h="2879">
                <a:moveTo>
                  <a:pt x="9376" y="12551"/>
                </a:moveTo>
                <a:cubicBezTo>
                  <a:pt x="9369" y="12663"/>
                  <a:pt x="9339" y="12741"/>
                  <a:pt x="9327" y="12849"/>
                </a:cubicBezTo>
                <a:cubicBezTo>
                  <a:pt x="9319" y="12924"/>
                  <a:pt x="9316" y="13020"/>
                  <a:pt x="9327" y="13072"/>
                </a:cubicBezTo>
                <a:cubicBezTo>
                  <a:pt x="9334" y="13109"/>
                  <a:pt x="9337" y="13097"/>
                  <a:pt x="9376" y="13097"/>
                </a:cubicBezTo>
              </a:path>
              <a:path w="6524" h="2879">
                <a:moveTo>
                  <a:pt x="9302" y="12179"/>
                </a:moveTo>
                <a:cubicBezTo>
                  <a:pt x="9287" y="12241"/>
                  <a:pt x="9281" y="12205"/>
                  <a:pt x="9302" y="12278"/>
                </a:cubicBezTo>
              </a:path>
              <a:path w="6524" h="2879">
                <a:moveTo>
                  <a:pt x="9525" y="12626"/>
                </a:moveTo>
                <a:cubicBezTo>
                  <a:pt x="9590" y="12668"/>
                  <a:pt x="9570" y="12678"/>
                  <a:pt x="9599" y="12750"/>
                </a:cubicBezTo>
                <a:cubicBezTo>
                  <a:pt x="9628" y="12823"/>
                  <a:pt x="9639" y="12918"/>
                  <a:pt x="9649" y="12998"/>
                </a:cubicBezTo>
                <a:cubicBezTo>
                  <a:pt x="9655" y="13042"/>
                  <a:pt x="9674" y="13167"/>
                  <a:pt x="9674" y="13122"/>
                </a:cubicBezTo>
                <a:cubicBezTo>
                  <a:pt x="9674" y="12995"/>
                  <a:pt x="9664" y="12872"/>
                  <a:pt x="9699" y="12750"/>
                </a:cubicBezTo>
                <a:cubicBezTo>
                  <a:pt x="9733" y="12633"/>
                  <a:pt x="9786" y="12555"/>
                  <a:pt x="9847" y="12452"/>
                </a:cubicBezTo>
                <a:cubicBezTo>
                  <a:pt x="9878" y="12400"/>
                  <a:pt x="9948" y="12330"/>
                  <a:pt x="10021" y="12353"/>
                </a:cubicBezTo>
                <a:cubicBezTo>
                  <a:pt x="10103" y="12378"/>
                  <a:pt x="10118" y="12484"/>
                  <a:pt x="10120" y="12551"/>
                </a:cubicBezTo>
                <a:cubicBezTo>
                  <a:pt x="10126" y="12706"/>
                  <a:pt x="10089" y="12847"/>
                  <a:pt x="10071" y="12998"/>
                </a:cubicBezTo>
                <a:cubicBezTo>
                  <a:pt x="10070" y="13005"/>
                  <a:pt x="10042" y="13196"/>
                  <a:pt x="10046" y="13196"/>
                </a:cubicBezTo>
                <a:cubicBezTo>
                  <a:pt x="10054" y="13188"/>
                  <a:pt x="10063" y="13179"/>
                  <a:pt x="10071" y="13171"/>
                </a:cubicBezTo>
              </a:path>
              <a:path w="6524" h="2879">
                <a:moveTo>
                  <a:pt x="10418" y="12452"/>
                </a:moveTo>
                <a:cubicBezTo>
                  <a:pt x="10440" y="12547"/>
                  <a:pt x="10443" y="12618"/>
                  <a:pt x="10492" y="12700"/>
                </a:cubicBezTo>
                <a:cubicBezTo>
                  <a:pt x="10534" y="12770"/>
                  <a:pt x="10557" y="12815"/>
                  <a:pt x="10616" y="12874"/>
                </a:cubicBezTo>
                <a:cubicBezTo>
                  <a:pt x="10655" y="12912"/>
                  <a:pt x="10701" y="12918"/>
                  <a:pt x="10740" y="12948"/>
                </a:cubicBezTo>
              </a:path>
              <a:path w="6524" h="2879">
                <a:moveTo>
                  <a:pt x="10542" y="12824"/>
                </a:moveTo>
                <a:cubicBezTo>
                  <a:pt x="10490" y="12738"/>
                  <a:pt x="10476" y="12746"/>
                  <a:pt x="10517" y="12675"/>
                </a:cubicBezTo>
                <a:cubicBezTo>
                  <a:pt x="10574" y="12576"/>
                  <a:pt x="10635" y="12529"/>
                  <a:pt x="10716" y="12452"/>
                </a:cubicBezTo>
                <a:cubicBezTo>
                  <a:pt x="10797" y="12375"/>
                  <a:pt x="10875" y="12296"/>
                  <a:pt x="10964" y="12229"/>
                </a:cubicBezTo>
                <a:cubicBezTo>
                  <a:pt x="11031" y="12178"/>
                  <a:pt x="11096" y="12155"/>
                  <a:pt x="11162" y="12105"/>
                </a:cubicBezTo>
              </a:path>
              <a:path w="6524" h="2879">
                <a:moveTo>
                  <a:pt x="12626" y="11782"/>
                </a:moveTo>
                <a:cubicBezTo>
                  <a:pt x="12626" y="11753"/>
                  <a:pt x="12595" y="11783"/>
                  <a:pt x="12576" y="11807"/>
                </a:cubicBezTo>
                <a:cubicBezTo>
                  <a:pt x="12516" y="11880"/>
                  <a:pt x="12422" y="11905"/>
                  <a:pt x="12353" y="11981"/>
                </a:cubicBezTo>
                <a:cubicBezTo>
                  <a:pt x="12249" y="12094"/>
                  <a:pt x="12138" y="12195"/>
                  <a:pt x="12105" y="12353"/>
                </a:cubicBezTo>
                <a:cubicBezTo>
                  <a:pt x="12089" y="12427"/>
                  <a:pt x="12219" y="12468"/>
                  <a:pt x="12278" y="12477"/>
                </a:cubicBezTo>
                <a:cubicBezTo>
                  <a:pt x="12364" y="12490"/>
                  <a:pt x="12471" y="12481"/>
                  <a:pt x="12551" y="12452"/>
                </a:cubicBezTo>
                <a:cubicBezTo>
                  <a:pt x="12568" y="12444"/>
                  <a:pt x="12584" y="12435"/>
                  <a:pt x="12601" y="12427"/>
                </a:cubicBezTo>
              </a:path>
              <a:path w="6524" h="2879">
                <a:moveTo>
                  <a:pt x="13295" y="11881"/>
                </a:moveTo>
                <a:cubicBezTo>
                  <a:pt x="13228" y="11941"/>
                  <a:pt x="13162" y="11990"/>
                  <a:pt x="13097" y="12055"/>
                </a:cubicBezTo>
                <a:cubicBezTo>
                  <a:pt x="13031" y="12122"/>
                  <a:pt x="12978" y="12157"/>
                  <a:pt x="12973" y="12254"/>
                </a:cubicBezTo>
                <a:cubicBezTo>
                  <a:pt x="12968" y="12345"/>
                  <a:pt x="12981" y="12402"/>
                  <a:pt x="13097" y="12402"/>
                </a:cubicBezTo>
                <a:cubicBezTo>
                  <a:pt x="13150" y="12402"/>
                  <a:pt x="13324" y="12332"/>
                  <a:pt x="13370" y="12303"/>
                </a:cubicBezTo>
                <a:cubicBezTo>
                  <a:pt x="13447" y="12254"/>
                  <a:pt x="13524" y="12185"/>
                  <a:pt x="13568" y="12105"/>
                </a:cubicBezTo>
                <a:cubicBezTo>
                  <a:pt x="13612" y="12026"/>
                  <a:pt x="13592" y="11962"/>
                  <a:pt x="13519" y="11906"/>
                </a:cubicBezTo>
                <a:cubicBezTo>
                  <a:pt x="13446" y="11850"/>
                  <a:pt x="13356" y="11857"/>
                  <a:pt x="13271" y="11857"/>
                </a:cubicBezTo>
                <a:cubicBezTo>
                  <a:pt x="13221" y="11857"/>
                  <a:pt x="13172" y="11857"/>
                  <a:pt x="13122" y="11857"/>
                </a:cubicBezTo>
              </a:path>
              <a:path w="6524" h="2879">
                <a:moveTo>
                  <a:pt x="14114" y="11857"/>
                </a:moveTo>
                <a:cubicBezTo>
                  <a:pt x="14151" y="11801"/>
                  <a:pt x="14045" y="11820"/>
                  <a:pt x="13990" y="11832"/>
                </a:cubicBezTo>
                <a:cubicBezTo>
                  <a:pt x="13910" y="11849"/>
                  <a:pt x="13783" y="11882"/>
                  <a:pt x="13717" y="11931"/>
                </a:cubicBezTo>
                <a:cubicBezTo>
                  <a:pt x="13700" y="11948"/>
                  <a:pt x="13684" y="11964"/>
                  <a:pt x="13667" y="11981"/>
                </a:cubicBezTo>
                <a:cubicBezTo>
                  <a:pt x="13667" y="12069"/>
                  <a:pt x="13745" y="12091"/>
                  <a:pt x="13816" y="12129"/>
                </a:cubicBezTo>
                <a:cubicBezTo>
                  <a:pt x="13922" y="12186"/>
                  <a:pt x="14031" y="12229"/>
                  <a:pt x="14139" y="12278"/>
                </a:cubicBezTo>
                <a:cubicBezTo>
                  <a:pt x="14195" y="12303"/>
                  <a:pt x="14221" y="12382"/>
                  <a:pt x="14163" y="12427"/>
                </a:cubicBezTo>
                <a:cubicBezTo>
                  <a:pt x="14093" y="12481"/>
                  <a:pt x="13974" y="12499"/>
                  <a:pt x="13891" y="12526"/>
                </a:cubicBezTo>
                <a:cubicBezTo>
                  <a:pt x="13816" y="12551"/>
                  <a:pt x="13770" y="12576"/>
                  <a:pt x="13692" y="12576"/>
                </a:cubicBezTo>
                <a:cubicBezTo>
                  <a:pt x="13684" y="12576"/>
                  <a:pt x="13675" y="12576"/>
                  <a:pt x="13667" y="12576"/>
                </a:cubicBezTo>
              </a:path>
              <a:path w="6524" h="2879">
                <a:moveTo>
                  <a:pt x="14412" y="11906"/>
                </a:moveTo>
                <a:cubicBezTo>
                  <a:pt x="14430" y="11938"/>
                  <a:pt x="14479" y="11997"/>
                  <a:pt x="14486" y="12030"/>
                </a:cubicBezTo>
                <a:cubicBezTo>
                  <a:pt x="14503" y="12110"/>
                  <a:pt x="14537" y="12132"/>
                  <a:pt x="14585" y="12204"/>
                </a:cubicBezTo>
                <a:cubicBezTo>
                  <a:pt x="14633" y="12277"/>
                  <a:pt x="14652" y="12358"/>
                  <a:pt x="14709" y="12427"/>
                </a:cubicBezTo>
                <a:cubicBezTo>
                  <a:pt x="14754" y="12481"/>
                  <a:pt x="14795" y="12525"/>
                  <a:pt x="14833" y="12576"/>
                </a:cubicBezTo>
              </a:path>
              <a:path w="6524" h="2879">
                <a:moveTo>
                  <a:pt x="14511" y="12328"/>
                </a:moveTo>
                <a:cubicBezTo>
                  <a:pt x="14587" y="12209"/>
                  <a:pt x="14660" y="12154"/>
                  <a:pt x="14784" y="12080"/>
                </a:cubicBezTo>
                <a:cubicBezTo>
                  <a:pt x="14895" y="12014"/>
                  <a:pt x="15066" y="11934"/>
                  <a:pt x="15156" y="11832"/>
                </a:cubicBezTo>
                <a:cubicBezTo>
                  <a:pt x="15164" y="11815"/>
                  <a:pt x="15172" y="11799"/>
                  <a:pt x="15180" y="11782"/>
                </a:cubicBezTo>
              </a:path>
              <a:path w="6524" h="2879">
                <a:moveTo>
                  <a:pt x="13047" y="10492"/>
                </a:moveTo>
                <a:cubicBezTo>
                  <a:pt x="13047" y="10605"/>
                  <a:pt x="13033" y="10706"/>
                  <a:pt x="13022" y="10815"/>
                </a:cubicBezTo>
                <a:cubicBezTo>
                  <a:pt x="13014" y="10894"/>
                  <a:pt x="13003" y="11018"/>
                  <a:pt x="13047" y="11088"/>
                </a:cubicBezTo>
                <a:cubicBezTo>
                  <a:pt x="13081" y="11142"/>
                  <a:pt x="13139" y="11152"/>
                  <a:pt x="13196" y="11162"/>
                </a:cubicBezTo>
              </a:path>
              <a:path w="6524" h="2879">
                <a:moveTo>
                  <a:pt x="12204" y="11286"/>
                </a:moveTo>
                <a:cubicBezTo>
                  <a:pt x="12324" y="11286"/>
                  <a:pt x="12433" y="11269"/>
                  <a:pt x="12551" y="11261"/>
                </a:cubicBezTo>
                <a:cubicBezTo>
                  <a:pt x="12815" y="11242"/>
                  <a:pt x="13079" y="11237"/>
                  <a:pt x="13345" y="11237"/>
                </a:cubicBezTo>
                <a:cubicBezTo>
                  <a:pt x="13587" y="11237"/>
                  <a:pt x="13824" y="11249"/>
                  <a:pt x="14064" y="11261"/>
                </a:cubicBezTo>
                <a:cubicBezTo>
                  <a:pt x="14232" y="11270"/>
                  <a:pt x="14393" y="11306"/>
                  <a:pt x="14560" y="11311"/>
                </a:cubicBezTo>
                <a:cubicBezTo>
                  <a:pt x="14626" y="11311"/>
                  <a:pt x="14643" y="11311"/>
                  <a:pt x="14684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1360" y="4840200"/>
            <a:ext cx="5429520" cy="500040"/>
          </a:xfrm>
          <a:custGeom>
            <a:avLst/>
            <a:gdLst/>
            <a:ahLst/>
            <a:rect l="l" t="t" r="r" b="b"/>
            <a:pathLst>
              <a:path w="15083" h="1390">
                <a:moveTo>
                  <a:pt x="10195" y="13915"/>
                </a:moveTo>
                <a:cubicBezTo>
                  <a:pt x="10177" y="13891"/>
                  <a:pt x="10162" y="13842"/>
                  <a:pt x="10120" y="13866"/>
                </a:cubicBezTo>
                <a:cubicBezTo>
                  <a:pt x="10063" y="13899"/>
                  <a:pt x="9975" y="13929"/>
                  <a:pt x="9922" y="13965"/>
                </a:cubicBezTo>
                <a:cubicBezTo>
                  <a:pt x="9842" y="14019"/>
                  <a:pt x="9715" y="14094"/>
                  <a:pt x="9649" y="14163"/>
                </a:cubicBezTo>
                <a:cubicBezTo>
                  <a:pt x="9581" y="14234"/>
                  <a:pt x="9534" y="14321"/>
                  <a:pt x="9500" y="14412"/>
                </a:cubicBezTo>
                <a:cubicBezTo>
                  <a:pt x="9467" y="14499"/>
                  <a:pt x="9491" y="14541"/>
                  <a:pt x="9550" y="14610"/>
                </a:cubicBezTo>
                <a:cubicBezTo>
                  <a:pt x="9587" y="14653"/>
                  <a:pt x="9715" y="14700"/>
                  <a:pt x="9773" y="14709"/>
                </a:cubicBezTo>
                <a:cubicBezTo>
                  <a:pt x="9873" y="14724"/>
                  <a:pt x="9966" y="14734"/>
                  <a:pt x="10071" y="14734"/>
                </a:cubicBezTo>
              </a:path>
              <a:path w="15083" h="1390">
                <a:moveTo>
                  <a:pt x="11063" y="13891"/>
                </a:moveTo>
                <a:cubicBezTo>
                  <a:pt x="10935" y="13898"/>
                  <a:pt x="10836" y="13916"/>
                  <a:pt x="10716" y="13965"/>
                </a:cubicBezTo>
                <a:cubicBezTo>
                  <a:pt x="10636" y="13998"/>
                  <a:pt x="10556" y="14086"/>
                  <a:pt x="10517" y="14163"/>
                </a:cubicBezTo>
                <a:cubicBezTo>
                  <a:pt x="10484" y="14229"/>
                  <a:pt x="10634" y="14294"/>
                  <a:pt x="10666" y="14312"/>
                </a:cubicBezTo>
                <a:cubicBezTo>
                  <a:pt x="10765" y="14369"/>
                  <a:pt x="10867" y="14400"/>
                  <a:pt x="10964" y="14461"/>
                </a:cubicBezTo>
                <a:cubicBezTo>
                  <a:pt x="11043" y="14511"/>
                  <a:pt x="11022" y="14548"/>
                  <a:pt x="10964" y="14610"/>
                </a:cubicBezTo>
                <a:cubicBezTo>
                  <a:pt x="10897" y="14682"/>
                  <a:pt x="10807" y="14725"/>
                  <a:pt x="10716" y="14759"/>
                </a:cubicBezTo>
                <a:cubicBezTo>
                  <a:pt x="10685" y="14770"/>
                  <a:pt x="10542" y="14844"/>
                  <a:pt x="10517" y="14833"/>
                </a:cubicBezTo>
                <a:cubicBezTo>
                  <a:pt x="10474" y="14790"/>
                  <a:pt x="10477" y="14759"/>
                  <a:pt x="10542" y="14709"/>
                </a:cubicBezTo>
              </a:path>
              <a:path w="15083" h="1390">
                <a:moveTo>
                  <a:pt x="11832" y="13866"/>
                </a:moveTo>
                <a:cubicBezTo>
                  <a:pt x="11760" y="13823"/>
                  <a:pt x="11692" y="13841"/>
                  <a:pt x="11609" y="13866"/>
                </a:cubicBezTo>
                <a:cubicBezTo>
                  <a:pt x="11449" y="13914"/>
                  <a:pt x="11316" y="13954"/>
                  <a:pt x="11187" y="14064"/>
                </a:cubicBezTo>
                <a:cubicBezTo>
                  <a:pt x="11118" y="14122"/>
                  <a:pt x="11045" y="14216"/>
                  <a:pt x="11063" y="14312"/>
                </a:cubicBezTo>
                <a:cubicBezTo>
                  <a:pt x="11078" y="14393"/>
                  <a:pt x="11219" y="14440"/>
                  <a:pt x="11286" y="14461"/>
                </a:cubicBezTo>
                <a:cubicBezTo>
                  <a:pt x="11408" y="14499"/>
                  <a:pt x="11534" y="14490"/>
                  <a:pt x="11658" y="14511"/>
                </a:cubicBezTo>
                <a:cubicBezTo>
                  <a:pt x="11750" y="14527"/>
                  <a:pt x="11813" y="14536"/>
                  <a:pt x="11906" y="14536"/>
                </a:cubicBezTo>
                <a:cubicBezTo>
                  <a:pt x="11969" y="14536"/>
                  <a:pt x="11974" y="14484"/>
                  <a:pt x="11981" y="14436"/>
                </a:cubicBezTo>
              </a:path>
              <a:path w="15083" h="1390">
                <a:moveTo>
                  <a:pt x="12378" y="13841"/>
                </a:moveTo>
                <a:cubicBezTo>
                  <a:pt x="12428" y="13870"/>
                  <a:pt x="12487" y="13901"/>
                  <a:pt x="12502" y="13965"/>
                </a:cubicBezTo>
                <a:cubicBezTo>
                  <a:pt x="12518" y="14032"/>
                  <a:pt x="12546" y="14093"/>
                  <a:pt x="12576" y="14163"/>
                </a:cubicBezTo>
                <a:cubicBezTo>
                  <a:pt x="12613" y="14249"/>
                  <a:pt x="12680" y="14308"/>
                  <a:pt x="12725" y="14387"/>
                </a:cubicBezTo>
                <a:cubicBezTo>
                  <a:pt x="12766" y="14460"/>
                  <a:pt x="12815" y="14483"/>
                  <a:pt x="12874" y="14536"/>
                </a:cubicBezTo>
                <a:cubicBezTo>
                  <a:pt x="12914" y="14572"/>
                  <a:pt x="12919" y="14585"/>
                  <a:pt x="12973" y="14585"/>
                </a:cubicBezTo>
              </a:path>
              <a:path w="15083" h="1390">
                <a:moveTo>
                  <a:pt x="12601" y="14362"/>
                </a:moveTo>
                <a:cubicBezTo>
                  <a:pt x="12601" y="14259"/>
                  <a:pt x="12614" y="14206"/>
                  <a:pt x="12650" y="14114"/>
                </a:cubicBezTo>
                <a:cubicBezTo>
                  <a:pt x="12698" y="13990"/>
                  <a:pt x="12754" y="13928"/>
                  <a:pt x="12849" y="13841"/>
                </a:cubicBezTo>
                <a:cubicBezTo>
                  <a:pt x="12937" y="13760"/>
                  <a:pt x="13011" y="13675"/>
                  <a:pt x="13097" y="13593"/>
                </a:cubicBezTo>
                <a:cubicBezTo>
                  <a:pt x="13146" y="13546"/>
                  <a:pt x="13198" y="13517"/>
                  <a:pt x="13246" y="13469"/>
                </a:cubicBezTo>
                <a:cubicBezTo>
                  <a:pt x="13254" y="13461"/>
                  <a:pt x="13263" y="13452"/>
                  <a:pt x="13271" y="13444"/>
                </a:cubicBezTo>
              </a:path>
              <a:path w="15083" h="1390">
                <a:moveTo>
                  <a:pt x="14288" y="13767"/>
                </a:moveTo>
                <a:cubicBezTo>
                  <a:pt x="14232" y="13711"/>
                  <a:pt x="14248" y="13722"/>
                  <a:pt x="14188" y="13742"/>
                </a:cubicBezTo>
                <a:cubicBezTo>
                  <a:pt x="14045" y="13789"/>
                  <a:pt x="13953" y="13823"/>
                  <a:pt x="13841" y="13915"/>
                </a:cubicBezTo>
                <a:cubicBezTo>
                  <a:pt x="13772" y="13972"/>
                  <a:pt x="13737" y="14035"/>
                  <a:pt x="13767" y="14114"/>
                </a:cubicBezTo>
                <a:cubicBezTo>
                  <a:pt x="13796" y="14191"/>
                  <a:pt x="13893" y="14235"/>
                  <a:pt x="13965" y="14263"/>
                </a:cubicBezTo>
                <a:cubicBezTo>
                  <a:pt x="14043" y="14293"/>
                  <a:pt x="14146" y="14302"/>
                  <a:pt x="14188" y="14387"/>
                </a:cubicBezTo>
                <a:cubicBezTo>
                  <a:pt x="14221" y="14454"/>
                  <a:pt x="14174" y="14480"/>
                  <a:pt x="14139" y="14511"/>
                </a:cubicBezTo>
                <a:cubicBezTo>
                  <a:pt x="14043" y="14595"/>
                  <a:pt x="13920" y="14616"/>
                  <a:pt x="13816" y="14660"/>
                </a:cubicBezTo>
                <a:cubicBezTo>
                  <a:pt x="13738" y="14693"/>
                  <a:pt x="13788" y="14635"/>
                  <a:pt x="13816" y="14585"/>
                </a:cubicBezTo>
              </a:path>
              <a:path w="15083" h="1390">
                <a:moveTo>
                  <a:pt x="14436" y="14015"/>
                </a:moveTo>
                <a:cubicBezTo>
                  <a:pt x="14481" y="14048"/>
                  <a:pt x="14530" y="14033"/>
                  <a:pt x="14585" y="14015"/>
                </a:cubicBezTo>
                <a:cubicBezTo>
                  <a:pt x="14668" y="13987"/>
                  <a:pt x="14752" y="13987"/>
                  <a:pt x="14833" y="13940"/>
                </a:cubicBezTo>
                <a:cubicBezTo>
                  <a:pt x="14874" y="13916"/>
                  <a:pt x="15033" y="13863"/>
                  <a:pt x="15056" y="13816"/>
                </a:cubicBezTo>
                <a:cubicBezTo>
                  <a:pt x="15056" y="13775"/>
                  <a:pt x="15056" y="13767"/>
                  <a:pt x="15056" y="13742"/>
                </a:cubicBezTo>
                <a:cubicBezTo>
                  <a:pt x="14999" y="13707"/>
                  <a:pt x="14906" y="13706"/>
                  <a:pt x="14833" y="13717"/>
                </a:cubicBezTo>
                <a:cubicBezTo>
                  <a:pt x="14706" y="13737"/>
                  <a:pt x="14584" y="13811"/>
                  <a:pt x="14486" y="13891"/>
                </a:cubicBezTo>
                <a:cubicBezTo>
                  <a:pt x="14421" y="13943"/>
                  <a:pt x="14362" y="13999"/>
                  <a:pt x="14387" y="14089"/>
                </a:cubicBezTo>
                <a:cubicBezTo>
                  <a:pt x="14404" y="14150"/>
                  <a:pt x="14504" y="14214"/>
                  <a:pt x="14560" y="14238"/>
                </a:cubicBezTo>
                <a:cubicBezTo>
                  <a:pt x="14687" y="14294"/>
                  <a:pt x="14794" y="14288"/>
                  <a:pt x="14932" y="14288"/>
                </a:cubicBezTo>
                <a:cubicBezTo>
                  <a:pt x="14991" y="14288"/>
                  <a:pt x="15017" y="14285"/>
                  <a:pt x="15056" y="14263"/>
                </a:cubicBezTo>
              </a:path>
              <a:path w="15083" h="1390">
                <a:moveTo>
                  <a:pt x="15652" y="13667"/>
                </a:moveTo>
                <a:cubicBezTo>
                  <a:pt x="15551" y="13681"/>
                  <a:pt x="15492" y="13749"/>
                  <a:pt x="15404" y="13816"/>
                </a:cubicBezTo>
                <a:cubicBezTo>
                  <a:pt x="15293" y="13900"/>
                  <a:pt x="15194" y="13959"/>
                  <a:pt x="15131" y="14089"/>
                </a:cubicBezTo>
                <a:cubicBezTo>
                  <a:pt x="15088" y="14177"/>
                  <a:pt x="15047" y="14268"/>
                  <a:pt x="15131" y="14337"/>
                </a:cubicBezTo>
                <a:cubicBezTo>
                  <a:pt x="15204" y="14397"/>
                  <a:pt x="15315" y="14401"/>
                  <a:pt x="15404" y="14387"/>
                </a:cubicBezTo>
                <a:cubicBezTo>
                  <a:pt x="15437" y="14379"/>
                  <a:pt x="15470" y="14370"/>
                  <a:pt x="15503" y="14362"/>
                </a:cubicBezTo>
              </a:path>
              <a:path w="15083" h="1390">
                <a:moveTo>
                  <a:pt x="15801" y="13667"/>
                </a:moveTo>
                <a:cubicBezTo>
                  <a:pt x="15809" y="13701"/>
                  <a:pt x="15826" y="13760"/>
                  <a:pt x="15850" y="13791"/>
                </a:cubicBezTo>
                <a:cubicBezTo>
                  <a:pt x="15917" y="13878"/>
                  <a:pt x="15988" y="13994"/>
                  <a:pt x="16073" y="14064"/>
                </a:cubicBezTo>
                <a:cubicBezTo>
                  <a:pt x="16155" y="14131"/>
                  <a:pt x="16318" y="14237"/>
                  <a:pt x="16396" y="14263"/>
                </a:cubicBezTo>
                <a:cubicBezTo>
                  <a:pt x="16404" y="14263"/>
                  <a:pt x="16413" y="14263"/>
                  <a:pt x="16421" y="14263"/>
                </a:cubicBezTo>
              </a:path>
              <a:path w="15083" h="1390">
                <a:moveTo>
                  <a:pt x="15974" y="14015"/>
                </a:moveTo>
                <a:cubicBezTo>
                  <a:pt x="15982" y="13917"/>
                  <a:pt x="15982" y="13888"/>
                  <a:pt x="16049" y="13816"/>
                </a:cubicBezTo>
                <a:cubicBezTo>
                  <a:pt x="16127" y="13732"/>
                  <a:pt x="16217" y="13620"/>
                  <a:pt x="16321" y="13568"/>
                </a:cubicBezTo>
                <a:cubicBezTo>
                  <a:pt x="16381" y="13538"/>
                  <a:pt x="16457" y="13517"/>
                  <a:pt x="16520" y="13494"/>
                </a:cubicBezTo>
              </a:path>
              <a:path w="15083" h="1390">
                <a:moveTo>
                  <a:pt x="16966" y="13667"/>
                </a:moveTo>
                <a:cubicBezTo>
                  <a:pt x="17097" y="13642"/>
                  <a:pt x="17230" y="13622"/>
                  <a:pt x="17363" y="13618"/>
                </a:cubicBezTo>
                <a:cubicBezTo>
                  <a:pt x="17437" y="13616"/>
                  <a:pt x="17513" y="13618"/>
                  <a:pt x="17587" y="13618"/>
                </a:cubicBezTo>
              </a:path>
              <a:path w="15083" h="1390">
                <a:moveTo>
                  <a:pt x="16991" y="13891"/>
                </a:moveTo>
                <a:cubicBezTo>
                  <a:pt x="16934" y="13910"/>
                  <a:pt x="16909" y="13900"/>
                  <a:pt x="16917" y="13940"/>
                </a:cubicBezTo>
                <a:cubicBezTo>
                  <a:pt x="17020" y="13979"/>
                  <a:pt x="17055" y="13950"/>
                  <a:pt x="17165" y="13940"/>
                </a:cubicBezTo>
                <a:cubicBezTo>
                  <a:pt x="17303" y="13928"/>
                  <a:pt x="17428" y="13954"/>
                  <a:pt x="17562" y="13965"/>
                </a:cubicBezTo>
                <a:cubicBezTo>
                  <a:pt x="17653" y="13965"/>
                  <a:pt x="17677" y="13965"/>
                  <a:pt x="17735" y="13965"/>
                </a:cubicBezTo>
              </a:path>
              <a:path w="15083" h="1390">
                <a:moveTo>
                  <a:pt x="19025" y="13618"/>
                </a:moveTo>
                <a:cubicBezTo>
                  <a:pt x="19017" y="13525"/>
                  <a:pt x="19007" y="13468"/>
                  <a:pt x="18901" y="13444"/>
                </a:cubicBezTo>
                <a:cubicBezTo>
                  <a:pt x="18762" y="13413"/>
                  <a:pt x="18597" y="13474"/>
                  <a:pt x="18479" y="13543"/>
                </a:cubicBezTo>
                <a:cubicBezTo>
                  <a:pt x="18340" y="13625"/>
                  <a:pt x="18204" y="13740"/>
                  <a:pt x="18107" y="13866"/>
                </a:cubicBezTo>
                <a:cubicBezTo>
                  <a:pt x="18048" y="13943"/>
                  <a:pt x="17996" y="14048"/>
                  <a:pt x="18058" y="14139"/>
                </a:cubicBezTo>
                <a:cubicBezTo>
                  <a:pt x="18144" y="14265"/>
                  <a:pt x="18253" y="14240"/>
                  <a:pt x="18380" y="14263"/>
                </a:cubicBezTo>
                <a:cubicBezTo>
                  <a:pt x="18516" y="14288"/>
                  <a:pt x="18662" y="14267"/>
                  <a:pt x="18802" y="14238"/>
                </a:cubicBezTo>
                <a:cubicBezTo>
                  <a:pt x="18907" y="14216"/>
                  <a:pt x="18983" y="14188"/>
                  <a:pt x="19075" y="14139"/>
                </a:cubicBezTo>
              </a:path>
              <a:path w="15083" h="1390">
                <a:moveTo>
                  <a:pt x="19645" y="13519"/>
                </a:moveTo>
                <a:cubicBezTo>
                  <a:pt x="19582" y="13480"/>
                  <a:pt x="19490" y="13500"/>
                  <a:pt x="19422" y="13543"/>
                </a:cubicBezTo>
                <a:cubicBezTo>
                  <a:pt x="19370" y="13576"/>
                  <a:pt x="19261" y="13619"/>
                  <a:pt x="19248" y="13692"/>
                </a:cubicBezTo>
                <a:cubicBezTo>
                  <a:pt x="19232" y="13779"/>
                  <a:pt x="19298" y="13853"/>
                  <a:pt x="19372" y="13891"/>
                </a:cubicBezTo>
                <a:cubicBezTo>
                  <a:pt x="19468" y="13940"/>
                  <a:pt x="19598" y="13952"/>
                  <a:pt x="19670" y="14039"/>
                </a:cubicBezTo>
                <a:cubicBezTo>
                  <a:pt x="19709" y="14086"/>
                  <a:pt x="19750" y="14158"/>
                  <a:pt x="19695" y="14213"/>
                </a:cubicBezTo>
                <a:cubicBezTo>
                  <a:pt x="19628" y="14280"/>
                  <a:pt x="19483" y="14327"/>
                  <a:pt x="19397" y="14362"/>
                </a:cubicBezTo>
                <a:cubicBezTo>
                  <a:pt x="19330" y="14389"/>
                  <a:pt x="19269" y="14404"/>
                  <a:pt x="19199" y="14412"/>
                </a:cubicBezTo>
              </a:path>
              <a:path w="15083" h="1390">
                <a:moveTo>
                  <a:pt x="20439" y="13543"/>
                </a:moveTo>
                <a:cubicBezTo>
                  <a:pt x="20390" y="13485"/>
                  <a:pt x="20345" y="13486"/>
                  <a:pt x="20265" y="13519"/>
                </a:cubicBezTo>
                <a:cubicBezTo>
                  <a:pt x="20153" y="13566"/>
                  <a:pt x="19964" y="13658"/>
                  <a:pt x="19893" y="13767"/>
                </a:cubicBezTo>
                <a:cubicBezTo>
                  <a:pt x="19852" y="13831"/>
                  <a:pt x="19781" y="13958"/>
                  <a:pt x="19794" y="14039"/>
                </a:cubicBezTo>
                <a:cubicBezTo>
                  <a:pt x="19817" y="14179"/>
                  <a:pt x="19920" y="14217"/>
                  <a:pt x="20042" y="14263"/>
                </a:cubicBezTo>
                <a:cubicBezTo>
                  <a:pt x="20156" y="14307"/>
                  <a:pt x="20250" y="14273"/>
                  <a:pt x="20365" y="14263"/>
                </a:cubicBezTo>
              </a:path>
              <a:path w="15083" h="1390">
                <a:moveTo>
                  <a:pt x="20687" y="13494"/>
                </a:moveTo>
                <a:cubicBezTo>
                  <a:pt x="20718" y="13545"/>
                  <a:pt x="20732" y="13607"/>
                  <a:pt x="20762" y="13667"/>
                </a:cubicBezTo>
                <a:cubicBezTo>
                  <a:pt x="20801" y="13747"/>
                  <a:pt x="20837" y="13835"/>
                  <a:pt x="20910" y="13891"/>
                </a:cubicBezTo>
                <a:cubicBezTo>
                  <a:pt x="20982" y="13947"/>
                  <a:pt x="21061" y="13995"/>
                  <a:pt x="21134" y="14039"/>
                </a:cubicBezTo>
                <a:cubicBezTo>
                  <a:pt x="21142" y="14047"/>
                  <a:pt x="21150" y="14056"/>
                  <a:pt x="21158" y="14064"/>
                </a:cubicBezTo>
              </a:path>
              <a:path w="15083" h="1390">
                <a:moveTo>
                  <a:pt x="20762" y="14015"/>
                </a:moveTo>
                <a:cubicBezTo>
                  <a:pt x="20811" y="13935"/>
                  <a:pt x="20859" y="13853"/>
                  <a:pt x="20935" y="13791"/>
                </a:cubicBezTo>
                <a:cubicBezTo>
                  <a:pt x="21017" y="13725"/>
                  <a:pt x="21100" y="13677"/>
                  <a:pt x="21183" y="13618"/>
                </a:cubicBezTo>
                <a:cubicBezTo>
                  <a:pt x="21257" y="13566"/>
                  <a:pt x="21344" y="13519"/>
                  <a:pt x="21431" y="13494"/>
                </a:cubicBezTo>
                <a:cubicBezTo>
                  <a:pt x="21439" y="13494"/>
                  <a:pt x="21448" y="13494"/>
                  <a:pt x="21456" y="13494"/>
                </a:cubicBezTo>
              </a:path>
              <a:path w="15083" h="1390">
                <a:moveTo>
                  <a:pt x="22002" y="13494"/>
                </a:moveTo>
                <a:cubicBezTo>
                  <a:pt x="21917" y="13494"/>
                  <a:pt x="21859" y="13509"/>
                  <a:pt x="21779" y="13543"/>
                </a:cubicBezTo>
                <a:cubicBezTo>
                  <a:pt x="21706" y="13574"/>
                  <a:pt x="21611" y="13661"/>
                  <a:pt x="21580" y="13717"/>
                </a:cubicBezTo>
                <a:cubicBezTo>
                  <a:pt x="21525" y="13814"/>
                  <a:pt x="21615" y="13838"/>
                  <a:pt x="21679" y="13891"/>
                </a:cubicBezTo>
                <a:cubicBezTo>
                  <a:pt x="21756" y="13954"/>
                  <a:pt x="21830" y="14001"/>
                  <a:pt x="21903" y="14064"/>
                </a:cubicBezTo>
                <a:cubicBezTo>
                  <a:pt x="21947" y="14102"/>
                  <a:pt x="21932" y="14170"/>
                  <a:pt x="21903" y="14213"/>
                </a:cubicBezTo>
                <a:cubicBezTo>
                  <a:pt x="21869" y="14265"/>
                  <a:pt x="21760" y="14296"/>
                  <a:pt x="21704" y="14312"/>
                </a:cubicBezTo>
                <a:cubicBezTo>
                  <a:pt x="21684" y="14318"/>
                  <a:pt x="21651" y="14312"/>
                  <a:pt x="21630" y="14312"/>
                </a:cubicBezTo>
                <a:cubicBezTo>
                  <a:pt x="21667" y="14263"/>
                  <a:pt x="21644" y="14278"/>
                  <a:pt x="21704" y="14238"/>
                </a:cubicBezTo>
              </a:path>
              <a:path w="15083" h="1390">
                <a:moveTo>
                  <a:pt x="22225" y="13866"/>
                </a:moveTo>
                <a:cubicBezTo>
                  <a:pt x="22281" y="13900"/>
                  <a:pt x="22328" y="13891"/>
                  <a:pt x="22399" y="13891"/>
                </a:cubicBezTo>
                <a:cubicBezTo>
                  <a:pt x="22491" y="13891"/>
                  <a:pt x="22634" y="13872"/>
                  <a:pt x="22721" y="13841"/>
                </a:cubicBezTo>
                <a:cubicBezTo>
                  <a:pt x="22753" y="13830"/>
                  <a:pt x="22760" y="13800"/>
                  <a:pt x="22796" y="13791"/>
                </a:cubicBezTo>
                <a:cubicBezTo>
                  <a:pt x="22768" y="13755"/>
                  <a:pt x="22730" y="13712"/>
                  <a:pt x="22671" y="13717"/>
                </a:cubicBezTo>
                <a:cubicBezTo>
                  <a:pt x="22558" y="13727"/>
                  <a:pt x="22445" y="13788"/>
                  <a:pt x="22349" y="13841"/>
                </a:cubicBezTo>
                <a:cubicBezTo>
                  <a:pt x="22273" y="13883"/>
                  <a:pt x="22210" y="13929"/>
                  <a:pt x="22200" y="14015"/>
                </a:cubicBezTo>
                <a:cubicBezTo>
                  <a:pt x="22191" y="14091"/>
                  <a:pt x="22260" y="14177"/>
                  <a:pt x="22324" y="14213"/>
                </a:cubicBezTo>
                <a:cubicBezTo>
                  <a:pt x="22437" y="14277"/>
                  <a:pt x="22545" y="14282"/>
                  <a:pt x="22671" y="14288"/>
                </a:cubicBezTo>
              </a:path>
              <a:path w="15083" h="1390">
                <a:moveTo>
                  <a:pt x="23366" y="13816"/>
                </a:moveTo>
                <a:cubicBezTo>
                  <a:pt x="23217" y="13816"/>
                  <a:pt x="23177" y="13832"/>
                  <a:pt x="23044" y="13915"/>
                </a:cubicBezTo>
                <a:cubicBezTo>
                  <a:pt x="22959" y="13968"/>
                  <a:pt x="22907" y="14021"/>
                  <a:pt x="22870" y="14114"/>
                </a:cubicBezTo>
                <a:cubicBezTo>
                  <a:pt x="22836" y="14199"/>
                  <a:pt x="22860" y="14247"/>
                  <a:pt x="22920" y="14312"/>
                </a:cubicBezTo>
                <a:cubicBezTo>
                  <a:pt x="22987" y="14384"/>
                  <a:pt x="23096" y="14379"/>
                  <a:pt x="23192" y="14387"/>
                </a:cubicBezTo>
              </a:path>
              <a:path w="15083" h="1390">
                <a:moveTo>
                  <a:pt x="23688" y="13767"/>
                </a:moveTo>
                <a:cubicBezTo>
                  <a:pt x="23648" y="13780"/>
                  <a:pt x="23643" y="13815"/>
                  <a:pt x="23639" y="13866"/>
                </a:cubicBezTo>
                <a:cubicBezTo>
                  <a:pt x="23630" y="13971"/>
                  <a:pt x="23730" y="14178"/>
                  <a:pt x="23763" y="14263"/>
                </a:cubicBezTo>
                <a:cubicBezTo>
                  <a:pt x="23791" y="14335"/>
                  <a:pt x="23817" y="14421"/>
                  <a:pt x="23862" y="14486"/>
                </a:cubicBezTo>
                <a:cubicBezTo>
                  <a:pt x="23887" y="14511"/>
                  <a:pt x="23895" y="14519"/>
                  <a:pt x="23912" y="14536"/>
                </a:cubicBezTo>
              </a:path>
              <a:path w="15083" h="1390">
                <a:moveTo>
                  <a:pt x="23490" y="14337"/>
                </a:moveTo>
                <a:cubicBezTo>
                  <a:pt x="23542" y="14188"/>
                  <a:pt x="23553" y="14121"/>
                  <a:pt x="23688" y="14039"/>
                </a:cubicBezTo>
                <a:cubicBezTo>
                  <a:pt x="23769" y="13990"/>
                  <a:pt x="23847" y="13925"/>
                  <a:pt x="23937" y="13891"/>
                </a:cubicBezTo>
                <a:cubicBezTo>
                  <a:pt x="24047" y="13850"/>
                  <a:pt x="24171" y="13821"/>
                  <a:pt x="24284" y="13791"/>
                </a:cubicBezTo>
                <a:cubicBezTo>
                  <a:pt x="24403" y="13759"/>
                  <a:pt x="24456" y="13716"/>
                  <a:pt x="24557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000160" y="2687760"/>
            <a:ext cx="5187960" cy="598320"/>
          </a:xfrm>
          <a:custGeom>
            <a:avLst/>
            <a:gdLst/>
            <a:ahLst/>
            <a:rect l="l" t="t" r="r" b="b"/>
            <a:pathLst>
              <a:path w="14413" h="1663">
                <a:moveTo>
                  <a:pt x="5904" y="7541"/>
                </a:moveTo>
                <a:cubicBezTo>
                  <a:pt x="5904" y="7719"/>
                  <a:pt x="5903" y="7889"/>
                  <a:pt x="5879" y="8062"/>
                </a:cubicBezTo>
                <a:cubicBezTo>
                  <a:pt x="5874" y="8099"/>
                  <a:pt x="5879" y="8149"/>
                  <a:pt x="5879" y="8186"/>
                </a:cubicBezTo>
                <a:cubicBezTo>
                  <a:pt x="5879" y="8050"/>
                  <a:pt x="5869" y="7921"/>
                  <a:pt x="5854" y="7789"/>
                </a:cubicBezTo>
                <a:cubicBezTo>
                  <a:pt x="5854" y="7723"/>
                  <a:pt x="5854" y="7706"/>
                  <a:pt x="5854" y="7665"/>
                </a:cubicBezTo>
              </a:path>
              <a:path w="14413" h="1663">
                <a:moveTo>
                  <a:pt x="5655" y="7466"/>
                </a:moveTo>
                <a:cubicBezTo>
                  <a:pt x="5555" y="7516"/>
                  <a:pt x="5603" y="7486"/>
                  <a:pt x="5556" y="7541"/>
                </a:cubicBezTo>
                <a:cubicBezTo>
                  <a:pt x="5572" y="7596"/>
                  <a:pt x="5580" y="7623"/>
                  <a:pt x="5655" y="7640"/>
                </a:cubicBezTo>
                <a:cubicBezTo>
                  <a:pt x="5790" y="7670"/>
                  <a:pt x="5945" y="7625"/>
                  <a:pt x="6077" y="7615"/>
                </a:cubicBezTo>
                <a:cubicBezTo>
                  <a:pt x="6240" y="7603"/>
                  <a:pt x="6388" y="7575"/>
                  <a:pt x="6548" y="7541"/>
                </a:cubicBezTo>
                <a:cubicBezTo>
                  <a:pt x="6687" y="7511"/>
                  <a:pt x="6813" y="7506"/>
                  <a:pt x="6945" y="7516"/>
                </a:cubicBezTo>
                <a:cubicBezTo>
                  <a:pt x="7006" y="7520"/>
                  <a:pt x="7039" y="7527"/>
                  <a:pt x="7094" y="7541"/>
                </a:cubicBezTo>
                <a:cubicBezTo>
                  <a:pt x="7087" y="7600"/>
                  <a:pt x="7074" y="7682"/>
                  <a:pt x="7045" y="7739"/>
                </a:cubicBezTo>
                <a:cubicBezTo>
                  <a:pt x="6989" y="7851"/>
                  <a:pt x="6904" y="7950"/>
                  <a:pt x="6846" y="8062"/>
                </a:cubicBezTo>
                <a:cubicBezTo>
                  <a:pt x="6765" y="8219"/>
                  <a:pt x="6704" y="8375"/>
                  <a:pt x="6623" y="8533"/>
                </a:cubicBezTo>
                <a:cubicBezTo>
                  <a:pt x="6564" y="8647"/>
                  <a:pt x="6545" y="8762"/>
                  <a:pt x="6499" y="8880"/>
                </a:cubicBezTo>
                <a:cubicBezTo>
                  <a:pt x="6479" y="8932"/>
                  <a:pt x="6438" y="9025"/>
                  <a:pt x="6449" y="9079"/>
                </a:cubicBezTo>
                <a:cubicBezTo>
                  <a:pt x="6449" y="9107"/>
                  <a:pt x="6452" y="9117"/>
                  <a:pt x="6474" y="9128"/>
                </a:cubicBezTo>
              </a:path>
              <a:path w="14413" h="1663">
                <a:moveTo>
                  <a:pt x="7144" y="8954"/>
                </a:moveTo>
                <a:cubicBezTo>
                  <a:pt x="7144" y="8979"/>
                  <a:pt x="7144" y="8987"/>
                  <a:pt x="7169" y="8979"/>
                </a:cubicBezTo>
              </a:path>
              <a:path w="14413" h="1663">
                <a:moveTo>
                  <a:pt x="8111" y="7640"/>
                </a:moveTo>
                <a:cubicBezTo>
                  <a:pt x="8111" y="7703"/>
                  <a:pt x="8129" y="7752"/>
                  <a:pt x="8136" y="7813"/>
                </a:cubicBezTo>
                <a:cubicBezTo>
                  <a:pt x="8150" y="7935"/>
                  <a:pt x="8150" y="8064"/>
                  <a:pt x="8161" y="8186"/>
                </a:cubicBezTo>
                <a:cubicBezTo>
                  <a:pt x="8183" y="8429"/>
                  <a:pt x="8161" y="8685"/>
                  <a:pt x="8161" y="8930"/>
                </a:cubicBezTo>
              </a:path>
              <a:path w="14413" h="1663">
                <a:moveTo>
                  <a:pt x="7665" y="8409"/>
                </a:moveTo>
                <a:cubicBezTo>
                  <a:pt x="7715" y="8422"/>
                  <a:pt x="7728" y="8434"/>
                  <a:pt x="7789" y="8434"/>
                </a:cubicBezTo>
                <a:cubicBezTo>
                  <a:pt x="7990" y="8434"/>
                  <a:pt x="8191" y="8433"/>
                  <a:pt x="8384" y="8409"/>
                </a:cubicBezTo>
                <a:cubicBezTo>
                  <a:pt x="8450" y="8409"/>
                  <a:pt x="8467" y="8409"/>
                  <a:pt x="8508" y="8409"/>
                </a:cubicBezTo>
              </a:path>
              <a:path w="14413" h="1663">
                <a:moveTo>
                  <a:pt x="9054" y="8384"/>
                </a:moveTo>
                <a:cubicBezTo>
                  <a:pt x="9029" y="8350"/>
                  <a:pt x="9022" y="8324"/>
                  <a:pt x="8979" y="8310"/>
                </a:cubicBezTo>
                <a:cubicBezTo>
                  <a:pt x="8931" y="8295"/>
                  <a:pt x="8872" y="8316"/>
                  <a:pt x="8830" y="8334"/>
                </a:cubicBezTo>
                <a:cubicBezTo>
                  <a:pt x="8762" y="8364"/>
                  <a:pt x="8678" y="8398"/>
                  <a:pt x="8632" y="8458"/>
                </a:cubicBezTo>
                <a:cubicBezTo>
                  <a:pt x="8563" y="8548"/>
                  <a:pt x="8558" y="8650"/>
                  <a:pt x="8558" y="8756"/>
                </a:cubicBezTo>
                <a:cubicBezTo>
                  <a:pt x="8558" y="8867"/>
                  <a:pt x="8599" y="8852"/>
                  <a:pt x="8682" y="8880"/>
                </a:cubicBezTo>
                <a:cubicBezTo>
                  <a:pt x="8764" y="8908"/>
                  <a:pt x="8803" y="8909"/>
                  <a:pt x="8880" y="8855"/>
                </a:cubicBezTo>
                <a:cubicBezTo>
                  <a:pt x="8926" y="8823"/>
                  <a:pt x="8943" y="8771"/>
                  <a:pt x="8979" y="8731"/>
                </a:cubicBezTo>
                <a:cubicBezTo>
                  <a:pt x="9004" y="8706"/>
                  <a:pt x="9012" y="8698"/>
                  <a:pt x="9029" y="8682"/>
                </a:cubicBezTo>
                <a:cubicBezTo>
                  <a:pt x="9067" y="8731"/>
                  <a:pt x="9055" y="8791"/>
                  <a:pt x="9079" y="8855"/>
                </a:cubicBezTo>
                <a:cubicBezTo>
                  <a:pt x="9105" y="8923"/>
                  <a:pt x="9162" y="8949"/>
                  <a:pt x="9227" y="8954"/>
                </a:cubicBezTo>
                <a:cubicBezTo>
                  <a:pt x="9235" y="8954"/>
                  <a:pt x="9244" y="8954"/>
                  <a:pt x="9252" y="8954"/>
                </a:cubicBezTo>
              </a:path>
              <a:path w="14413" h="1663">
                <a:moveTo>
                  <a:pt x="9401" y="8409"/>
                </a:moveTo>
                <a:cubicBezTo>
                  <a:pt x="9413" y="8468"/>
                  <a:pt x="9427" y="8526"/>
                  <a:pt x="9451" y="8582"/>
                </a:cubicBezTo>
                <a:cubicBezTo>
                  <a:pt x="9479" y="8646"/>
                  <a:pt x="9509" y="8737"/>
                  <a:pt x="9525" y="8806"/>
                </a:cubicBezTo>
                <a:cubicBezTo>
                  <a:pt x="9539" y="8868"/>
                  <a:pt x="9512" y="8879"/>
                  <a:pt x="9550" y="8930"/>
                </a:cubicBezTo>
                <a:cubicBezTo>
                  <a:pt x="9550" y="8849"/>
                  <a:pt x="9538" y="8781"/>
                  <a:pt x="9525" y="8706"/>
                </a:cubicBezTo>
                <a:cubicBezTo>
                  <a:pt x="9511" y="8625"/>
                  <a:pt x="9513" y="8498"/>
                  <a:pt x="9550" y="8434"/>
                </a:cubicBezTo>
                <a:cubicBezTo>
                  <a:pt x="9578" y="8385"/>
                  <a:pt x="9656" y="8344"/>
                  <a:pt x="9723" y="8359"/>
                </a:cubicBezTo>
                <a:cubicBezTo>
                  <a:pt x="9776" y="8371"/>
                  <a:pt x="9865" y="8444"/>
                  <a:pt x="9897" y="8483"/>
                </a:cubicBezTo>
                <a:cubicBezTo>
                  <a:pt x="9958" y="8558"/>
                  <a:pt x="9980" y="8646"/>
                  <a:pt x="10021" y="8731"/>
                </a:cubicBezTo>
                <a:cubicBezTo>
                  <a:pt x="10040" y="8770"/>
                  <a:pt x="10076" y="8880"/>
                  <a:pt x="10096" y="8905"/>
                </a:cubicBezTo>
                <a:cubicBezTo>
                  <a:pt x="10124" y="8905"/>
                  <a:pt x="10134" y="8908"/>
                  <a:pt x="10145" y="8930"/>
                </a:cubicBezTo>
              </a:path>
              <a:path w="14413" h="1663">
                <a:moveTo>
                  <a:pt x="9971" y="7813"/>
                </a:moveTo>
                <a:cubicBezTo>
                  <a:pt x="10041" y="7788"/>
                  <a:pt x="10095" y="7789"/>
                  <a:pt x="10170" y="7789"/>
                </a:cubicBezTo>
                <a:cubicBezTo>
                  <a:pt x="10251" y="7789"/>
                  <a:pt x="10290" y="7792"/>
                  <a:pt x="10368" y="7813"/>
                </a:cubicBezTo>
              </a:path>
              <a:path w="14413" h="1663">
                <a:moveTo>
                  <a:pt x="10517" y="7863"/>
                </a:moveTo>
                <a:cubicBezTo>
                  <a:pt x="10542" y="8001"/>
                  <a:pt x="10501" y="7965"/>
                  <a:pt x="10443" y="8062"/>
                </a:cubicBezTo>
                <a:cubicBezTo>
                  <a:pt x="10395" y="8142"/>
                  <a:pt x="10347" y="8193"/>
                  <a:pt x="10294" y="8260"/>
                </a:cubicBezTo>
                <a:cubicBezTo>
                  <a:pt x="10255" y="8309"/>
                  <a:pt x="10227" y="8362"/>
                  <a:pt x="10269" y="8409"/>
                </a:cubicBezTo>
                <a:cubicBezTo>
                  <a:pt x="10306" y="8451"/>
                  <a:pt x="10365" y="8434"/>
                  <a:pt x="10418" y="8434"/>
                </a:cubicBezTo>
                <a:cubicBezTo>
                  <a:pt x="10468" y="8434"/>
                  <a:pt x="10517" y="8434"/>
                  <a:pt x="10567" y="8434"/>
                </a:cubicBezTo>
              </a:path>
              <a:path w="14413" h="1663">
                <a:moveTo>
                  <a:pt x="10914" y="8285"/>
                </a:moveTo>
                <a:cubicBezTo>
                  <a:pt x="10960" y="8315"/>
                  <a:pt x="11002" y="8358"/>
                  <a:pt x="11038" y="8409"/>
                </a:cubicBezTo>
                <a:cubicBezTo>
                  <a:pt x="11085" y="8475"/>
                  <a:pt x="11124" y="8560"/>
                  <a:pt x="11162" y="8632"/>
                </a:cubicBezTo>
                <a:cubicBezTo>
                  <a:pt x="11203" y="8710"/>
                  <a:pt x="11237" y="8787"/>
                  <a:pt x="11311" y="8830"/>
                </a:cubicBezTo>
                <a:cubicBezTo>
                  <a:pt x="11361" y="8855"/>
                  <a:pt x="11377" y="8863"/>
                  <a:pt x="11385" y="8905"/>
                </a:cubicBezTo>
              </a:path>
              <a:path w="14413" h="1663">
                <a:moveTo>
                  <a:pt x="11435" y="8434"/>
                </a:moveTo>
                <a:cubicBezTo>
                  <a:pt x="11353" y="8516"/>
                  <a:pt x="11284" y="8596"/>
                  <a:pt x="11212" y="8682"/>
                </a:cubicBezTo>
                <a:cubicBezTo>
                  <a:pt x="11158" y="8746"/>
                  <a:pt x="11124" y="8804"/>
                  <a:pt x="11063" y="8855"/>
                </a:cubicBezTo>
                <a:cubicBezTo>
                  <a:pt x="11022" y="8889"/>
                  <a:pt x="11046" y="8916"/>
                  <a:pt x="10988" y="8930"/>
                </a:cubicBezTo>
              </a:path>
              <a:path w="14413" h="1663">
                <a:moveTo>
                  <a:pt x="12030" y="8483"/>
                </a:moveTo>
                <a:cubicBezTo>
                  <a:pt x="12043" y="8445"/>
                  <a:pt x="12060" y="8458"/>
                  <a:pt x="12105" y="8458"/>
                </a:cubicBezTo>
                <a:cubicBezTo>
                  <a:pt x="12218" y="8458"/>
                  <a:pt x="12321" y="8460"/>
                  <a:pt x="12427" y="8434"/>
                </a:cubicBezTo>
                <a:cubicBezTo>
                  <a:pt x="12469" y="8424"/>
                  <a:pt x="12532" y="8434"/>
                  <a:pt x="12576" y="8434"/>
                </a:cubicBezTo>
              </a:path>
              <a:path w="14413" h="1663">
                <a:moveTo>
                  <a:pt x="12105" y="8086"/>
                </a:moveTo>
                <a:cubicBezTo>
                  <a:pt x="12124" y="8159"/>
                  <a:pt x="12131" y="8241"/>
                  <a:pt x="12154" y="8310"/>
                </a:cubicBezTo>
                <a:cubicBezTo>
                  <a:pt x="12178" y="8381"/>
                  <a:pt x="12179" y="8432"/>
                  <a:pt x="12179" y="8508"/>
                </a:cubicBezTo>
                <a:cubicBezTo>
                  <a:pt x="12179" y="8567"/>
                  <a:pt x="12189" y="8586"/>
                  <a:pt x="12204" y="8632"/>
                </a:cubicBezTo>
                <a:cubicBezTo>
                  <a:pt x="12204" y="8640"/>
                  <a:pt x="12204" y="8649"/>
                  <a:pt x="12204" y="8657"/>
                </a:cubicBezTo>
              </a:path>
              <a:path w="14413" h="1663">
                <a:moveTo>
                  <a:pt x="13047" y="7838"/>
                </a:moveTo>
                <a:cubicBezTo>
                  <a:pt x="12998" y="7852"/>
                  <a:pt x="12960" y="7867"/>
                  <a:pt x="12923" y="7913"/>
                </a:cubicBezTo>
                <a:cubicBezTo>
                  <a:pt x="12867" y="7981"/>
                  <a:pt x="12818" y="8084"/>
                  <a:pt x="12774" y="8161"/>
                </a:cubicBezTo>
                <a:cubicBezTo>
                  <a:pt x="12738" y="8224"/>
                  <a:pt x="12673" y="8362"/>
                  <a:pt x="12675" y="8434"/>
                </a:cubicBezTo>
                <a:cubicBezTo>
                  <a:pt x="12678" y="8530"/>
                  <a:pt x="12698" y="8666"/>
                  <a:pt x="12774" y="8731"/>
                </a:cubicBezTo>
                <a:cubicBezTo>
                  <a:pt x="12835" y="8784"/>
                  <a:pt x="12937" y="8837"/>
                  <a:pt x="13022" y="8830"/>
                </a:cubicBezTo>
                <a:cubicBezTo>
                  <a:pt x="13095" y="8824"/>
                  <a:pt x="13230" y="8798"/>
                  <a:pt x="13295" y="8756"/>
                </a:cubicBezTo>
                <a:cubicBezTo>
                  <a:pt x="13360" y="8715"/>
                  <a:pt x="13455" y="8614"/>
                  <a:pt x="13469" y="8533"/>
                </a:cubicBezTo>
                <a:cubicBezTo>
                  <a:pt x="13480" y="8469"/>
                  <a:pt x="13460" y="8451"/>
                  <a:pt x="13419" y="8409"/>
                </a:cubicBezTo>
                <a:cubicBezTo>
                  <a:pt x="13377" y="8367"/>
                  <a:pt x="13274" y="8394"/>
                  <a:pt x="13221" y="8409"/>
                </a:cubicBezTo>
                <a:cubicBezTo>
                  <a:pt x="13145" y="8431"/>
                  <a:pt x="13067" y="8495"/>
                  <a:pt x="13022" y="8558"/>
                </a:cubicBezTo>
                <a:cubicBezTo>
                  <a:pt x="12977" y="8620"/>
                  <a:pt x="12936" y="8680"/>
                  <a:pt x="12923" y="8756"/>
                </a:cubicBezTo>
                <a:cubicBezTo>
                  <a:pt x="12913" y="8819"/>
                  <a:pt x="12926" y="8811"/>
                  <a:pt x="12948" y="8855"/>
                </a:cubicBezTo>
              </a:path>
              <a:path w="14413" h="1663">
                <a:moveTo>
                  <a:pt x="14015" y="8235"/>
                </a:moveTo>
                <a:cubicBezTo>
                  <a:pt x="14164" y="8235"/>
                  <a:pt x="14312" y="8235"/>
                  <a:pt x="14461" y="8235"/>
                </a:cubicBezTo>
              </a:path>
              <a:path w="14413" h="1663">
                <a:moveTo>
                  <a:pt x="14089" y="8434"/>
                </a:moveTo>
                <a:cubicBezTo>
                  <a:pt x="14072" y="8442"/>
                  <a:pt x="14056" y="8450"/>
                  <a:pt x="14039" y="8458"/>
                </a:cubicBezTo>
                <a:cubicBezTo>
                  <a:pt x="14087" y="8506"/>
                  <a:pt x="14094" y="8508"/>
                  <a:pt x="14163" y="8508"/>
                </a:cubicBezTo>
                <a:cubicBezTo>
                  <a:pt x="14304" y="8508"/>
                  <a:pt x="14444" y="8508"/>
                  <a:pt x="14585" y="8508"/>
                </a:cubicBezTo>
              </a:path>
              <a:path w="14413" h="1663">
                <a:moveTo>
                  <a:pt x="15677" y="7813"/>
                </a:moveTo>
                <a:cubicBezTo>
                  <a:pt x="15677" y="7921"/>
                  <a:pt x="15677" y="8028"/>
                  <a:pt x="15677" y="8136"/>
                </a:cubicBezTo>
                <a:cubicBezTo>
                  <a:pt x="15638" y="8175"/>
                  <a:pt x="15674" y="8116"/>
                  <a:pt x="15677" y="8062"/>
                </a:cubicBezTo>
                <a:cubicBezTo>
                  <a:pt x="15681" y="7990"/>
                  <a:pt x="15674" y="7953"/>
                  <a:pt x="15652" y="7888"/>
                </a:cubicBezTo>
                <a:cubicBezTo>
                  <a:pt x="15636" y="7840"/>
                  <a:pt x="15625" y="7795"/>
                  <a:pt x="15577" y="7764"/>
                </a:cubicBezTo>
                <a:cubicBezTo>
                  <a:pt x="15535" y="7737"/>
                  <a:pt x="15429" y="7705"/>
                  <a:pt x="15379" y="7714"/>
                </a:cubicBezTo>
                <a:cubicBezTo>
                  <a:pt x="15290" y="7729"/>
                  <a:pt x="15189" y="7778"/>
                  <a:pt x="15106" y="7813"/>
                </a:cubicBezTo>
                <a:cubicBezTo>
                  <a:pt x="15024" y="7848"/>
                  <a:pt x="15007" y="7873"/>
                  <a:pt x="14957" y="7938"/>
                </a:cubicBezTo>
                <a:cubicBezTo>
                  <a:pt x="14934" y="7960"/>
                  <a:pt x="14926" y="7965"/>
                  <a:pt x="14932" y="7987"/>
                </a:cubicBezTo>
                <a:cubicBezTo>
                  <a:pt x="14967" y="8015"/>
                  <a:pt x="15011" y="8044"/>
                  <a:pt x="15056" y="8062"/>
                </a:cubicBezTo>
                <a:cubicBezTo>
                  <a:pt x="15213" y="8125"/>
                  <a:pt x="15380" y="8127"/>
                  <a:pt x="15528" y="8210"/>
                </a:cubicBezTo>
                <a:cubicBezTo>
                  <a:pt x="15625" y="8264"/>
                  <a:pt x="15695" y="8348"/>
                  <a:pt x="15701" y="8458"/>
                </a:cubicBezTo>
                <a:cubicBezTo>
                  <a:pt x="15705" y="8532"/>
                  <a:pt x="15703" y="8556"/>
                  <a:pt x="15652" y="8607"/>
                </a:cubicBezTo>
                <a:cubicBezTo>
                  <a:pt x="15603" y="8656"/>
                  <a:pt x="15545" y="8679"/>
                  <a:pt x="15478" y="8682"/>
                </a:cubicBezTo>
                <a:cubicBezTo>
                  <a:pt x="15383" y="8686"/>
                  <a:pt x="15301" y="8706"/>
                  <a:pt x="15205" y="8706"/>
                </a:cubicBezTo>
                <a:cubicBezTo>
                  <a:pt x="15131" y="8706"/>
                  <a:pt x="15056" y="8706"/>
                  <a:pt x="14982" y="8706"/>
                </a:cubicBezTo>
              </a:path>
              <a:path w="14413" h="1663">
                <a:moveTo>
                  <a:pt x="15825" y="8632"/>
                </a:moveTo>
                <a:cubicBezTo>
                  <a:pt x="15815" y="8595"/>
                  <a:pt x="15803" y="8548"/>
                  <a:pt x="15825" y="8508"/>
                </a:cubicBezTo>
                <a:cubicBezTo>
                  <a:pt x="15846" y="8470"/>
                  <a:pt x="15899" y="8420"/>
                  <a:pt x="15925" y="8384"/>
                </a:cubicBezTo>
                <a:cubicBezTo>
                  <a:pt x="15956" y="8342"/>
                  <a:pt x="16028" y="8309"/>
                  <a:pt x="16073" y="8285"/>
                </a:cubicBezTo>
                <a:cubicBezTo>
                  <a:pt x="16114" y="8263"/>
                  <a:pt x="16189" y="8231"/>
                  <a:pt x="16222" y="8285"/>
                </a:cubicBezTo>
                <a:cubicBezTo>
                  <a:pt x="16241" y="8316"/>
                  <a:pt x="16268" y="8368"/>
                  <a:pt x="16272" y="8409"/>
                </a:cubicBezTo>
                <a:cubicBezTo>
                  <a:pt x="16272" y="8434"/>
                  <a:pt x="16272" y="8442"/>
                  <a:pt x="16272" y="8409"/>
                </a:cubicBezTo>
                <a:cubicBezTo>
                  <a:pt x="16272" y="8358"/>
                  <a:pt x="16279" y="8325"/>
                  <a:pt x="16247" y="8285"/>
                </a:cubicBezTo>
                <a:cubicBezTo>
                  <a:pt x="16217" y="8248"/>
                  <a:pt x="16170" y="8218"/>
                  <a:pt x="16123" y="8210"/>
                </a:cubicBezTo>
                <a:cubicBezTo>
                  <a:pt x="16065" y="8200"/>
                  <a:pt x="15976" y="8220"/>
                  <a:pt x="15925" y="8235"/>
                </a:cubicBezTo>
                <a:cubicBezTo>
                  <a:pt x="15875" y="8250"/>
                  <a:pt x="15806" y="8288"/>
                  <a:pt x="15776" y="8334"/>
                </a:cubicBezTo>
                <a:cubicBezTo>
                  <a:pt x="15741" y="8388"/>
                  <a:pt x="15707" y="8439"/>
                  <a:pt x="15726" y="8508"/>
                </a:cubicBezTo>
                <a:cubicBezTo>
                  <a:pt x="15751" y="8597"/>
                  <a:pt x="15818" y="8648"/>
                  <a:pt x="15900" y="8682"/>
                </a:cubicBezTo>
                <a:cubicBezTo>
                  <a:pt x="15992" y="8720"/>
                  <a:pt x="16050" y="8731"/>
                  <a:pt x="16148" y="8731"/>
                </a:cubicBezTo>
                <a:cubicBezTo>
                  <a:pt x="16238" y="8731"/>
                  <a:pt x="16315" y="8741"/>
                  <a:pt x="16396" y="8706"/>
                </a:cubicBezTo>
              </a:path>
              <a:path w="14413" h="1663">
                <a:moveTo>
                  <a:pt x="16867" y="8260"/>
                </a:moveTo>
                <a:cubicBezTo>
                  <a:pt x="16867" y="8318"/>
                  <a:pt x="16867" y="8376"/>
                  <a:pt x="16867" y="8434"/>
                </a:cubicBezTo>
                <a:cubicBezTo>
                  <a:pt x="16890" y="8426"/>
                  <a:pt x="16906" y="8391"/>
                  <a:pt x="16917" y="8359"/>
                </a:cubicBezTo>
                <a:cubicBezTo>
                  <a:pt x="16917" y="8351"/>
                  <a:pt x="16917" y="8342"/>
                  <a:pt x="16917" y="8334"/>
                </a:cubicBezTo>
              </a:path>
              <a:path w="14413" h="1663">
                <a:moveTo>
                  <a:pt x="16867" y="8260"/>
                </a:moveTo>
                <a:cubicBezTo>
                  <a:pt x="16875" y="8243"/>
                  <a:pt x="16884" y="8227"/>
                  <a:pt x="16892" y="8210"/>
                </a:cubicBezTo>
              </a:path>
              <a:path w="14413" h="1663">
                <a:moveTo>
                  <a:pt x="16892" y="8210"/>
                </a:moveTo>
                <a:cubicBezTo>
                  <a:pt x="16859" y="8182"/>
                  <a:pt x="16809" y="8145"/>
                  <a:pt x="16768" y="8136"/>
                </a:cubicBezTo>
                <a:cubicBezTo>
                  <a:pt x="16712" y="8124"/>
                  <a:pt x="16637" y="8163"/>
                  <a:pt x="16594" y="8186"/>
                </a:cubicBezTo>
                <a:cubicBezTo>
                  <a:pt x="16524" y="8223"/>
                  <a:pt x="16487" y="8242"/>
                  <a:pt x="16446" y="8310"/>
                </a:cubicBezTo>
                <a:cubicBezTo>
                  <a:pt x="16397" y="8392"/>
                  <a:pt x="16414" y="8497"/>
                  <a:pt x="16446" y="8582"/>
                </a:cubicBezTo>
                <a:cubicBezTo>
                  <a:pt x="16470" y="8646"/>
                  <a:pt x="16536" y="8675"/>
                  <a:pt x="16594" y="8706"/>
                </a:cubicBezTo>
                <a:cubicBezTo>
                  <a:pt x="16665" y="8743"/>
                  <a:pt x="16739" y="8731"/>
                  <a:pt x="16818" y="8731"/>
                </a:cubicBezTo>
                <a:cubicBezTo>
                  <a:pt x="16894" y="8731"/>
                  <a:pt x="16945" y="8722"/>
                  <a:pt x="17016" y="8706"/>
                </a:cubicBezTo>
                <a:cubicBezTo>
                  <a:pt x="17038" y="8701"/>
                  <a:pt x="17068" y="8706"/>
                  <a:pt x="17090" y="8706"/>
                </a:cubicBezTo>
              </a:path>
              <a:path w="14413" h="1663">
                <a:moveTo>
                  <a:pt x="17140" y="7714"/>
                </a:moveTo>
                <a:cubicBezTo>
                  <a:pt x="17157" y="7649"/>
                  <a:pt x="17171" y="7689"/>
                  <a:pt x="17214" y="7665"/>
                </a:cubicBezTo>
                <a:cubicBezTo>
                  <a:pt x="17241" y="7650"/>
                  <a:pt x="17300" y="7619"/>
                  <a:pt x="17338" y="7640"/>
                </a:cubicBezTo>
                <a:cubicBezTo>
                  <a:pt x="17393" y="7671"/>
                  <a:pt x="17388" y="7670"/>
                  <a:pt x="17388" y="7739"/>
                </a:cubicBezTo>
                <a:cubicBezTo>
                  <a:pt x="17388" y="7780"/>
                  <a:pt x="17343" y="7832"/>
                  <a:pt x="17314" y="7863"/>
                </a:cubicBezTo>
                <a:cubicBezTo>
                  <a:pt x="17263" y="7918"/>
                  <a:pt x="17124" y="8007"/>
                  <a:pt x="17115" y="8086"/>
                </a:cubicBezTo>
                <a:cubicBezTo>
                  <a:pt x="17115" y="8094"/>
                  <a:pt x="17115" y="8103"/>
                  <a:pt x="17115" y="8111"/>
                </a:cubicBezTo>
                <a:cubicBezTo>
                  <a:pt x="17220" y="8111"/>
                  <a:pt x="17314" y="8113"/>
                  <a:pt x="17413" y="8136"/>
                </a:cubicBezTo>
                <a:cubicBezTo>
                  <a:pt x="17458" y="8146"/>
                  <a:pt x="17446" y="8130"/>
                  <a:pt x="17487" y="8161"/>
                </a:cubicBezTo>
              </a:path>
              <a:path w="14413" h="1663">
                <a:moveTo>
                  <a:pt x="17735" y="8086"/>
                </a:moveTo>
                <a:cubicBezTo>
                  <a:pt x="17743" y="8078"/>
                  <a:pt x="17752" y="8070"/>
                  <a:pt x="17760" y="8062"/>
                </a:cubicBezTo>
                <a:cubicBezTo>
                  <a:pt x="17760" y="8120"/>
                  <a:pt x="17772" y="8156"/>
                  <a:pt x="17785" y="8210"/>
                </a:cubicBezTo>
                <a:cubicBezTo>
                  <a:pt x="17799" y="8269"/>
                  <a:pt x="17810" y="8327"/>
                  <a:pt x="17835" y="8384"/>
                </a:cubicBezTo>
                <a:cubicBezTo>
                  <a:pt x="17865" y="8454"/>
                  <a:pt x="17903" y="8514"/>
                  <a:pt x="17934" y="8582"/>
                </a:cubicBezTo>
                <a:cubicBezTo>
                  <a:pt x="17950" y="8617"/>
                  <a:pt x="17947" y="8595"/>
                  <a:pt x="17959" y="8632"/>
                </a:cubicBezTo>
              </a:path>
              <a:path w="14413" h="1663">
                <a:moveTo>
                  <a:pt x="18008" y="8161"/>
                </a:moveTo>
                <a:cubicBezTo>
                  <a:pt x="17976" y="8203"/>
                  <a:pt x="17943" y="8220"/>
                  <a:pt x="17909" y="8260"/>
                </a:cubicBezTo>
                <a:cubicBezTo>
                  <a:pt x="17862" y="8315"/>
                  <a:pt x="17840" y="8379"/>
                  <a:pt x="17785" y="8434"/>
                </a:cubicBezTo>
                <a:cubicBezTo>
                  <a:pt x="17745" y="8474"/>
                  <a:pt x="17682" y="8529"/>
                  <a:pt x="17661" y="8582"/>
                </a:cubicBezTo>
                <a:cubicBezTo>
                  <a:pt x="17651" y="8608"/>
                  <a:pt x="17643" y="8629"/>
                  <a:pt x="17636" y="8657"/>
                </a:cubicBezTo>
              </a:path>
              <a:path w="14413" h="1663">
                <a:moveTo>
                  <a:pt x="18405" y="8359"/>
                </a:moveTo>
                <a:cubicBezTo>
                  <a:pt x="18510" y="8359"/>
                  <a:pt x="18612" y="8361"/>
                  <a:pt x="18703" y="8334"/>
                </a:cubicBezTo>
                <a:cubicBezTo>
                  <a:pt x="18744" y="8322"/>
                  <a:pt x="18808" y="8334"/>
                  <a:pt x="18852" y="8334"/>
                </a:cubicBezTo>
              </a:path>
              <a:path w="14413" h="1663">
                <a:moveTo>
                  <a:pt x="18529" y="8136"/>
                </a:moveTo>
                <a:cubicBezTo>
                  <a:pt x="18545" y="8216"/>
                  <a:pt x="18554" y="8242"/>
                  <a:pt x="18554" y="8334"/>
                </a:cubicBezTo>
                <a:cubicBezTo>
                  <a:pt x="18554" y="8393"/>
                  <a:pt x="18535" y="8428"/>
                  <a:pt x="18529" y="8483"/>
                </a:cubicBezTo>
                <a:cubicBezTo>
                  <a:pt x="18525" y="8527"/>
                  <a:pt x="18544" y="8544"/>
                  <a:pt x="18554" y="8582"/>
                </a:cubicBezTo>
              </a:path>
              <a:path w="14413" h="1663">
                <a:moveTo>
                  <a:pt x="19348" y="7888"/>
                </a:moveTo>
                <a:cubicBezTo>
                  <a:pt x="19308" y="7873"/>
                  <a:pt x="19228" y="7843"/>
                  <a:pt x="19199" y="7888"/>
                </a:cubicBezTo>
                <a:cubicBezTo>
                  <a:pt x="19181" y="7915"/>
                  <a:pt x="19174" y="7951"/>
                  <a:pt x="19174" y="7987"/>
                </a:cubicBezTo>
                <a:cubicBezTo>
                  <a:pt x="19174" y="8041"/>
                  <a:pt x="19261" y="8076"/>
                  <a:pt x="19298" y="8111"/>
                </a:cubicBezTo>
                <a:cubicBezTo>
                  <a:pt x="19385" y="8193"/>
                  <a:pt x="19500" y="8261"/>
                  <a:pt x="19571" y="8359"/>
                </a:cubicBezTo>
                <a:cubicBezTo>
                  <a:pt x="19606" y="8407"/>
                  <a:pt x="19667" y="8496"/>
                  <a:pt x="19645" y="8558"/>
                </a:cubicBezTo>
                <a:cubicBezTo>
                  <a:pt x="19629" y="8604"/>
                  <a:pt x="19592" y="8627"/>
                  <a:pt x="19546" y="8632"/>
                </a:cubicBezTo>
                <a:cubicBezTo>
                  <a:pt x="19504" y="8637"/>
                  <a:pt x="19435" y="8600"/>
                  <a:pt x="19397" y="8582"/>
                </a:cubicBezTo>
                <a:cubicBezTo>
                  <a:pt x="19356" y="8563"/>
                  <a:pt x="19337" y="8543"/>
                  <a:pt x="19298" y="8533"/>
                </a:cubicBezTo>
              </a:path>
              <a:path w="14413" h="1663">
                <a:moveTo>
                  <a:pt x="19372" y="7838"/>
                </a:moveTo>
                <a:cubicBezTo>
                  <a:pt x="19428" y="7772"/>
                  <a:pt x="19452" y="7789"/>
                  <a:pt x="19546" y="7789"/>
                </a:cubicBezTo>
                <a:cubicBezTo>
                  <a:pt x="19654" y="7789"/>
                  <a:pt x="19735" y="7784"/>
                  <a:pt x="19844" y="7789"/>
                </a:cubicBezTo>
                <a:cubicBezTo>
                  <a:pt x="19902" y="7789"/>
                  <a:pt x="19927" y="7789"/>
                  <a:pt x="19968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43800" y="3241800"/>
            <a:ext cx="492120" cy="25848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18455" y="9302"/>
                </a:moveTo>
                <a:cubicBezTo>
                  <a:pt x="18510" y="9257"/>
                  <a:pt x="18535" y="9252"/>
                  <a:pt x="18604" y="9252"/>
                </a:cubicBezTo>
                <a:cubicBezTo>
                  <a:pt x="18720" y="9252"/>
                  <a:pt x="18835" y="9252"/>
                  <a:pt x="18951" y="9252"/>
                </a:cubicBezTo>
              </a:path>
              <a:path w="1365" h="720">
                <a:moveTo>
                  <a:pt x="19496" y="9128"/>
                </a:moveTo>
                <a:cubicBezTo>
                  <a:pt x="19447" y="9098"/>
                  <a:pt x="19409" y="9103"/>
                  <a:pt x="19348" y="9103"/>
                </a:cubicBezTo>
                <a:cubicBezTo>
                  <a:pt x="19312" y="9103"/>
                  <a:pt x="19276" y="9139"/>
                  <a:pt x="19298" y="9178"/>
                </a:cubicBezTo>
                <a:cubicBezTo>
                  <a:pt x="19367" y="9302"/>
                  <a:pt x="19523" y="9375"/>
                  <a:pt x="19596" y="9500"/>
                </a:cubicBezTo>
                <a:cubicBezTo>
                  <a:pt x="19628" y="9554"/>
                  <a:pt x="19637" y="9603"/>
                  <a:pt x="19596" y="9649"/>
                </a:cubicBezTo>
                <a:cubicBezTo>
                  <a:pt x="19573" y="9674"/>
                  <a:pt x="19483" y="9727"/>
                  <a:pt x="19447" y="9723"/>
                </a:cubicBezTo>
                <a:cubicBezTo>
                  <a:pt x="19382" y="9716"/>
                  <a:pt x="19327" y="9682"/>
                  <a:pt x="19273" y="9649"/>
                </a:cubicBezTo>
                <a:cubicBezTo>
                  <a:pt x="19231" y="9624"/>
                  <a:pt x="19209" y="9609"/>
                  <a:pt x="19174" y="9575"/>
                </a:cubicBezTo>
              </a:path>
              <a:path w="1365" h="720">
                <a:moveTo>
                  <a:pt x="19447" y="9079"/>
                </a:moveTo>
                <a:cubicBezTo>
                  <a:pt x="19556" y="9014"/>
                  <a:pt x="19581" y="9003"/>
                  <a:pt x="19695" y="9029"/>
                </a:cubicBezTo>
                <a:cubicBezTo>
                  <a:pt x="19735" y="9038"/>
                  <a:pt x="19778" y="9047"/>
                  <a:pt x="19819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9200" y="3867120"/>
            <a:ext cx="4716720" cy="88920"/>
          </a:xfrm>
          <a:custGeom>
            <a:avLst/>
            <a:gdLst/>
            <a:ahLst/>
            <a:rect l="l" t="t" r="r" b="b"/>
            <a:pathLst>
              <a:path w="13098" h="249">
                <a:moveTo>
                  <a:pt x="6722" y="10914"/>
                </a:moveTo>
                <a:cubicBezTo>
                  <a:pt x="6783" y="10940"/>
                  <a:pt x="6805" y="10939"/>
                  <a:pt x="6871" y="10939"/>
                </a:cubicBezTo>
                <a:cubicBezTo>
                  <a:pt x="6925" y="10939"/>
                  <a:pt x="7040" y="10955"/>
                  <a:pt x="7094" y="10964"/>
                </a:cubicBezTo>
                <a:cubicBezTo>
                  <a:pt x="7183" y="10979"/>
                  <a:pt x="7250" y="10988"/>
                  <a:pt x="7342" y="10988"/>
                </a:cubicBezTo>
                <a:cubicBezTo>
                  <a:pt x="7416" y="10988"/>
                  <a:pt x="7491" y="10988"/>
                  <a:pt x="7565" y="10988"/>
                </a:cubicBezTo>
              </a:path>
              <a:path w="13098" h="249">
                <a:moveTo>
                  <a:pt x="7714" y="10988"/>
                </a:moveTo>
                <a:cubicBezTo>
                  <a:pt x="7948" y="10988"/>
                  <a:pt x="8180" y="10973"/>
                  <a:pt x="8409" y="10964"/>
                </a:cubicBezTo>
                <a:cubicBezTo>
                  <a:pt x="9409" y="10926"/>
                  <a:pt x="10413" y="10964"/>
                  <a:pt x="11410" y="10964"/>
                </a:cubicBezTo>
                <a:cubicBezTo>
                  <a:pt x="11987" y="10964"/>
                  <a:pt x="12573" y="11012"/>
                  <a:pt x="13146" y="10988"/>
                </a:cubicBezTo>
                <a:cubicBezTo>
                  <a:pt x="13434" y="10976"/>
                  <a:pt x="13724" y="10964"/>
                  <a:pt x="14015" y="10964"/>
                </a:cubicBezTo>
                <a:cubicBezTo>
                  <a:pt x="14563" y="10964"/>
                  <a:pt x="15106" y="10945"/>
                  <a:pt x="15652" y="10939"/>
                </a:cubicBezTo>
                <a:cubicBezTo>
                  <a:pt x="15812" y="10937"/>
                  <a:pt x="15964" y="10919"/>
                  <a:pt x="16123" y="10914"/>
                </a:cubicBezTo>
                <a:cubicBezTo>
                  <a:pt x="16323" y="10907"/>
                  <a:pt x="16519" y="10896"/>
                  <a:pt x="16718" y="10889"/>
                </a:cubicBezTo>
                <a:cubicBezTo>
                  <a:pt x="16870" y="10884"/>
                  <a:pt x="17014" y="10870"/>
                  <a:pt x="17165" y="10864"/>
                </a:cubicBezTo>
                <a:cubicBezTo>
                  <a:pt x="17438" y="10853"/>
                  <a:pt x="17712" y="10843"/>
                  <a:pt x="17983" y="10840"/>
                </a:cubicBezTo>
                <a:cubicBezTo>
                  <a:pt x="18165" y="10838"/>
                  <a:pt x="18353" y="10820"/>
                  <a:pt x="18529" y="10815"/>
                </a:cubicBezTo>
                <a:cubicBezTo>
                  <a:pt x="18704" y="10810"/>
                  <a:pt x="18877" y="10796"/>
                  <a:pt x="19050" y="10790"/>
                </a:cubicBezTo>
                <a:cubicBezTo>
                  <a:pt x="19169" y="10786"/>
                  <a:pt x="19281" y="10769"/>
                  <a:pt x="19397" y="10765"/>
                </a:cubicBezTo>
                <a:cubicBezTo>
                  <a:pt x="19504" y="10761"/>
                  <a:pt x="19620" y="10746"/>
                  <a:pt x="19720" y="10740"/>
                </a:cubicBezTo>
                <a:cubicBezTo>
                  <a:pt x="19769" y="10740"/>
                  <a:pt x="19786" y="10740"/>
                  <a:pt x="19819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38320" y="4179960"/>
            <a:ext cx="1598760" cy="365040"/>
          </a:xfrm>
          <a:custGeom>
            <a:avLst/>
            <a:gdLst/>
            <a:ahLst/>
            <a:rect l="l" t="t" r="r" b="b"/>
            <a:pathLst>
              <a:path w="4441" h="1018">
                <a:moveTo>
                  <a:pt x="8533" y="11609"/>
                </a:moveTo>
                <a:cubicBezTo>
                  <a:pt x="8567" y="11698"/>
                  <a:pt x="8561" y="11789"/>
                  <a:pt x="8582" y="11881"/>
                </a:cubicBezTo>
                <a:cubicBezTo>
                  <a:pt x="8604" y="11976"/>
                  <a:pt x="8618" y="12060"/>
                  <a:pt x="8632" y="12154"/>
                </a:cubicBezTo>
                <a:cubicBezTo>
                  <a:pt x="8649" y="12271"/>
                  <a:pt x="8664" y="12391"/>
                  <a:pt x="8682" y="12502"/>
                </a:cubicBezTo>
                <a:cubicBezTo>
                  <a:pt x="8691" y="12555"/>
                  <a:pt x="8699" y="12572"/>
                  <a:pt x="8706" y="12626"/>
                </a:cubicBezTo>
              </a:path>
              <a:path w="4441" h="1018">
                <a:moveTo>
                  <a:pt x="8161" y="12080"/>
                </a:moveTo>
                <a:cubicBezTo>
                  <a:pt x="8402" y="12080"/>
                  <a:pt x="8644" y="12073"/>
                  <a:pt x="8880" y="12105"/>
                </a:cubicBezTo>
                <a:cubicBezTo>
                  <a:pt x="8897" y="12105"/>
                  <a:pt x="8913" y="12105"/>
                  <a:pt x="8930" y="12105"/>
                </a:cubicBezTo>
              </a:path>
              <a:path w="4441" h="1018">
                <a:moveTo>
                  <a:pt x="9103" y="12005"/>
                </a:moveTo>
                <a:cubicBezTo>
                  <a:pt x="8996" y="12094"/>
                  <a:pt x="8928" y="12131"/>
                  <a:pt x="8905" y="12254"/>
                </a:cubicBezTo>
                <a:cubicBezTo>
                  <a:pt x="8892" y="12321"/>
                  <a:pt x="8937" y="12360"/>
                  <a:pt x="8979" y="12402"/>
                </a:cubicBezTo>
                <a:cubicBezTo>
                  <a:pt x="9010" y="12433"/>
                  <a:pt x="9083" y="12442"/>
                  <a:pt x="9128" y="12427"/>
                </a:cubicBezTo>
                <a:cubicBezTo>
                  <a:pt x="9191" y="12406"/>
                  <a:pt x="9232" y="12348"/>
                  <a:pt x="9277" y="12303"/>
                </a:cubicBezTo>
                <a:cubicBezTo>
                  <a:pt x="9285" y="12295"/>
                  <a:pt x="9294" y="12286"/>
                  <a:pt x="9302" y="12278"/>
                </a:cubicBezTo>
                <a:cubicBezTo>
                  <a:pt x="9302" y="12329"/>
                  <a:pt x="9313" y="12337"/>
                  <a:pt x="9327" y="12378"/>
                </a:cubicBezTo>
                <a:cubicBezTo>
                  <a:pt x="9356" y="12464"/>
                  <a:pt x="9355" y="12430"/>
                  <a:pt x="9426" y="12477"/>
                </a:cubicBezTo>
                <a:cubicBezTo>
                  <a:pt x="9448" y="12499"/>
                  <a:pt x="9453" y="12508"/>
                  <a:pt x="9475" y="12502"/>
                </a:cubicBezTo>
              </a:path>
              <a:path w="4441" h="1018">
                <a:moveTo>
                  <a:pt x="9525" y="12030"/>
                </a:moveTo>
                <a:cubicBezTo>
                  <a:pt x="9536" y="12074"/>
                  <a:pt x="9539" y="12106"/>
                  <a:pt x="9550" y="12154"/>
                </a:cubicBezTo>
                <a:cubicBezTo>
                  <a:pt x="9570" y="12241"/>
                  <a:pt x="9611" y="12314"/>
                  <a:pt x="9624" y="12402"/>
                </a:cubicBezTo>
                <a:cubicBezTo>
                  <a:pt x="9630" y="12446"/>
                  <a:pt x="9649" y="12571"/>
                  <a:pt x="9649" y="12526"/>
                </a:cubicBezTo>
                <a:cubicBezTo>
                  <a:pt x="9649" y="12518"/>
                  <a:pt x="9649" y="12510"/>
                  <a:pt x="9649" y="12502"/>
                </a:cubicBezTo>
                <a:cubicBezTo>
                  <a:pt x="9649" y="12375"/>
                  <a:pt x="9640" y="12241"/>
                  <a:pt x="9674" y="12129"/>
                </a:cubicBezTo>
                <a:cubicBezTo>
                  <a:pt x="9689" y="12079"/>
                  <a:pt x="9714" y="12021"/>
                  <a:pt x="9773" y="12005"/>
                </a:cubicBezTo>
                <a:cubicBezTo>
                  <a:pt x="9807" y="11996"/>
                  <a:pt x="9902" y="12028"/>
                  <a:pt x="9922" y="12055"/>
                </a:cubicBezTo>
                <a:cubicBezTo>
                  <a:pt x="9977" y="12126"/>
                  <a:pt x="9989" y="12194"/>
                  <a:pt x="10021" y="12278"/>
                </a:cubicBezTo>
                <a:cubicBezTo>
                  <a:pt x="10042" y="12333"/>
                  <a:pt x="10065" y="12394"/>
                  <a:pt x="10071" y="12452"/>
                </a:cubicBezTo>
                <a:cubicBezTo>
                  <a:pt x="10074" y="12484"/>
                  <a:pt x="10071" y="12519"/>
                  <a:pt x="10071" y="12551"/>
                </a:cubicBezTo>
              </a:path>
              <a:path w="4441" h="1018">
                <a:moveTo>
                  <a:pt x="10220" y="11906"/>
                </a:moveTo>
                <a:cubicBezTo>
                  <a:pt x="10251" y="11882"/>
                  <a:pt x="10280" y="11861"/>
                  <a:pt x="10319" y="11857"/>
                </a:cubicBezTo>
                <a:cubicBezTo>
                  <a:pt x="10352" y="11857"/>
                  <a:pt x="10368" y="11857"/>
                  <a:pt x="10393" y="11857"/>
                </a:cubicBezTo>
              </a:path>
              <a:path w="4441" h="1018">
                <a:moveTo>
                  <a:pt x="10542" y="11906"/>
                </a:moveTo>
                <a:cubicBezTo>
                  <a:pt x="10491" y="12000"/>
                  <a:pt x="10482" y="12032"/>
                  <a:pt x="10393" y="12080"/>
                </a:cubicBezTo>
                <a:cubicBezTo>
                  <a:pt x="10340" y="12109"/>
                  <a:pt x="10289" y="12168"/>
                  <a:pt x="10269" y="12229"/>
                </a:cubicBezTo>
                <a:cubicBezTo>
                  <a:pt x="10248" y="12292"/>
                  <a:pt x="10359" y="12301"/>
                  <a:pt x="10393" y="12303"/>
                </a:cubicBezTo>
                <a:cubicBezTo>
                  <a:pt x="10456" y="12307"/>
                  <a:pt x="10517" y="12323"/>
                  <a:pt x="10567" y="12353"/>
                </a:cubicBezTo>
              </a:path>
              <a:path w="4441" h="1018">
                <a:moveTo>
                  <a:pt x="10889" y="12129"/>
                </a:moveTo>
                <a:cubicBezTo>
                  <a:pt x="10930" y="12170"/>
                  <a:pt x="10953" y="12212"/>
                  <a:pt x="10988" y="12254"/>
                </a:cubicBezTo>
                <a:cubicBezTo>
                  <a:pt x="11035" y="12311"/>
                  <a:pt x="11096" y="12366"/>
                  <a:pt x="11137" y="12427"/>
                </a:cubicBezTo>
                <a:cubicBezTo>
                  <a:pt x="11181" y="12493"/>
                  <a:pt x="11178" y="12532"/>
                  <a:pt x="11237" y="12576"/>
                </a:cubicBezTo>
              </a:path>
              <a:path w="4441" h="1018">
                <a:moveTo>
                  <a:pt x="11286" y="12129"/>
                </a:moveTo>
                <a:cubicBezTo>
                  <a:pt x="11228" y="12188"/>
                  <a:pt x="11182" y="12237"/>
                  <a:pt x="11137" y="12303"/>
                </a:cubicBezTo>
                <a:cubicBezTo>
                  <a:pt x="11086" y="12377"/>
                  <a:pt x="11052" y="12438"/>
                  <a:pt x="10988" y="12502"/>
                </a:cubicBezTo>
                <a:cubicBezTo>
                  <a:pt x="10956" y="12534"/>
                  <a:pt x="10944" y="12566"/>
                  <a:pt x="10914" y="12576"/>
                </a:cubicBezTo>
              </a:path>
              <a:path w="4441" h="1018">
                <a:moveTo>
                  <a:pt x="11708" y="12204"/>
                </a:moveTo>
                <a:cubicBezTo>
                  <a:pt x="11800" y="12188"/>
                  <a:pt x="11866" y="12179"/>
                  <a:pt x="11956" y="12179"/>
                </a:cubicBezTo>
                <a:cubicBezTo>
                  <a:pt x="11997" y="12179"/>
                  <a:pt x="12039" y="12179"/>
                  <a:pt x="12080" y="12179"/>
                </a:cubicBezTo>
              </a:path>
              <a:path w="4441" h="1018">
                <a:moveTo>
                  <a:pt x="11956" y="11981"/>
                </a:moveTo>
                <a:cubicBezTo>
                  <a:pt x="11956" y="12079"/>
                  <a:pt x="11959" y="12162"/>
                  <a:pt x="11981" y="12254"/>
                </a:cubicBezTo>
                <a:cubicBezTo>
                  <a:pt x="11990" y="12294"/>
                  <a:pt x="11956" y="12377"/>
                  <a:pt x="11956" y="12427"/>
                </a:cubicBezTo>
                <a:cubicBezTo>
                  <a:pt x="11956" y="12472"/>
                  <a:pt x="11943" y="12489"/>
                  <a:pt x="11981" y="12502"/>
                </a:cubicBezTo>
              </a:path>
              <a:path w="4441" h="1018">
                <a:moveTo>
                  <a:pt x="12526" y="11708"/>
                </a:moveTo>
                <a:lnTo>
                  <a:pt x="12526" y="11708"/>
                </a:lnTo>
              </a:path>
              <a:path w="4441" h="1018">
                <a:moveTo>
                  <a:pt x="12551" y="11906"/>
                </a:moveTo>
                <a:cubicBezTo>
                  <a:pt x="12551" y="12080"/>
                  <a:pt x="12524" y="12295"/>
                  <a:pt x="12576" y="12452"/>
                </a:cubicBezTo>
                <a:cubicBezTo>
                  <a:pt x="12593" y="12503"/>
                  <a:pt x="12548" y="12558"/>
                  <a:pt x="12601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76840" y="4348080"/>
            <a:ext cx="196920" cy="108000"/>
          </a:xfrm>
          <a:custGeom>
            <a:avLst/>
            <a:gdLst/>
            <a:ahLst/>
            <a:rect l="l" t="t" r="r" b="b"/>
            <a:pathLst>
              <a:path w="546" h="299">
                <a:moveTo>
                  <a:pt x="13320" y="12080"/>
                </a:moveTo>
                <a:cubicBezTo>
                  <a:pt x="13485" y="12080"/>
                  <a:pt x="13651" y="12080"/>
                  <a:pt x="13816" y="12080"/>
                </a:cubicBezTo>
              </a:path>
              <a:path w="546" h="299">
                <a:moveTo>
                  <a:pt x="13271" y="12353"/>
                </a:moveTo>
                <a:cubicBezTo>
                  <a:pt x="13386" y="12353"/>
                  <a:pt x="13494" y="12357"/>
                  <a:pt x="13593" y="12378"/>
                </a:cubicBezTo>
                <a:cubicBezTo>
                  <a:pt x="13610" y="12378"/>
                  <a:pt x="13626" y="12378"/>
                  <a:pt x="13643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80040" y="4205160"/>
            <a:ext cx="1214280" cy="349200"/>
          </a:xfrm>
          <a:custGeom>
            <a:avLst/>
            <a:gdLst/>
            <a:ahLst/>
            <a:rect l="l" t="t" r="r" b="b"/>
            <a:pathLst>
              <a:path w="3374" h="968">
                <a:moveTo>
                  <a:pt x="14982" y="11782"/>
                </a:moveTo>
                <a:cubicBezTo>
                  <a:pt x="14982" y="11848"/>
                  <a:pt x="14990" y="11854"/>
                  <a:pt x="15007" y="11906"/>
                </a:cubicBezTo>
                <a:cubicBezTo>
                  <a:pt x="15022" y="11950"/>
                  <a:pt x="14986" y="11941"/>
                  <a:pt x="15032" y="11956"/>
                </a:cubicBezTo>
                <a:cubicBezTo>
                  <a:pt x="15032" y="11910"/>
                  <a:pt x="15012" y="11897"/>
                  <a:pt x="15007" y="11857"/>
                </a:cubicBezTo>
                <a:cubicBezTo>
                  <a:pt x="15002" y="11813"/>
                  <a:pt x="14995" y="11766"/>
                  <a:pt x="14957" y="11733"/>
                </a:cubicBezTo>
                <a:cubicBezTo>
                  <a:pt x="14902" y="11686"/>
                  <a:pt x="14798" y="11685"/>
                  <a:pt x="14734" y="11683"/>
                </a:cubicBezTo>
                <a:cubicBezTo>
                  <a:pt x="14647" y="11680"/>
                  <a:pt x="14566" y="11723"/>
                  <a:pt x="14486" y="11757"/>
                </a:cubicBezTo>
                <a:cubicBezTo>
                  <a:pt x="14439" y="11777"/>
                  <a:pt x="14393" y="11806"/>
                  <a:pt x="14387" y="11857"/>
                </a:cubicBezTo>
                <a:cubicBezTo>
                  <a:pt x="14387" y="11865"/>
                  <a:pt x="14387" y="11873"/>
                  <a:pt x="14387" y="11881"/>
                </a:cubicBezTo>
                <a:cubicBezTo>
                  <a:pt x="14435" y="11918"/>
                  <a:pt x="14499" y="11935"/>
                  <a:pt x="14560" y="11956"/>
                </a:cubicBezTo>
                <a:cubicBezTo>
                  <a:pt x="14680" y="11998"/>
                  <a:pt x="14846" y="12018"/>
                  <a:pt x="14957" y="12080"/>
                </a:cubicBezTo>
                <a:cubicBezTo>
                  <a:pt x="15040" y="12126"/>
                  <a:pt x="15069" y="12186"/>
                  <a:pt x="15106" y="12254"/>
                </a:cubicBezTo>
                <a:cubicBezTo>
                  <a:pt x="15142" y="12320"/>
                  <a:pt x="15106" y="12338"/>
                  <a:pt x="15056" y="12378"/>
                </a:cubicBezTo>
                <a:cubicBezTo>
                  <a:pt x="15000" y="12424"/>
                  <a:pt x="14930" y="12442"/>
                  <a:pt x="14858" y="12452"/>
                </a:cubicBezTo>
                <a:cubicBezTo>
                  <a:pt x="14765" y="12465"/>
                  <a:pt x="14611" y="12466"/>
                  <a:pt x="14536" y="12427"/>
                </a:cubicBezTo>
              </a:path>
              <a:path w="3374" h="968">
                <a:moveTo>
                  <a:pt x="15230" y="12278"/>
                </a:moveTo>
                <a:cubicBezTo>
                  <a:pt x="15252" y="12190"/>
                  <a:pt x="15251" y="12130"/>
                  <a:pt x="15329" y="12080"/>
                </a:cubicBezTo>
                <a:cubicBezTo>
                  <a:pt x="15383" y="12045"/>
                  <a:pt x="15440" y="12015"/>
                  <a:pt x="15503" y="12005"/>
                </a:cubicBezTo>
                <a:cubicBezTo>
                  <a:pt x="15574" y="11993"/>
                  <a:pt x="15642" y="12014"/>
                  <a:pt x="15701" y="12055"/>
                </a:cubicBezTo>
                <a:cubicBezTo>
                  <a:pt x="15740" y="12082"/>
                  <a:pt x="15760" y="12118"/>
                  <a:pt x="15776" y="12154"/>
                </a:cubicBezTo>
                <a:cubicBezTo>
                  <a:pt x="15798" y="12198"/>
                  <a:pt x="15811" y="12219"/>
                  <a:pt x="15776" y="12179"/>
                </a:cubicBezTo>
              </a:path>
              <a:path w="3374" h="968">
                <a:moveTo>
                  <a:pt x="15429" y="11956"/>
                </a:moveTo>
                <a:cubicBezTo>
                  <a:pt x="15298" y="11956"/>
                  <a:pt x="15299" y="11938"/>
                  <a:pt x="15230" y="12030"/>
                </a:cubicBezTo>
                <a:cubicBezTo>
                  <a:pt x="15182" y="12093"/>
                  <a:pt x="15159" y="12147"/>
                  <a:pt x="15156" y="12229"/>
                </a:cubicBezTo>
                <a:cubicBezTo>
                  <a:pt x="15153" y="12305"/>
                  <a:pt x="15182" y="12390"/>
                  <a:pt x="15230" y="12452"/>
                </a:cubicBezTo>
                <a:cubicBezTo>
                  <a:pt x="15289" y="12528"/>
                  <a:pt x="15389" y="12547"/>
                  <a:pt x="15478" y="12551"/>
                </a:cubicBezTo>
                <a:cubicBezTo>
                  <a:pt x="15567" y="12555"/>
                  <a:pt x="15637" y="12541"/>
                  <a:pt x="15726" y="12526"/>
                </a:cubicBezTo>
              </a:path>
              <a:path w="3374" h="968">
                <a:moveTo>
                  <a:pt x="16247" y="12080"/>
                </a:moveTo>
                <a:cubicBezTo>
                  <a:pt x="16277" y="12134"/>
                  <a:pt x="16309" y="12198"/>
                  <a:pt x="16321" y="12254"/>
                </a:cubicBezTo>
                <a:cubicBezTo>
                  <a:pt x="16334" y="12316"/>
                  <a:pt x="16311" y="12303"/>
                  <a:pt x="16371" y="12303"/>
                </a:cubicBezTo>
                <a:cubicBezTo>
                  <a:pt x="16371" y="12231"/>
                  <a:pt x="16394" y="12134"/>
                  <a:pt x="16346" y="12080"/>
                </a:cubicBezTo>
                <a:cubicBezTo>
                  <a:pt x="16320" y="12051"/>
                  <a:pt x="16281" y="12016"/>
                  <a:pt x="16247" y="12005"/>
                </a:cubicBezTo>
                <a:cubicBezTo>
                  <a:pt x="16198" y="11989"/>
                  <a:pt x="16114" y="12002"/>
                  <a:pt x="16073" y="12030"/>
                </a:cubicBezTo>
                <a:cubicBezTo>
                  <a:pt x="16018" y="12067"/>
                  <a:pt x="15965" y="12107"/>
                  <a:pt x="15949" y="12179"/>
                </a:cubicBezTo>
                <a:cubicBezTo>
                  <a:pt x="15931" y="12260"/>
                  <a:pt x="15915" y="12321"/>
                  <a:pt x="15949" y="12402"/>
                </a:cubicBezTo>
                <a:cubicBezTo>
                  <a:pt x="15974" y="12461"/>
                  <a:pt x="16044" y="12545"/>
                  <a:pt x="16098" y="12576"/>
                </a:cubicBezTo>
                <a:cubicBezTo>
                  <a:pt x="16195" y="12631"/>
                  <a:pt x="16312" y="12646"/>
                  <a:pt x="16421" y="12650"/>
                </a:cubicBezTo>
                <a:cubicBezTo>
                  <a:pt x="16437" y="12650"/>
                  <a:pt x="16454" y="12650"/>
                  <a:pt x="16470" y="12650"/>
                </a:cubicBezTo>
              </a:path>
              <a:path w="3374" h="968">
                <a:moveTo>
                  <a:pt x="16644" y="11832"/>
                </a:moveTo>
                <a:cubicBezTo>
                  <a:pt x="16644" y="11789"/>
                  <a:pt x="16649" y="11772"/>
                  <a:pt x="16694" y="11757"/>
                </a:cubicBezTo>
                <a:cubicBezTo>
                  <a:pt x="16735" y="11743"/>
                  <a:pt x="16770" y="11711"/>
                  <a:pt x="16818" y="11708"/>
                </a:cubicBezTo>
                <a:cubicBezTo>
                  <a:pt x="16878" y="11704"/>
                  <a:pt x="16947" y="11694"/>
                  <a:pt x="16991" y="11733"/>
                </a:cubicBezTo>
                <a:cubicBezTo>
                  <a:pt x="17012" y="11751"/>
                  <a:pt x="17033" y="11802"/>
                  <a:pt x="17016" y="11832"/>
                </a:cubicBezTo>
                <a:cubicBezTo>
                  <a:pt x="16983" y="11891"/>
                  <a:pt x="16964" y="11925"/>
                  <a:pt x="16917" y="11981"/>
                </a:cubicBezTo>
                <a:cubicBezTo>
                  <a:pt x="16882" y="12022"/>
                  <a:pt x="16824" y="12050"/>
                  <a:pt x="16818" y="12105"/>
                </a:cubicBezTo>
                <a:cubicBezTo>
                  <a:pt x="16818" y="12113"/>
                  <a:pt x="16818" y="12121"/>
                  <a:pt x="16818" y="12129"/>
                </a:cubicBezTo>
                <a:cubicBezTo>
                  <a:pt x="16865" y="12129"/>
                  <a:pt x="16897" y="12151"/>
                  <a:pt x="16942" y="12154"/>
                </a:cubicBezTo>
                <a:cubicBezTo>
                  <a:pt x="16983" y="12154"/>
                  <a:pt x="16991" y="12154"/>
                  <a:pt x="17016" y="12154"/>
                </a:cubicBezTo>
              </a:path>
              <a:path w="3374" h="968">
                <a:moveTo>
                  <a:pt x="17338" y="11906"/>
                </a:moveTo>
                <a:cubicBezTo>
                  <a:pt x="17391" y="11988"/>
                  <a:pt x="17402" y="12046"/>
                  <a:pt x="17438" y="12129"/>
                </a:cubicBezTo>
                <a:cubicBezTo>
                  <a:pt x="17466" y="12192"/>
                  <a:pt x="17491" y="12245"/>
                  <a:pt x="17512" y="12303"/>
                </a:cubicBezTo>
                <a:cubicBezTo>
                  <a:pt x="17529" y="12350"/>
                  <a:pt x="17562" y="12397"/>
                  <a:pt x="17611" y="12402"/>
                </a:cubicBezTo>
                <a:cubicBezTo>
                  <a:pt x="17619" y="12402"/>
                  <a:pt x="17628" y="12402"/>
                  <a:pt x="17636" y="12402"/>
                </a:cubicBezTo>
              </a:path>
              <a:path w="3374" h="968">
                <a:moveTo>
                  <a:pt x="17760" y="12030"/>
                </a:moveTo>
                <a:cubicBezTo>
                  <a:pt x="17730" y="12069"/>
                  <a:pt x="17718" y="12111"/>
                  <a:pt x="17686" y="12154"/>
                </a:cubicBezTo>
                <a:cubicBezTo>
                  <a:pt x="17644" y="12209"/>
                  <a:pt x="17600" y="12271"/>
                  <a:pt x="17562" y="12328"/>
                </a:cubicBezTo>
                <a:cubicBezTo>
                  <a:pt x="17528" y="12379"/>
                  <a:pt x="17500" y="12429"/>
                  <a:pt x="17462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3080" y="4633920"/>
            <a:ext cx="3581280" cy="1090440"/>
          </a:xfrm>
          <a:custGeom>
            <a:avLst/>
            <a:gdLst/>
            <a:ahLst/>
            <a:rect l="l" t="t" r="r" b="b"/>
            <a:pathLst>
              <a:path w="9947" h="3027">
                <a:moveTo>
                  <a:pt x="9996" y="13196"/>
                </a:moveTo>
                <a:cubicBezTo>
                  <a:pt x="10004" y="13253"/>
                  <a:pt x="10021" y="13283"/>
                  <a:pt x="10021" y="13345"/>
                </a:cubicBezTo>
                <a:cubicBezTo>
                  <a:pt x="10021" y="13395"/>
                  <a:pt x="10021" y="13444"/>
                  <a:pt x="10021" y="13494"/>
                </a:cubicBezTo>
                <a:cubicBezTo>
                  <a:pt x="10063" y="13480"/>
                  <a:pt x="10046" y="13446"/>
                  <a:pt x="10046" y="13395"/>
                </a:cubicBezTo>
                <a:cubicBezTo>
                  <a:pt x="10046" y="13337"/>
                  <a:pt x="10045" y="13269"/>
                  <a:pt x="10021" y="13221"/>
                </a:cubicBezTo>
                <a:cubicBezTo>
                  <a:pt x="10006" y="13190"/>
                  <a:pt x="9906" y="13130"/>
                  <a:pt x="9872" y="13122"/>
                </a:cubicBezTo>
                <a:cubicBezTo>
                  <a:pt x="9799" y="13105"/>
                  <a:pt x="9690" y="13117"/>
                  <a:pt x="9624" y="13146"/>
                </a:cubicBezTo>
                <a:cubicBezTo>
                  <a:pt x="9549" y="13179"/>
                  <a:pt x="9499" y="13237"/>
                  <a:pt x="9451" y="13295"/>
                </a:cubicBezTo>
                <a:cubicBezTo>
                  <a:pt x="9400" y="13356"/>
                  <a:pt x="9391" y="13365"/>
                  <a:pt x="9451" y="13419"/>
                </a:cubicBezTo>
                <a:cubicBezTo>
                  <a:pt x="9511" y="13473"/>
                  <a:pt x="9573" y="13470"/>
                  <a:pt x="9649" y="13494"/>
                </a:cubicBezTo>
                <a:cubicBezTo>
                  <a:pt x="9768" y="13531"/>
                  <a:pt x="9856" y="13542"/>
                  <a:pt x="9971" y="13593"/>
                </a:cubicBezTo>
                <a:cubicBezTo>
                  <a:pt x="10045" y="13626"/>
                  <a:pt x="10150" y="13673"/>
                  <a:pt x="10170" y="13767"/>
                </a:cubicBezTo>
                <a:cubicBezTo>
                  <a:pt x="10181" y="13820"/>
                  <a:pt x="10166" y="13862"/>
                  <a:pt x="10120" y="13891"/>
                </a:cubicBezTo>
                <a:cubicBezTo>
                  <a:pt x="10059" y="13930"/>
                  <a:pt x="9968" y="13976"/>
                  <a:pt x="9897" y="13990"/>
                </a:cubicBezTo>
                <a:cubicBezTo>
                  <a:pt x="9810" y="14007"/>
                  <a:pt x="9728" y="13977"/>
                  <a:pt x="9649" y="13965"/>
                </a:cubicBezTo>
                <a:cubicBezTo>
                  <a:pt x="9611" y="13959"/>
                  <a:pt x="9564" y="13965"/>
                  <a:pt x="9525" y="13965"/>
                </a:cubicBezTo>
              </a:path>
              <a:path w="9947" h="3027">
                <a:moveTo>
                  <a:pt x="10319" y="13891"/>
                </a:moveTo>
                <a:cubicBezTo>
                  <a:pt x="10319" y="13836"/>
                  <a:pt x="10325" y="13792"/>
                  <a:pt x="10344" y="13742"/>
                </a:cubicBezTo>
                <a:cubicBezTo>
                  <a:pt x="10369" y="13678"/>
                  <a:pt x="10421" y="13641"/>
                  <a:pt x="10468" y="13593"/>
                </a:cubicBezTo>
                <a:cubicBezTo>
                  <a:pt x="10537" y="13524"/>
                  <a:pt x="10556" y="13523"/>
                  <a:pt x="10641" y="13494"/>
                </a:cubicBezTo>
                <a:cubicBezTo>
                  <a:pt x="10700" y="13474"/>
                  <a:pt x="10731" y="13458"/>
                  <a:pt x="10790" y="13494"/>
                </a:cubicBezTo>
                <a:cubicBezTo>
                  <a:pt x="10816" y="13510"/>
                  <a:pt x="10837" y="13566"/>
                  <a:pt x="10840" y="13593"/>
                </a:cubicBezTo>
                <a:cubicBezTo>
                  <a:pt x="10842" y="13612"/>
                  <a:pt x="10864" y="13697"/>
                  <a:pt x="10864" y="13643"/>
                </a:cubicBezTo>
                <a:cubicBezTo>
                  <a:pt x="10864" y="13610"/>
                  <a:pt x="10826" y="13548"/>
                  <a:pt x="10815" y="13519"/>
                </a:cubicBezTo>
              </a:path>
              <a:path w="9947" h="3027">
                <a:moveTo>
                  <a:pt x="10740" y="13444"/>
                </a:moveTo>
                <a:cubicBezTo>
                  <a:pt x="10578" y="13423"/>
                  <a:pt x="10514" y="13409"/>
                  <a:pt x="10368" y="13469"/>
                </a:cubicBezTo>
                <a:cubicBezTo>
                  <a:pt x="10286" y="13503"/>
                  <a:pt x="10238" y="13541"/>
                  <a:pt x="10195" y="13618"/>
                </a:cubicBezTo>
                <a:cubicBezTo>
                  <a:pt x="10165" y="13672"/>
                  <a:pt x="10143" y="13789"/>
                  <a:pt x="10195" y="13841"/>
                </a:cubicBezTo>
                <a:cubicBezTo>
                  <a:pt x="10289" y="13935"/>
                  <a:pt x="10372" y="13971"/>
                  <a:pt x="10492" y="13990"/>
                </a:cubicBezTo>
                <a:cubicBezTo>
                  <a:pt x="10577" y="14004"/>
                  <a:pt x="10611" y="13975"/>
                  <a:pt x="10691" y="13940"/>
                </a:cubicBezTo>
              </a:path>
              <a:path w="9947" h="3027">
                <a:moveTo>
                  <a:pt x="11162" y="13469"/>
                </a:moveTo>
                <a:cubicBezTo>
                  <a:pt x="11186" y="13532"/>
                  <a:pt x="11206" y="13599"/>
                  <a:pt x="11212" y="13667"/>
                </a:cubicBezTo>
                <a:cubicBezTo>
                  <a:pt x="11212" y="13695"/>
                  <a:pt x="11214" y="13706"/>
                  <a:pt x="11237" y="13717"/>
                </a:cubicBezTo>
                <a:cubicBezTo>
                  <a:pt x="11271" y="13705"/>
                  <a:pt x="11270" y="13681"/>
                  <a:pt x="11286" y="13643"/>
                </a:cubicBezTo>
                <a:cubicBezTo>
                  <a:pt x="11305" y="13599"/>
                  <a:pt x="11328" y="13545"/>
                  <a:pt x="11311" y="13494"/>
                </a:cubicBezTo>
                <a:cubicBezTo>
                  <a:pt x="11295" y="13447"/>
                  <a:pt x="11288" y="13401"/>
                  <a:pt x="11237" y="13395"/>
                </a:cubicBezTo>
                <a:cubicBezTo>
                  <a:pt x="11175" y="13388"/>
                  <a:pt x="11175" y="13376"/>
                  <a:pt x="11112" y="13395"/>
                </a:cubicBezTo>
                <a:cubicBezTo>
                  <a:pt x="11034" y="13419"/>
                  <a:pt x="11005" y="13445"/>
                  <a:pt x="10964" y="13519"/>
                </a:cubicBezTo>
                <a:cubicBezTo>
                  <a:pt x="10922" y="13594"/>
                  <a:pt x="10939" y="13683"/>
                  <a:pt x="10939" y="13767"/>
                </a:cubicBezTo>
                <a:cubicBezTo>
                  <a:pt x="10939" y="13824"/>
                  <a:pt x="10960" y="13950"/>
                  <a:pt x="11013" y="13990"/>
                </a:cubicBezTo>
                <a:cubicBezTo>
                  <a:pt x="11070" y="14033"/>
                  <a:pt x="11264" y="14079"/>
                  <a:pt x="11336" y="14064"/>
                </a:cubicBezTo>
                <a:cubicBezTo>
                  <a:pt x="11384" y="14040"/>
                  <a:pt x="11398" y="14031"/>
                  <a:pt x="11435" y="14039"/>
                </a:cubicBezTo>
              </a:path>
              <a:path w="9947" h="3027">
                <a:moveTo>
                  <a:pt x="11485" y="13171"/>
                </a:moveTo>
                <a:cubicBezTo>
                  <a:pt x="11561" y="13148"/>
                  <a:pt x="11605" y="13146"/>
                  <a:pt x="11683" y="13146"/>
                </a:cubicBezTo>
                <a:cubicBezTo>
                  <a:pt x="11741" y="13146"/>
                  <a:pt x="11749" y="13146"/>
                  <a:pt x="11782" y="13146"/>
                </a:cubicBezTo>
              </a:path>
              <a:path w="9947" h="3027">
                <a:moveTo>
                  <a:pt x="11832" y="13370"/>
                </a:moveTo>
                <a:cubicBezTo>
                  <a:pt x="11762" y="13446"/>
                  <a:pt x="11691" y="13494"/>
                  <a:pt x="11683" y="13593"/>
                </a:cubicBezTo>
                <a:cubicBezTo>
                  <a:pt x="11679" y="13641"/>
                  <a:pt x="11681" y="13693"/>
                  <a:pt x="11733" y="13717"/>
                </a:cubicBezTo>
                <a:cubicBezTo>
                  <a:pt x="11786" y="13741"/>
                  <a:pt x="11847" y="13760"/>
                  <a:pt x="11906" y="13767"/>
                </a:cubicBezTo>
              </a:path>
              <a:path w="9947" h="3027">
                <a:moveTo>
                  <a:pt x="12278" y="13494"/>
                </a:moveTo>
                <a:cubicBezTo>
                  <a:pt x="12332" y="13548"/>
                  <a:pt x="12330" y="13576"/>
                  <a:pt x="12353" y="13643"/>
                </a:cubicBezTo>
                <a:cubicBezTo>
                  <a:pt x="12378" y="13717"/>
                  <a:pt x="12418" y="13796"/>
                  <a:pt x="12452" y="13866"/>
                </a:cubicBezTo>
                <a:cubicBezTo>
                  <a:pt x="12477" y="13919"/>
                  <a:pt x="12529" y="13966"/>
                  <a:pt x="12551" y="14015"/>
                </a:cubicBezTo>
                <a:cubicBezTo>
                  <a:pt x="12551" y="14023"/>
                  <a:pt x="12551" y="14031"/>
                  <a:pt x="12551" y="14039"/>
                </a:cubicBezTo>
              </a:path>
              <a:path w="9947" h="3027">
                <a:moveTo>
                  <a:pt x="12650" y="13519"/>
                </a:moveTo>
                <a:cubicBezTo>
                  <a:pt x="12603" y="13526"/>
                  <a:pt x="12536" y="13553"/>
                  <a:pt x="12502" y="13593"/>
                </a:cubicBezTo>
                <a:cubicBezTo>
                  <a:pt x="12458" y="13645"/>
                  <a:pt x="12410" y="13706"/>
                  <a:pt x="12378" y="13767"/>
                </a:cubicBezTo>
                <a:cubicBezTo>
                  <a:pt x="12354" y="13813"/>
                  <a:pt x="12314" y="13845"/>
                  <a:pt x="12303" y="13891"/>
                </a:cubicBezTo>
              </a:path>
              <a:path w="9947" h="3027">
                <a:moveTo>
                  <a:pt x="3671" y="14163"/>
                </a:moveTo>
                <a:cubicBezTo>
                  <a:pt x="3719" y="14222"/>
                  <a:pt x="3756" y="14301"/>
                  <a:pt x="3845" y="14312"/>
                </a:cubicBezTo>
                <a:cubicBezTo>
                  <a:pt x="3912" y="14321"/>
                  <a:pt x="4063" y="14277"/>
                  <a:pt x="4118" y="14238"/>
                </a:cubicBezTo>
                <a:cubicBezTo>
                  <a:pt x="4235" y="14155"/>
                  <a:pt x="4320" y="14045"/>
                  <a:pt x="4415" y="13940"/>
                </a:cubicBezTo>
                <a:cubicBezTo>
                  <a:pt x="4529" y="13815"/>
                  <a:pt x="4608" y="13707"/>
                  <a:pt x="4663" y="13543"/>
                </a:cubicBezTo>
                <a:cubicBezTo>
                  <a:pt x="4707" y="13411"/>
                  <a:pt x="4786" y="13205"/>
                  <a:pt x="4713" y="13072"/>
                </a:cubicBezTo>
                <a:cubicBezTo>
                  <a:pt x="4688" y="13022"/>
                  <a:pt x="4680" y="13006"/>
                  <a:pt x="4638" y="12998"/>
                </a:cubicBezTo>
                <a:cubicBezTo>
                  <a:pt x="4557" y="13025"/>
                  <a:pt x="4557" y="12964"/>
                  <a:pt x="4490" y="13097"/>
                </a:cubicBezTo>
                <a:cubicBezTo>
                  <a:pt x="4430" y="13217"/>
                  <a:pt x="4418" y="13364"/>
                  <a:pt x="4415" y="13494"/>
                </a:cubicBezTo>
                <a:cubicBezTo>
                  <a:pt x="4410" y="13716"/>
                  <a:pt x="4386" y="13945"/>
                  <a:pt x="4341" y="14163"/>
                </a:cubicBezTo>
                <a:cubicBezTo>
                  <a:pt x="4288" y="14417"/>
                  <a:pt x="4177" y="14661"/>
                  <a:pt x="4043" y="14883"/>
                </a:cubicBezTo>
                <a:cubicBezTo>
                  <a:pt x="3909" y="15105"/>
                  <a:pt x="3746" y="15251"/>
                  <a:pt x="3522" y="15379"/>
                </a:cubicBezTo>
                <a:cubicBezTo>
                  <a:pt x="3326" y="15491"/>
                  <a:pt x="3134" y="15538"/>
                  <a:pt x="2927" y="15429"/>
                </a:cubicBezTo>
                <a:cubicBezTo>
                  <a:pt x="2747" y="15334"/>
                  <a:pt x="2690" y="15062"/>
                  <a:pt x="2704" y="14883"/>
                </a:cubicBezTo>
                <a:cubicBezTo>
                  <a:pt x="2721" y="14674"/>
                  <a:pt x="2775" y="14493"/>
                  <a:pt x="2877" y="14312"/>
                </a:cubicBezTo>
                <a:cubicBezTo>
                  <a:pt x="2967" y="14153"/>
                  <a:pt x="3084" y="14003"/>
                  <a:pt x="3249" y="13915"/>
                </a:cubicBezTo>
                <a:cubicBezTo>
                  <a:pt x="3404" y="13832"/>
                  <a:pt x="3635" y="13805"/>
                  <a:pt x="3795" y="13891"/>
                </a:cubicBezTo>
                <a:cubicBezTo>
                  <a:pt x="3900" y="13947"/>
                  <a:pt x="3953" y="14105"/>
                  <a:pt x="3969" y="14213"/>
                </a:cubicBezTo>
                <a:cubicBezTo>
                  <a:pt x="3979" y="14280"/>
                  <a:pt x="3983" y="14346"/>
                  <a:pt x="3994" y="14412"/>
                </a:cubicBezTo>
              </a:path>
              <a:path w="9947" h="3027">
                <a:moveTo>
                  <a:pt x="4812" y="14139"/>
                </a:moveTo>
                <a:cubicBezTo>
                  <a:pt x="4750" y="14086"/>
                  <a:pt x="4760" y="14089"/>
                  <a:pt x="4688" y="14089"/>
                </a:cubicBezTo>
                <a:cubicBezTo>
                  <a:pt x="4630" y="14089"/>
                  <a:pt x="4583" y="14122"/>
                  <a:pt x="4539" y="14163"/>
                </a:cubicBezTo>
                <a:cubicBezTo>
                  <a:pt x="4495" y="14204"/>
                  <a:pt x="4435" y="14278"/>
                  <a:pt x="4415" y="14337"/>
                </a:cubicBezTo>
                <a:cubicBezTo>
                  <a:pt x="4405" y="14367"/>
                  <a:pt x="4434" y="14417"/>
                  <a:pt x="4465" y="14412"/>
                </a:cubicBezTo>
                <a:cubicBezTo>
                  <a:pt x="4511" y="14405"/>
                  <a:pt x="4579" y="14358"/>
                  <a:pt x="4614" y="14337"/>
                </a:cubicBezTo>
              </a:path>
              <a:path w="9947" h="3027">
                <a:moveTo>
                  <a:pt x="4713" y="14263"/>
                </a:moveTo>
                <a:cubicBezTo>
                  <a:pt x="4701" y="14309"/>
                  <a:pt x="4656" y="14343"/>
                  <a:pt x="4638" y="14387"/>
                </a:cubicBezTo>
                <a:cubicBezTo>
                  <a:pt x="4629" y="14411"/>
                  <a:pt x="4638" y="14460"/>
                  <a:pt x="4638" y="14486"/>
                </a:cubicBezTo>
                <a:cubicBezTo>
                  <a:pt x="4705" y="14486"/>
                  <a:pt x="4749" y="14489"/>
                  <a:pt x="4812" y="14461"/>
                </a:cubicBezTo>
                <a:cubicBezTo>
                  <a:pt x="4869" y="14435"/>
                  <a:pt x="4951" y="14367"/>
                  <a:pt x="4986" y="14312"/>
                </a:cubicBezTo>
                <a:cubicBezTo>
                  <a:pt x="5048" y="14214"/>
                  <a:pt x="5062" y="14178"/>
                  <a:pt x="5035" y="14089"/>
                </a:cubicBezTo>
                <a:cubicBezTo>
                  <a:pt x="5017" y="14030"/>
                  <a:pt x="5000" y="14020"/>
                  <a:pt x="4936" y="14015"/>
                </a:cubicBezTo>
                <a:cubicBezTo>
                  <a:pt x="4911" y="14015"/>
                  <a:pt x="4903" y="14015"/>
                  <a:pt x="4887" y="14015"/>
                </a:cubicBezTo>
                <a:cubicBezTo>
                  <a:pt x="4927" y="14083"/>
                  <a:pt x="4916" y="14088"/>
                  <a:pt x="4986" y="14139"/>
                </a:cubicBezTo>
                <a:cubicBezTo>
                  <a:pt x="5041" y="14179"/>
                  <a:pt x="5086" y="14213"/>
                  <a:pt x="5135" y="14263"/>
                </a:cubicBezTo>
                <a:cubicBezTo>
                  <a:pt x="5148" y="14276"/>
                  <a:pt x="5191" y="14332"/>
                  <a:pt x="5184" y="14337"/>
                </a:cubicBezTo>
                <a:cubicBezTo>
                  <a:pt x="5147" y="14364"/>
                  <a:pt x="5113" y="14314"/>
                  <a:pt x="5110" y="14312"/>
                </a:cubicBezTo>
                <a:cubicBezTo>
                  <a:pt x="5102" y="14312"/>
                  <a:pt x="5093" y="14312"/>
                  <a:pt x="5085" y="14312"/>
                </a:cubicBezTo>
                <a:cubicBezTo>
                  <a:pt x="5085" y="14304"/>
                  <a:pt x="5085" y="14296"/>
                  <a:pt x="5085" y="14288"/>
                </a:cubicBezTo>
                <a:cubicBezTo>
                  <a:pt x="5135" y="14300"/>
                  <a:pt x="5135" y="14311"/>
                  <a:pt x="5135" y="14362"/>
                </a:cubicBezTo>
                <a:cubicBezTo>
                  <a:pt x="5135" y="14413"/>
                  <a:pt x="5144" y="14448"/>
                  <a:pt x="5110" y="14486"/>
                </a:cubicBezTo>
                <a:cubicBezTo>
                  <a:pt x="5084" y="14515"/>
                  <a:pt x="5045" y="14549"/>
                  <a:pt x="5011" y="14560"/>
                </a:cubicBezTo>
                <a:cubicBezTo>
                  <a:pt x="4967" y="14574"/>
                  <a:pt x="4750" y="14560"/>
                  <a:pt x="4787" y="14560"/>
                </a:cubicBezTo>
                <a:cubicBezTo>
                  <a:pt x="4855" y="14560"/>
                  <a:pt x="4897" y="14558"/>
                  <a:pt x="4961" y="14536"/>
                </a:cubicBezTo>
                <a:cubicBezTo>
                  <a:pt x="5052" y="14504"/>
                  <a:pt x="5105" y="14453"/>
                  <a:pt x="5184" y="14412"/>
                </a:cubicBezTo>
                <a:cubicBezTo>
                  <a:pt x="5273" y="14366"/>
                  <a:pt x="5320" y="14335"/>
                  <a:pt x="5383" y="14263"/>
                </a:cubicBezTo>
                <a:cubicBezTo>
                  <a:pt x="5421" y="14219"/>
                  <a:pt x="5454" y="14180"/>
                  <a:pt x="5482" y="14139"/>
                </a:cubicBezTo>
                <a:cubicBezTo>
                  <a:pt x="5490" y="14131"/>
                  <a:pt x="5499" y="14122"/>
                  <a:pt x="5507" y="14114"/>
                </a:cubicBezTo>
                <a:cubicBezTo>
                  <a:pt x="5492" y="14188"/>
                  <a:pt x="5464" y="14266"/>
                  <a:pt x="5432" y="14337"/>
                </a:cubicBezTo>
                <a:cubicBezTo>
                  <a:pt x="5406" y="14394"/>
                  <a:pt x="5378" y="14451"/>
                  <a:pt x="5358" y="14511"/>
                </a:cubicBezTo>
                <a:cubicBezTo>
                  <a:pt x="5358" y="14519"/>
                  <a:pt x="5358" y="14528"/>
                  <a:pt x="5358" y="14536"/>
                </a:cubicBezTo>
                <a:cubicBezTo>
                  <a:pt x="5391" y="14477"/>
                  <a:pt x="5426" y="14423"/>
                  <a:pt x="5457" y="14362"/>
                </a:cubicBezTo>
              </a:path>
              <a:path w="9947" h="3027">
                <a:moveTo>
                  <a:pt x="5556" y="14188"/>
                </a:moveTo>
                <a:cubicBezTo>
                  <a:pt x="5544" y="14238"/>
                  <a:pt x="5519" y="14281"/>
                  <a:pt x="5507" y="14337"/>
                </a:cubicBezTo>
                <a:cubicBezTo>
                  <a:pt x="5490" y="14417"/>
                  <a:pt x="5443" y="14496"/>
                  <a:pt x="5531" y="14536"/>
                </a:cubicBezTo>
                <a:cubicBezTo>
                  <a:pt x="5568" y="14553"/>
                  <a:pt x="5631" y="14506"/>
                  <a:pt x="5655" y="14486"/>
                </a:cubicBezTo>
                <a:cubicBezTo>
                  <a:pt x="5720" y="14432"/>
                  <a:pt x="5783" y="14356"/>
                  <a:pt x="5829" y="14288"/>
                </a:cubicBezTo>
                <a:cubicBezTo>
                  <a:pt x="5837" y="14271"/>
                  <a:pt x="5846" y="14255"/>
                  <a:pt x="5854" y="14238"/>
                </a:cubicBezTo>
              </a:path>
              <a:path w="9947" h="3027">
                <a:moveTo>
                  <a:pt x="5904" y="14114"/>
                </a:moveTo>
                <a:cubicBezTo>
                  <a:pt x="5883" y="14163"/>
                  <a:pt x="5873" y="14216"/>
                  <a:pt x="5854" y="14263"/>
                </a:cubicBezTo>
                <a:cubicBezTo>
                  <a:pt x="5836" y="14306"/>
                  <a:pt x="5797" y="14376"/>
                  <a:pt x="5854" y="14412"/>
                </a:cubicBezTo>
                <a:cubicBezTo>
                  <a:pt x="5862" y="14412"/>
                  <a:pt x="5871" y="14412"/>
                  <a:pt x="5879" y="14412"/>
                </a:cubicBezTo>
                <a:cubicBezTo>
                  <a:pt x="5936" y="14412"/>
                  <a:pt x="5959" y="14375"/>
                  <a:pt x="6003" y="14337"/>
                </a:cubicBezTo>
                <a:cubicBezTo>
                  <a:pt x="6071" y="14277"/>
                  <a:pt x="6114" y="14229"/>
                  <a:pt x="6176" y="14163"/>
                </a:cubicBezTo>
                <a:cubicBezTo>
                  <a:pt x="6203" y="14134"/>
                  <a:pt x="6269" y="14053"/>
                  <a:pt x="6251" y="14089"/>
                </a:cubicBezTo>
                <a:cubicBezTo>
                  <a:pt x="6224" y="14142"/>
                  <a:pt x="6206" y="14202"/>
                  <a:pt x="6176" y="14263"/>
                </a:cubicBezTo>
                <a:cubicBezTo>
                  <a:pt x="6144" y="14327"/>
                  <a:pt x="6142" y="14367"/>
                  <a:pt x="6152" y="14412"/>
                </a:cubicBezTo>
                <a:cubicBezTo>
                  <a:pt x="6152" y="14420"/>
                  <a:pt x="6152" y="14428"/>
                  <a:pt x="6152" y="14436"/>
                </a:cubicBezTo>
                <a:cubicBezTo>
                  <a:pt x="6219" y="14420"/>
                  <a:pt x="6185" y="14390"/>
                  <a:pt x="6226" y="14337"/>
                </a:cubicBezTo>
                <a:cubicBezTo>
                  <a:pt x="6291" y="14253"/>
                  <a:pt x="6341" y="14179"/>
                  <a:pt x="6400" y="14089"/>
                </a:cubicBezTo>
                <a:cubicBezTo>
                  <a:pt x="6427" y="14061"/>
                  <a:pt x="6435" y="14047"/>
                  <a:pt x="6424" y="14015"/>
                </a:cubicBezTo>
                <a:cubicBezTo>
                  <a:pt x="6385" y="14028"/>
                  <a:pt x="6378" y="14063"/>
                  <a:pt x="6375" y="14114"/>
                </a:cubicBezTo>
                <a:cubicBezTo>
                  <a:pt x="6370" y="14203"/>
                  <a:pt x="6373" y="14280"/>
                  <a:pt x="6400" y="14362"/>
                </a:cubicBezTo>
                <a:cubicBezTo>
                  <a:pt x="6428" y="14448"/>
                  <a:pt x="6485" y="14497"/>
                  <a:pt x="6573" y="14511"/>
                </a:cubicBezTo>
                <a:cubicBezTo>
                  <a:pt x="6606" y="14511"/>
                  <a:pt x="6623" y="14511"/>
                  <a:pt x="6648" y="14511"/>
                </a:cubicBezTo>
              </a:path>
              <a:path w="9947" h="3027">
                <a:moveTo>
                  <a:pt x="5953" y="13643"/>
                </a:moveTo>
                <a:cubicBezTo>
                  <a:pt x="5983" y="13672"/>
                  <a:pt x="5994" y="13680"/>
                  <a:pt x="6003" y="13717"/>
                </a:cubicBezTo>
              </a:path>
              <a:path w="9947" h="3027">
                <a:moveTo>
                  <a:pt x="7169" y="13395"/>
                </a:moveTo>
                <a:cubicBezTo>
                  <a:pt x="7183" y="13452"/>
                  <a:pt x="7181" y="13504"/>
                  <a:pt x="7193" y="13568"/>
                </a:cubicBezTo>
                <a:cubicBezTo>
                  <a:pt x="7215" y="13681"/>
                  <a:pt x="7233" y="13796"/>
                  <a:pt x="7218" y="13915"/>
                </a:cubicBezTo>
                <a:cubicBezTo>
                  <a:pt x="7201" y="14057"/>
                  <a:pt x="7160" y="14196"/>
                  <a:pt x="7144" y="14337"/>
                </a:cubicBezTo>
                <a:cubicBezTo>
                  <a:pt x="7142" y="14357"/>
                  <a:pt x="7153" y="14745"/>
                  <a:pt x="7119" y="14734"/>
                </a:cubicBezTo>
                <a:cubicBezTo>
                  <a:pt x="7119" y="14726"/>
                  <a:pt x="7119" y="14717"/>
                  <a:pt x="7119" y="14709"/>
                </a:cubicBezTo>
              </a:path>
              <a:path w="9947" h="3027">
                <a:moveTo>
                  <a:pt x="6747" y="13370"/>
                </a:moveTo>
                <a:cubicBezTo>
                  <a:pt x="6705" y="13273"/>
                  <a:pt x="6638" y="13204"/>
                  <a:pt x="6648" y="13097"/>
                </a:cubicBezTo>
                <a:cubicBezTo>
                  <a:pt x="6654" y="13037"/>
                  <a:pt x="6700" y="13005"/>
                  <a:pt x="6747" y="12973"/>
                </a:cubicBezTo>
                <a:cubicBezTo>
                  <a:pt x="6847" y="12904"/>
                  <a:pt x="7002" y="12874"/>
                  <a:pt x="7119" y="12874"/>
                </a:cubicBezTo>
                <a:cubicBezTo>
                  <a:pt x="7273" y="12874"/>
                  <a:pt x="7427" y="12888"/>
                  <a:pt x="7565" y="12948"/>
                </a:cubicBezTo>
                <a:cubicBezTo>
                  <a:pt x="7684" y="13000"/>
                  <a:pt x="7844" y="13050"/>
                  <a:pt x="7938" y="13146"/>
                </a:cubicBezTo>
                <a:cubicBezTo>
                  <a:pt x="8013" y="13222"/>
                  <a:pt x="8051" y="13314"/>
                  <a:pt x="8037" y="13419"/>
                </a:cubicBezTo>
                <a:cubicBezTo>
                  <a:pt x="8020" y="13544"/>
                  <a:pt x="7973" y="13562"/>
                  <a:pt x="7863" y="13618"/>
                </a:cubicBezTo>
                <a:cubicBezTo>
                  <a:pt x="7760" y="13670"/>
                  <a:pt x="7605" y="13704"/>
                  <a:pt x="7491" y="13717"/>
                </a:cubicBezTo>
                <a:cubicBezTo>
                  <a:pt x="7434" y="13724"/>
                  <a:pt x="7374" y="13714"/>
                  <a:pt x="7317" y="13717"/>
                </a:cubicBezTo>
                <a:cubicBezTo>
                  <a:pt x="7378" y="13709"/>
                  <a:pt x="7398" y="13697"/>
                  <a:pt x="7466" y="13692"/>
                </a:cubicBezTo>
                <a:cubicBezTo>
                  <a:pt x="7580" y="13684"/>
                  <a:pt x="7702" y="13701"/>
                  <a:pt x="7813" y="13717"/>
                </a:cubicBezTo>
                <a:cubicBezTo>
                  <a:pt x="7967" y="13740"/>
                  <a:pt x="8120" y="13801"/>
                  <a:pt x="8260" y="13866"/>
                </a:cubicBezTo>
                <a:cubicBezTo>
                  <a:pt x="8406" y="13933"/>
                  <a:pt x="8528" y="14016"/>
                  <a:pt x="8632" y="14139"/>
                </a:cubicBezTo>
                <a:cubicBezTo>
                  <a:pt x="8703" y="14223"/>
                  <a:pt x="8794" y="14343"/>
                  <a:pt x="8806" y="14461"/>
                </a:cubicBezTo>
                <a:cubicBezTo>
                  <a:pt x="8822" y="14629"/>
                  <a:pt x="8772" y="14792"/>
                  <a:pt x="8682" y="14932"/>
                </a:cubicBezTo>
                <a:cubicBezTo>
                  <a:pt x="8580" y="15091"/>
                  <a:pt x="8454" y="15210"/>
                  <a:pt x="8285" y="15304"/>
                </a:cubicBezTo>
                <a:cubicBezTo>
                  <a:pt x="8171" y="15368"/>
                  <a:pt x="7994" y="15413"/>
                  <a:pt x="7863" y="15429"/>
                </a:cubicBezTo>
                <a:cubicBezTo>
                  <a:pt x="7700" y="15450"/>
                  <a:pt x="7526" y="15383"/>
                  <a:pt x="7367" y="15354"/>
                </a:cubicBezTo>
                <a:cubicBezTo>
                  <a:pt x="7173" y="15319"/>
                  <a:pt x="6986" y="15260"/>
                  <a:pt x="6796" y="15205"/>
                </a:cubicBezTo>
                <a:cubicBezTo>
                  <a:pt x="6585" y="15144"/>
                  <a:pt x="6369" y="15091"/>
                  <a:pt x="6152" y="15056"/>
                </a:cubicBezTo>
                <a:cubicBezTo>
                  <a:pt x="5950" y="15024"/>
                  <a:pt x="5708" y="15015"/>
                  <a:pt x="5507" y="15056"/>
                </a:cubicBezTo>
                <a:cubicBezTo>
                  <a:pt x="5338" y="15091"/>
                  <a:pt x="5139" y="15158"/>
                  <a:pt x="5011" y="15280"/>
                </a:cubicBezTo>
                <a:cubicBezTo>
                  <a:pt x="4927" y="15361"/>
                  <a:pt x="4769" y="15526"/>
                  <a:pt x="4762" y="15652"/>
                </a:cubicBezTo>
                <a:cubicBezTo>
                  <a:pt x="4783" y="15797"/>
                  <a:pt x="4776" y="15831"/>
                  <a:pt x="4837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5120" y="4749840"/>
            <a:ext cx="1359000" cy="385560"/>
          </a:xfrm>
          <a:custGeom>
            <a:avLst/>
            <a:gdLst/>
            <a:ahLst/>
            <a:rect l="l" t="t" r="r" b="b"/>
            <a:pathLst>
              <a:path w="3772" h="1068">
                <a:moveTo>
                  <a:pt x="13543" y="13444"/>
                </a:moveTo>
                <a:cubicBezTo>
                  <a:pt x="13589" y="13444"/>
                  <a:pt x="13602" y="13422"/>
                  <a:pt x="13643" y="13419"/>
                </a:cubicBezTo>
                <a:cubicBezTo>
                  <a:pt x="13749" y="13411"/>
                  <a:pt x="13859" y="13419"/>
                  <a:pt x="13965" y="13419"/>
                </a:cubicBezTo>
              </a:path>
              <a:path w="3772" h="1068">
                <a:moveTo>
                  <a:pt x="13667" y="13568"/>
                </a:moveTo>
                <a:cubicBezTo>
                  <a:pt x="13721" y="13591"/>
                  <a:pt x="13782" y="13606"/>
                  <a:pt x="13841" y="13618"/>
                </a:cubicBezTo>
                <a:cubicBezTo>
                  <a:pt x="13849" y="13618"/>
                  <a:pt x="13858" y="13618"/>
                  <a:pt x="13866" y="13618"/>
                </a:cubicBezTo>
              </a:path>
              <a:path w="3772" h="1068">
                <a:moveTo>
                  <a:pt x="14784" y="13395"/>
                </a:moveTo>
                <a:cubicBezTo>
                  <a:pt x="14784" y="13447"/>
                  <a:pt x="14764" y="13553"/>
                  <a:pt x="14808" y="13568"/>
                </a:cubicBezTo>
                <a:cubicBezTo>
                  <a:pt x="14808" y="13507"/>
                  <a:pt x="14820" y="13482"/>
                  <a:pt x="14833" y="13419"/>
                </a:cubicBezTo>
                <a:cubicBezTo>
                  <a:pt x="14845" y="13358"/>
                  <a:pt x="14824" y="13335"/>
                  <a:pt x="14784" y="13295"/>
                </a:cubicBezTo>
                <a:cubicBezTo>
                  <a:pt x="14731" y="13242"/>
                  <a:pt x="14700" y="13243"/>
                  <a:pt x="14635" y="13221"/>
                </a:cubicBezTo>
                <a:cubicBezTo>
                  <a:pt x="14583" y="13204"/>
                  <a:pt x="14472" y="13199"/>
                  <a:pt x="14412" y="13221"/>
                </a:cubicBezTo>
                <a:cubicBezTo>
                  <a:pt x="14368" y="13237"/>
                  <a:pt x="14362" y="13252"/>
                  <a:pt x="14362" y="13295"/>
                </a:cubicBezTo>
                <a:cubicBezTo>
                  <a:pt x="14362" y="13369"/>
                  <a:pt x="14426" y="13404"/>
                  <a:pt x="14486" y="13444"/>
                </a:cubicBezTo>
                <a:cubicBezTo>
                  <a:pt x="14571" y="13500"/>
                  <a:pt x="14650" y="13560"/>
                  <a:pt x="14734" y="13618"/>
                </a:cubicBezTo>
                <a:cubicBezTo>
                  <a:pt x="14845" y="13695"/>
                  <a:pt x="14948" y="13796"/>
                  <a:pt x="14957" y="13940"/>
                </a:cubicBezTo>
                <a:cubicBezTo>
                  <a:pt x="14961" y="14011"/>
                  <a:pt x="14901" y="14049"/>
                  <a:pt x="14833" y="14064"/>
                </a:cubicBezTo>
                <a:cubicBezTo>
                  <a:pt x="14723" y="14089"/>
                  <a:pt x="14612" y="14056"/>
                  <a:pt x="14511" y="14039"/>
                </a:cubicBezTo>
                <a:cubicBezTo>
                  <a:pt x="14467" y="14032"/>
                  <a:pt x="14430" y="14023"/>
                  <a:pt x="14387" y="14015"/>
                </a:cubicBezTo>
              </a:path>
              <a:path w="3772" h="1068">
                <a:moveTo>
                  <a:pt x="15056" y="13990"/>
                </a:moveTo>
                <a:cubicBezTo>
                  <a:pt x="15082" y="13956"/>
                  <a:pt x="15090" y="13928"/>
                  <a:pt x="15106" y="13891"/>
                </a:cubicBezTo>
                <a:cubicBezTo>
                  <a:pt x="15131" y="13834"/>
                  <a:pt x="15174" y="13815"/>
                  <a:pt x="15205" y="13767"/>
                </a:cubicBezTo>
                <a:cubicBezTo>
                  <a:pt x="15249" y="13698"/>
                  <a:pt x="15255" y="13696"/>
                  <a:pt x="15329" y="13667"/>
                </a:cubicBezTo>
                <a:cubicBezTo>
                  <a:pt x="15405" y="13638"/>
                  <a:pt x="15409" y="13647"/>
                  <a:pt x="15478" y="13667"/>
                </a:cubicBezTo>
                <a:cubicBezTo>
                  <a:pt x="15518" y="13679"/>
                  <a:pt x="15505" y="13707"/>
                  <a:pt x="15528" y="13742"/>
                </a:cubicBezTo>
                <a:cubicBezTo>
                  <a:pt x="15578" y="13817"/>
                  <a:pt x="15530" y="13786"/>
                  <a:pt x="15478" y="13742"/>
                </a:cubicBezTo>
              </a:path>
              <a:path w="3772" h="1068">
                <a:moveTo>
                  <a:pt x="15255" y="13519"/>
                </a:moveTo>
                <a:cubicBezTo>
                  <a:pt x="15164" y="13519"/>
                  <a:pt x="15123" y="13507"/>
                  <a:pt x="15056" y="13568"/>
                </a:cubicBezTo>
                <a:cubicBezTo>
                  <a:pt x="15019" y="13602"/>
                  <a:pt x="14973" y="13666"/>
                  <a:pt x="14982" y="13717"/>
                </a:cubicBezTo>
                <a:cubicBezTo>
                  <a:pt x="15000" y="13816"/>
                  <a:pt x="15009" y="13855"/>
                  <a:pt x="15081" y="13915"/>
                </a:cubicBezTo>
                <a:cubicBezTo>
                  <a:pt x="15136" y="13960"/>
                  <a:pt x="15212" y="13983"/>
                  <a:pt x="15280" y="13990"/>
                </a:cubicBezTo>
                <a:cubicBezTo>
                  <a:pt x="15313" y="13990"/>
                  <a:pt x="15346" y="13990"/>
                  <a:pt x="15379" y="13990"/>
                </a:cubicBezTo>
              </a:path>
              <a:path w="3772" h="1068">
                <a:moveTo>
                  <a:pt x="15875" y="13568"/>
                </a:moveTo>
                <a:cubicBezTo>
                  <a:pt x="15904" y="13639"/>
                  <a:pt x="15925" y="13668"/>
                  <a:pt x="15925" y="13742"/>
                </a:cubicBezTo>
                <a:cubicBezTo>
                  <a:pt x="15925" y="13783"/>
                  <a:pt x="15925" y="13825"/>
                  <a:pt x="15925" y="13866"/>
                </a:cubicBezTo>
                <a:cubicBezTo>
                  <a:pt x="15952" y="13856"/>
                  <a:pt x="15985" y="13809"/>
                  <a:pt x="15999" y="13767"/>
                </a:cubicBezTo>
                <a:cubicBezTo>
                  <a:pt x="16016" y="13717"/>
                  <a:pt x="16024" y="13673"/>
                  <a:pt x="16024" y="13618"/>
                </a:cubicBezTo>
                <a:cubicBezTo>
                  <a:pt x="16024" y="13564"/>
                  <a:pt x="15998" y="13501"/>
                  <a:pt x="15949" y="13469"/>
                </a:cubicBezTo>
                <a:cubicBezTo>
                  <a:pt x="15909" y="13443"/>
                  <a:pt x="15854" y="13477"/>
                  <a:pt x="15825" y="13494"/>
                </a:cubicBezTo>
                <a:cubicBezTo>
                  <a:pt x="15770" y="13526"/>
                  <a:pt x="15707" y="13609"/>
                  <a:pt x="15677" y="13667"/>
                </a:cubicBezTo>
                <a:cubicBezTo>
                  <a:pt x="15646" y="13728"/>
                  <a:pt x="15634" y="13849"/>
                  <a:pt x="15652" y="13915"/>
                </a:cubicBezTo>
                <a:cubicBezTo>
                  <a:pt x="15667" y="13973"/>
                  <a:pt x="15723" y="14058"/>
                  <a:pt x="15776" y="14089"/>
                </a:cubicBezTo>
                <a:cubicBezTo>
                  <a:pt x="15834" y="14123"/>
                  <a:pt x="15915" y="14118"/>
                  <a:pt x="15974" y="14139"/>
                </a:cubicBezTo>
                <a:cubicBezTo>
                  <a:pt x="16052" y="14168"/>
                  <a:pt x="16059" y="14149"/>
                  <a:pt x="16148" y="14114"/>
                </a:cubicBezTo>
              </a:path>
              <a:path w="3772" h="1068">
                <a:moveTo>
                  <a:pt x="16222" y="13320"/>
                </a:moveTo>
                <a:cubicBezTo>
                  <a:pt x="16292" y="13299"/>
                  <a:pt x="16325" y="13295"/>
                  <a:pt x="16396" y="13295"/>
                </a:cubicBezTo>
                <a:cubicBezTo>
                  <a:pt x="16471" y="13295"/>
                  <a:pt x="16482" y="13320"/>
                  <a:pt x="16545" y="13345"/>
                </a:cubicBezTo>
                <a:cubicBezTo>
                  <a:pt x="16565" y="13353"/>
                  <a:pt x="16591" y="13383"/>
                  <a:pt x="16570" y="13419"/>
                </a:cubicBezTo>
                <a:cubicBezTo>
                  <a:pt x="16533" y="13485"/>
                  <a:pt x="16458" y="13523"/>
                  <a:pt x="16421" y="13593"/>
                </a:cubicBezTo>
                <a:cubicBezTo>
                  <a:pt x="16392" y="13649"/>
                  <a:pt x="16328" y="13658"/>
                  <a:pt x="16321" y="13717"/>
                </a:cubicBezTo>
                <a:cubicBezTo>
                  <a:pt x="16317" y="13755"/>
                  <a:pt x="16366" y="13782"/>
                  <a:pt x="16396" y="13791"/>
                </a:cubicBezTo>
                <a:cubicBezTo>
                  <a:pt x="16437" y="13804"/>
                  <a:pt x="16475" y="13816"/>
                  <a:pt x="16520" y="13816"/>
                </a:cubicBezTo>
                <a:cubicBezTo>
                  <a:pt x="16537" y="13816"/>
                  <a:pt x="16553" y="13816"/>
                  <a:pt x="16570" y="13816"/>
                </a:cubicBezTo>
              </a:path>
              <a:path w="3772" h="1068">
                <a:moveTo>
                  <a:pt x="16892" y="13593"/>
                </a:moveTo>
                <a:cubicBezTo>
                  <a:pt x="16946" y="13677"/>
                  <a:pt x="16977" y="13751"/>
                  <a:pt x="17016" y="13841"/>
                </a:cubicBezTo>
                <a:cubicBezTo>
                  <a:pt x="17043" y="13904"/>
                  <a:pt x="17100" y="13972"/>
                  <a:pt x="17115" y="14039"/>
                </a:cubicBezTo>
                <a:cubicBezTo>
                  <a:pt x="17130" y="14106"/>
                  <a:pt x="17140" y="14112"/>
                  <a:pt x="17190" y="14163"/>
                </a:cubicBezTo>
                <a:cubicBezTo>
                  <a:pt x="17198" y="14171"/>
                  <a:pt x="17206" y="14180"/>
                  <a:pt x="17214" y="14188"/>
                </a:cubicBezTo>
              </a:path>
              <a:path w="3772" h="1068">
                <a:moveTo>
                  <a:pt x="17314" y="13767"/>
                </a:moveTo>
                <a:cubicBezTo>
                  <a:pt x="17252" y="13878"/>
                  <a:pt x="17194" y="13969"/>
                  <a:pt x="17115" y="14064"/>
                </a:cubicBezTo>
                <a:cubicBezTo>
                  <a:pt x="17065" y="14124"/>
                  <a:pt x="17035" y="14174"/>
                  <a:pt x="16991" y="14238"/>
                </a:cubicBezTo>
                <a:cubicBezTo>
                  <a:pt x="16983" y="14246"/>
                  <a:pt x="16974" y="14255"/>
                  <a:pt x="16966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99160" y="4724280"/>
            <a:ext cx="509760" cy="392400"/>
          </a:xfrm>
          <a:custGeom>
            <a:avLst/>
            <a:gdLst/>
            <a:ahLst/>
            <a:rect l="l" t="t" r="r" b="b"/>
            <a:pathLst>
              <a:path w="1415" h="1092">
                <a:moveTo>
                  <a:pt x="18331" y="13816"/>
                </a:moveTo>
                <a:cubicBezTo>
                  <a:pt x="18365" y="13862"/>
                  <a:pt x="18374" y="13860"/>
                  <a:pt x="18380" y="13915"/>
                </a:cubicBezTo>
                <a:cubicBezTo>
                  <a:pt x="18389" y="13997"/>
                  <a:pt x="18395" y="14093"/>
                  <a:pt x="18405" y="14163"/>
                </a:cubicBezTo>
                <a:cubicBezTo>
                  <a:pt x="18405" y="14188"/>
                  <a:pt x="18405" y="14196"/>
                  <a:pt x="18405" y="14213"/>
                </a:cubicBezTo>
                <a:cubicBezTo>
                  <a:pt x="18476" y="14204"/>
                  <a:pt x="18497" y="14193"/>
                  <a:pt x="18554" y="14139"/>
                </a:cubicBezTo>
                <a:cubicBezTo>
                  <a:pt x="18795" y="13912"/>
                  <a:pt x="19020" y="13688"/>
                  <a:pt x="19273" y="13469"/>
                </a:cubicBezTo>
                <a:cubicBezTo>
                  <a:pt x="19422" y="13340"/>
                  <a:pt x="19588" y="13241"/>
                  <a:pt x="19745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8080" y="3483000"/>
            <a:ext cx="4827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2080" y="9971"/>
                </a:moveTo>
                <a:cubicBezTo>
                  <a:pt x="12232" y="9971"/>
                  <a:pt x="12382" y="9981"/>
                  <a:pt x="12526" y="9996"/>
                </a:cubicBezTo>
                <a:cubicBezTo>
                  <a:pt x="12559" y="9996"/>
                  <a:pt x="12593" y="9996"/>
                  <a:pt x="12626" y="9996"/>
                </a:cubicBezTo>
              </a:path>
              <a:path w="1340" h="671">
                <a:moveTo>
                  <a:pt x="13146" y="9699"/>
                </a:moveTo>
                <a:cubicBezTo>
                  <a:pt x="13074" y="9677"/>
                  <a:pt x="13039" y="9656"/>
                  <a:pt x="12973" y="9699"/>
                </a:cubicBezTo>
                <a:cubicBezTo>
                  <a:pt x="12950" y="9721"/>
                  <a:pt x="12945" y="9729"/>
                  <a:pt x="12923" y="9723"/>
                </a:cubicBezTo>
                <a:cubicBezTo>
                  <a:pt x="12923" y="9766"/>
                  <a:pt x="12938" y="9817"/>
                  <a:pt x="12973" y="9847"/>
                </a:cubicBezTo>
                <a:cubicBezTo>
                  <a:pt x="13038" y="9903"/>
                  <a:pt x="13128" y="9938"/>
                  <a:pt x="13196" y="9996"/>
                </a:cubicBezTo>
                <a:cubicBezTo>
                  <a:pt x="13248" y="10041"/>
                  <a:pt x="13367" y="10133"/>
                  <a:pt x="13395" y="10195"/>
                </a:cubicBezTo>
                <a:cubicBezTo>
                  <a:pt x="13406" y="10219"/>
                  <a:pt x="13413" y="10267"/>
                  <a:pt x="13419" y="10294"/>
                </a:cubicBezTo>
                <a:cubicBezTo>
                  <a:pt x="13338" y="10361"/>
                  <a:pt x="13344" y="10334"/>
                  <a:pt x="13246" y="10319"/>
                </a:cubicBezTo>
                <a:cubicBezTo>
                  <a:pt x="13174" y="10308"/>
                  <a:pt x="13086" y="10306"/>
                  <a:pt x="13022" y="10269"/>
                </a:cubicBezTo>
                <a:cubicBezTo>
                  <a:pt x="12989" y="10250"/>
                  <a:pt x="12929" y="10210"/>
                  <a:pt x="12923" y="10170"/>
                </a:cubicBezTo>
                <a:cubicBezTo>
                  <a:pt x="12923" y="10145"/>
                  <a:pt x="12923" y="10121"/>
                  <a:pt x="12923" y="10096"/>
                </a:cubicBezTo>
              </a:path>
              <a:path w="1340" h="671">
                <a:moveTo>
                  <a:pt x="13097" y="9748"/>
                </a:moveTo>
                <a:cubicBezTo>
                  <a:pt x="13177" y="9755"/>
                  <a:pt x="13266" y="9756"/>
                  <a:pt x="13345" y="9773"/>
                </a:cubicBezTo>
                <a:cubicBezTo>
                  <a:pt x="13370" y="9781"/>
                  <a:pt x="13394" y="9790"/>
                  <a:pt x="13419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643040" y="554040"/>
            <a:ext cx="1857240" cy="527040"/>
          </a:xfrm>
          <a:custGeom>
            <a:avLst/>
            <a:gdLst/>
            <a:ahLst/>
            <a:rect l="l" t="t" r="r" b="b"/>
            <a:pathLst>
              <a:path w="5160" h="1464">
                <a:moveTo>
                  <a:pt x="5135" y="1761"/>
                </a:moveTo>
                <a:cubicBezTo>
                  <a:pt x="5109" y="1750"/>
                  <a:pt x="5045" y="1717"/>
                  <a:pt x="5011" y="1736"/>
                </a:cubicBezTo>
                <a:cubicBezTo>
                  <a:pt x="4954" y="1768"/>
                  <a:pt x="4908" y="1880"/>
                  <a:pt x="4887" y="1935"/>
                </a:cubicBezTo>
                <a:cubicBezTo>
                  <a:pt x="4858" y="2010"/>
                  <a:pt x="4819" y="2100"/>
                  <a:pt x="4837" y="2183"/>
                </a:cubicBezTo>
                <a:cubicBezTo>
                  <a:pt x="4854" y="2259"/>
                  <a:pt x="4879" y="2332"/>
                  <a:pt x="4961" y="2332"/>
                </a:cubicBezTo>
                <a:cubicBezTo>
                  <a:pt x="5035" y="2332"/>
                  <a:pt x="5040" y="2311"/>
                  <a:pt x="5085" y="2257"/>
                </a:cubicBezTo>
                <a:cubicBezTo>
                  <a:pt x="5112" y="2224"/>
                  <a:pt x="5149" y="2131"/>
                  <a:pt x="5159" y="2084"/>
                </a:cubicBezTo>
                <a:cubicBezTo>
                  <a:pt x="5170" y="2035"/>
                  <a:pt x="5179" y="1978"/>
                  <a:pt x="5184" y="1935"/>
                </a:cubicBezTo>
                <a:cubicBezTo>
                  <a:pt x="5185" y="1927"/>
                  <a:pt x="5184" y="1843"/>
                  <a:pt x="5184" y="1910"/>
                </a:cubicBezTo>
                <a:cubicBezTo>
                  <a:pt x="5184" y="2024"/>
                  <a:pt x="5188" y="2147"/>
                  <a:pt x="5209" y="2257"/>
                </a:cubicBezTo>
                <a:cubicBezTo>
                  <a:pt x="5222" y="2325"/>
                  <a:pt x="5236" y="2443"/>
                  <a:pt x="5259" y="2505"/>
                </a:cubicBezTo>
                <a:cubicBezTo>
                  <a:pt x="5274" y="2545"/>
                  <a:pt x="5291" y="2584"/>
                  <a:pt x="5308" y="2629"/>
                </a:cubicBezTo>
              </a:path>
              <a:path w="5160" h="1464">
                <a:moveTo>
                  <a:pt x="4936" y="1538"/>
                </a:moveTo>
                <a:cubicBezTo>
                  <a:pt x="4864" y="1565"/>
                  <a:pt x="4838" y="1586"/>
                  <a:pt x="4787" y="1662"/>
                </a:cubicBezTo>
                <a:cubicBezTo>
                  <a:pt x="4742" y="1730"/>
                  <a:pt x="4674" y="1816"/>
                  <a:pt x="4638" y="1885"/>
                </a:cubicBezTo>
                <a:cubicBezTo>
                  <a:pt x="4589" y="1980"/>
                  <a:pt x="4606" y="2107"/>
                  <a:pt x="4589" y="2208"/>
                </a:cubicBezTo>
                <a:cubicBezTo>
                  <a:pt x="4568" y="2328"/>
                  <a:pt x="4585" y="2463"/>
                  <a:pt x="4638" y="2580"/>
                </a:cubicBezTo>
                <a:cubicBezTo>
                  <a:pt x="4679" y="2671"/>
                  <a:pt x="4806" y="2795"/>
                  <a:pt x="4887" y="2853"/>
                </a:cubicBezTo>
                <a:cubicBezTo>
                  <a:pt x="4971" y="2913"/>
                  <a:pt x="5149" y="3004"/>
                  <a:pt x="5259" y="3001"/>
                </a:cubicBezTo>
                <a:cubicBezTo>
                  <a:pt x="5377" y="2998"/>
                  <a:pt x="5503" y="2960"/>
                  <a:pt x="5606" y="2902"/>
                </a:cubicBezTo>
                <a:cubicBezTo>
                  <a:pt x="5699" y="2849"/>
                  <a:pt x="5804" y="2725"/>
                  <a:pt x="5854" y="2629"/>
                </a:cubicBezTo>
                <a:cubicBezTo>
                  <a:pt x="5913" y="2517"/>
                  <a:pt x="5963" y="2403"/>
                  <a:pt x="6003" y="2282"/>
                </a:cubicBezTo>
                <a:cubicBezTo>
                  <a:pt x="6045" y="2153"/>
                  <a:pt x="6035" y="2074"/>
                  <a:pt x="5978" y="1960"/>
                </a:cubicBezTo>
                <a:cubicBezTo>
                  <a:pt x="5909" y="1823"/>
                  <a:pt x="5838" y="1720"/>
                  <a:pt x="5705" y="1637"/>
                </a:cubicBezTo>
                <a:cubicBezTo>
                  <a:pt x="5576" y="1556"/>
                  <a:pt x="5426" y="1565"/>
                  <a:pt x="5283" y="1538"/>
                </a:cubicBezTo>
              </a:path>
              <a:path w="5160" h="1464">
                <a:moveTo>
                  <a:pt x="6846" y="1885"/>
                </a:moveTo>
                <a:cubicBezTo>
                  <a:pt x="6805" y="1918"/>
                  <a:pt x="6730" y="1925"/>
                  <a:pt x="6697" y="1960"/>
                </a:cubicBezTo>
                <a:cubicBezTo>
                  <a:pt x="6646" y="2015"/>
                  <a:pt x="6584" y="2092"/>
                  <a:pt x="6548" y="2158"/>
                </a:cubicBezTo>
                <a:cubicBezTo>
                  <a:pt x="6497" y="2251"/>
                  <a:pt x="6478" y="2351"/>
                  <a:pt x="6474" y="2456"/>
                </a:cubicBezTo>
                <a:cubicBezTo>
                  <a:pt x="6471" y="2542"/>
                  <a:pt x="6491" y="2615"/>
                  <a:pt x="6548" y="2679"/>
                </a:cubicBezTo>
                <a:cubicBezTo>
                  <a:pt x="6588" y="2724"/>
                  <a:pt x="6632" y="2764"/>
                  <a:pt x="6697" y="2753"/>
                </a:cubicBezTo>
                <a:cubicBezTo>
                  <a:pt x="6762" y="2742"/>
                  <a:pt x="6834" y="2701"/>
                  <a:pt x="6896" y="2679"/>
                </a:cubicBezTo>
              </a:path>
              <a:path w="5160" h="1464">
                <a:moveTo>
                  <a:pt x="7392" y="1935"/>
                </a:moveTo>
                <a:cubicBezTo>
                  <a:pt x="7278" y="2013"/>
                  <a:pt x="7218" y="2064"/>
                  <a:pt x="7144" y="2183"/>
                </a:cubicBezTo>
                <a:cubicBezTo>
                  <a:pt x="7089" y="2272"/>
                  <a:pt x="7094" y="2356"/>
                  <a:pt x="7094" y="2456"/>
                </a:cubicBezTo>
                <a:cubicBezTo>
                  <a:pt x="7094" y="2542"/>
                  <a:pt x="7093" y="2606"/>
                  <a:pt x="7144" y="2679"/>
                </a:cubicBezTo>
                <a:cubicBezTo>
                  <a:pt x="7182" y="2734"/>
                  <a:pt x="7280" y="2764"/>
                  <a:pt x="7342" y="2753"/>
                </a:cubicBezTo>
                <a:cubicBezTo>
                  <a:pt x="7434" y="2736"/>
                  <a:pt x="7496" y="2694"/>
                  <a:pt x="7565" y="2629"/>
                </a:cubicBezTo>
                <a:cubicBezTo>
                  <a:pt x="7643" y="2555"/>
                  <a:pt x="7721" y="2416"/>
                  <a:pt x="7739" y="2307"/>
                </a:cubicBezTo>
                <a:cubicBezTo>
                  <a:pt x="7750" y="2241"/>
                  <a:pt x="7753" y="2142"/>
                  <a:pt x="7714" y="2084"/>
                </a:cubicBezTo>
                <a:cubicBezTo>
                  <a:pt x="7684" y="2039"/>
                  <a:pt x="7631" y="2016"/>
                  <a:pt x="7590" y="1984"/>
                </a:cubicBezTo>
              </a:path>
              <a:path w="5160" h="1464">
                <a:moveTo>
                  <a:pt x="8136" y="1935"/>
                </a:moveTo>
                <a:cubicBezTo>
                  <a:pt x="8053" y="1935"/>
                  <a:pt x="8033" y="1946"/>
                  <a:pt x="7962" y="1984"/>
                </a:cubicBezTo>
                <a:cubicBezTo>
                  <a:pt x="7925" y="2003"/>
                  <a:pt x="7857" y="2042"/>
                  <a:pt x="7838" y="2084"/>
                </a:cubicBezTo>
                <a:cubicBezTo>
                  <a:pt x="7826" y="2110"/>
                  <a:pt x="7851" y="2168"/>
                  <a:pt x="7863" y="2183"/>
                </a:cubicBezTo>
                <a:cubicBezTo>
                  <a:pt x="7906" y="2237"/>
                  <a:pt x="7981" y="2295"/>
                  <a:pt x="8037" y="2332"/>
                </a:cubicBezTo>
                <a:cubicBezTo>
                  <a:pt x="8108" y="2379"/>
                  <a:pt x="8182" y="2390"/>
                  <a:pt x="8235" y="2456"/>
                </a:cubicBezTo>
                <a:cubicBezTo>
                  <a:pt x="8258" y="2484"/>
                  <a:pt x="8335" y="2536"/>
                  <a:pt x="8310" y="2580"/>
                </a:cubicBezTo>
                <a:cubicBezTo>
                  <a:pt x="8263" y="2663"/>
                  <a:pt x="8197" y="2629"/>
                  <a:pt x="8136" y="2654"/>
                </a:cubicBezTo>
                <a:cubicBezTo>
                  <a:pt x="8103" y="2668"/>
                  <a:pt x="8041" y="2711"/>
                  <a:pt x="8012" y="2654"/>
                </a:cubicBezTo>
                <a:cubicBezTo>
                  <a:pt x="8012" y="2646"/>
                  <a:pt x="8012" y="2637"/>
                  <a:pt x="8012" y="2629"/>
                </a:cubicBezTo>
              </a:path>
              <a:path w="5160" h="1464">
                <a:moveTo>
                  <a:pt x="9054" y="2059"/>
                </a:moveTo>
                <a:cubicBezTo>
                  <a:pt x="8983" y="2129"/>
                  <a:pt x="8919" y="2185"/>
                  <a:pt x="8855" y="2257"/>
                </a:cubicBezTo>
                <a:cubicBezTo>
                  <a:pt x="8797" y="2322"/>
                  <a:pt x="8733" y="2369"/>
                  <a:pt x="8682" y="2431"/>
                </a:cubicBezTo>
                <a:cubicBezTo>
                  <a:pt x="8653" y="2466"/>
                  <a:pt x="8628" y="2499"/>
                  <a:pt x="8607" y="2530"/>
                </a:cubicBezTo>
                <a:cubicBezTo>
                  <a:pt x="8599" y="2538"/>
                  <a:pt x="8590" y="2547"/>
                  <a:pt x="8582" y="2555"/>
                </a:cubicBezTo>
                <a:cubicBezTo>
                  <a:pt x="8551" y="2544"/>
                  <a:pt x="8543" y="2520"/>
                  <a:pt x="8533" y="2480"/>
                </a:cubicBezTo>
              </a:path>
              <a:path w="5160" h="1464">
                <a:moveTo>
                  <a:pt x="8558" y="2133"/>
                </a:moveTo>
                <a:cubicBezTo>
                  <a:pt x="8558" y="2192"/>
                  <a:pt x="8580" y="2229"/>
                  <a:pt x="8607" y="2282"/>
                </a:cubicBezTo>
                <a:cubicBezTo>
                  <a:pt x="8653" y="2374"/>
                  <a:pt x="8675" y="2467"/>
                  <a:pt x="8731" y="2555"/>
                </a:cubicBezTo>
                <a:cubicBezTo>
                  <a:pt x="8771" y="2618"/>
                  <a:pt x="8825" y="2732"/>
                  <a:pt x="8905" y="2753"/>
                </a:cubicBezTo>
                <a:cubicBezTo>
                  <a:pt x="8921" y="2753"/>
                  <a:pt x="8938" y="2753"/>
                  <a:pt x="8954" y="2753"/>
                </a:cubicBezTo>
              </a:path>
              <a:path w="5160" h="1464">
                <a:moveTo>
                  <a:pt x="9401" y="2084"/>
                </a:moveTo>
                <a:cubicBezTo>
                  <a:pt x="9429" y="2158"/>
                  <a:pt x="9444" y="2253"/>
                  <a:pt x="9451" y="2332"/>
                </a:cubicBezTo>
                <a:cubicBezTo>
                  <a:pt x="9461" y="2438"/>
                  <a:pt x="9481" y="2526"/>
                  <a:pt x="9500" y="2629"/>
                </a:cubicBezTo>
                <a:cubicBezTo>
                  <a:pt x="9507" y="2667"/>
                  <a:pt x="9510" y="2700"/>
                  <a:pt x="9475" y="2704"/>
                </a:cubicBezTo>
                <a:cubicBezTo>
                  <a:pt x="9467" y="2704"/>
                  <a:pt x="9459" y="2704"/>
                  <a:pt x="9451" y="2704"/>
                </a:cubicBezTo>
              </a:path>
              <a:path w="5160" h="1464">
                <a:moveTo>
                  <a:pt x="9203" y="2480"/>
                </a:moveTo>
                <a:cubicBezTo>
                  <a:pt x="9255" y="2428"/>
                  <a:pt x="9276" y="2431"/>
                  <a:pt x="9351" y="2431"/>
                </a:cubicBezTo>
                <a:cubicBezTo>
                  <a:pt x="9434" y="2431"/>
                  <a:pt x="9520" y="2439"/>
                  <a:pt x="9599" y="2456"/>
                </a:cubicBezTo>
                <a:cubicBezTo>
                  <a:pt x="9665" y="2477"/>
                  <a:pt x="9680" y="2485"/>
                  <a:pt x="9723" y="24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24200" y="652320"/>
            <a:ext cx="2813040" cy="366840"/>
          </a:xfrm>
          <a:custGeom>
            <a:avLst/>
            <a:gdLst/>
            <a:ahLst/>
            <a:rect l="l" t="t" r="r" b="b"/>
            <a:pathLst>
              <a:path w="7814" h="1018">
                <a:moveTo>
                  <a:pt x="10815" y="1860"/>
                </a:moveTo>
                <a:cubicBezTo>
                  <a:pt x="10758" y="1868"/>
                  <a:pt x="10694" y="1877"/>
                  <a:pt x="10641" y="1910"/>
                </a:cubicBezTo>
                <a:cubicBezTo>
                  <a:pt x="10589" y="1942"/>
                  <a:pt x="10525" y="1945"/>
                  <a:pt x="10468" y="1984"/>
                </a:cubicBezTo>
                <a:cubicBezTo>
                  <a:pt x="10420" y="2017"/>
                  <a:pt x="10394" y="2069"/>
                  <a:pt x="10368" y="2108"/>
                </a:cubicBezTo>
                <a:cubicBezTo>
                  <a:pt x="10340" y="2150"/>
                  <a:pt x="10330" y="2166"/>
                  <a:pt x="10368" y="2208"/>
                </a:cubicBezTo>
                <a:cubicBezTo>
                  <a:pt x="10408" y="2253"/>
                  <a:pt x="10469" y="2300"/>
                  <a:pt x="10517" y="2332"/>
                </a:cubicBezTo>
                <a:cubicBezTo>
                  <a:pt x="10594" y="2383"/>
                  <a:pt x="10649" y="2448"/>
                  <a:pt x="10691" y="2530"/>
                </a:cubicBezTo>
                <a:cubicBezTo>
                  <a:pt x="10706" y="2559"/>
                  <a:pt x="10738" y="2665"/>
                  <a:pt x="10716" y="2704"/>
                </a:cubicBezTo>
                <a:cubicBezTo>
                  <a:pt x="10694" y="2744"/>
                  <a:pt x="10630" y="2729"/>
                  <a:pt x="10592" y="2729"/>
                </a:cubicBezTo>
                <a:cubicBezTo>
                  <a:pt x="10542" y="2729"/>
                  <a:pt x="10428" y="2755"/>
                  <a:pt x="10393" y="2704"/>
                </a:cubicBezTo>
                <a:cubicBezTo>
                  <a:pt x="10385" y="2687"/>
                  <a:pt x="10376" y="2671"/>
                  <a:pt x="10368" y="2654"/>
                </a:cubicBezTo>
              </a:path>
              <a:path w="7814" h="1018">
                <a:moveTo>
                  <a:pt x="10964" y="2654"/>
                </a:moveTo>
                <a:cubicBezTo>
                  <a:pt x="10964" y="2588"/>
                  <a:pt x="10964" y="2522"/>
                  <a:pt x="10964" y="2456"/>
                </a:cubicBezTo>
              </a:path>
              <a:path w="7814" h="1018">
                <a:moveTo>
                  <a:pt x="10964" y="1960"/>
                </a:moveTo>
                <a:cubicBezTo>
                  <a:pt x="10964" y="1952"/>
                  <a:pt x="10964" y="1943"/>
                  <a:pt x="10964" y="1935"/>
                </a:cubicBezTo>
              </a:path>
              <a:path w="7814" h="1018">
                <a:moveTo>
                  <a:pt x="11187" y="2208"/>
                </a:moveTo>
                <a:cubicBezTo>
                  <a:pt x="11187" y="2261"/>
                  <a:pt x="11209" y="2277"/>
                  <a:pt x="11212" y="2332"/>
                </a:cubicBezTo>
                <a:cubicBezTo>
                  <a:pt x="11216" y="2403"/>
                  <a:pt x="11234" y="2461"/>
                  <a:pt x="11237" y="2530"/>
                </a:cubicBezTo>
                <a:cubicBezTo>
                  <a:pt x="11241" y="2621"/>
                  <a:pt x="11237" y="2712"/>
                  <a:pt x="11237" y="2803"/>
                </a:cubicBezTo>
                <a:cubicBezTo>
                  <a:pt x="11237" y="2844"/>
                  <a:pt x="11237" y="2770"/>
                  <a:pt x="11237" y="2729"/>
                </a:cubicBezTo>
                <a:cubicBezTo>
                  <a:pt x="11237" y="2647"/>
                  <a:pt x="11260" y="2534"/>
                  <a:pt x="11286" y="2456"/>
                </a:cubicBezTo>
                <a:cubicBezTo>
                  <a:pt x="11315" y="2369"/>
                  <a:pt x="11346" y="2370"/>
                  <a:pt x="11410" y="2332"/>
                </a:cubicBezTo>
                <a:cubicBezTo>
                  <a:pt x="11455" y="2305"/>
                  <a:pt x="11464" y="2293"/>
                  <a:pt x="11509" y="2332"/>
                </a:cubicBezTo>
                <a:cubicBezTo>
                  <a:pt x="11547" y="2365"/>
                  <a:pt x="11600" y="2455"/>
                  <a:pt x="11609" y="2505"/>
                </a:cubicBezTo>
                <a:cubicBezTo>
                  <a:pt x="11622" y="2577"/>
                  <a:pt x="11633" y="2655"/>
                  <a:pt x="11633" y="2729"/>
                </a:cubicBezTo>
              </a:path>
              <a:path w="7814" h="1018">
                <a:moveTo>
                  <a:pt x="12154" y="2307"/>
                </a:moveTo>
                <a:cubicBezTo>
                  <a:pt x="12090" y="2400"/>
                  <a:pt x="12022" y="2490"/>
                  <a:pt x="11956" y="2580"/>
                </a:cubicBezTo>
                <a:cubicBezTo>
                  <a:pt x="11923" y="2625"/>
                  <a:pt x="11863" y="2704"/>
                  <a:pt x="11807" y="2729"/>
                </a:cubicBezTo>
                <a:cubicBezTo>
                  <a:pt x="11799" y="2729"/>
                  <a:pt x="11790" y="2729"/>
                  <a:pt x="11782" y="2729"/>
                </a:cubicBezTo>
              </a:path>
              <a:path w="7814" h="1018">
                <a:moveTo>
                  <a:pt x="11807" y="2332"/>
                </a:moveTo>
                <a:cubicBezTo>
                  <a:pt x="11861" y="2385"/>
                  <a:pt x="11839" y="2422"/>
                  <a:pt x="11881" y="2480"/>
                </a:cubicBezTo>
                <a:cubicBezTo>
                  <a:pt x="11953" y="2580"/>
                  <a:pt x="11996" y="2669"/>
                  <a:pt x="12055" y="2778"/>
                </a:cubicBezTo>
              </a:path>
              <a:path w="7814" h="1018">
                <a:moveTo>
                  <a:pt x="12353" y="1811"/>
                </a:moveTo>
                <a:cubicBezTo>
                  <a:pt x="12359" y="1985"/>
                  <a:pt x="12359" y="2163"/>
                  <a:pt x="12402" y="2332"/>
                </a:cubicBezTo>
                <a:cubicBezTo>
                  <a:pt x="12430" y="2442"/>
                  <a:pt x="12446" y="2566"/>
                  <a:pt x="12452" y="2679"/>
                </a:cubicBezTo>
                <a:cubicBezTo>
                  <a:pt x="12455" y="2734"/>
                  <a:pt x="12474" y="2784"/>
                  <a:pt x="12427" y="2753"/>
                </a:cubicBezTo>
              </a:path>
              <a:path w="7814" h="1018">
                <a:moveTo>
                  <a:pt x="12179" y="2406"/>
                </a:moveTo>
                <a:cubicBezTo>
                  <a:pt x="12227" y="2358"/>
                  <a:pt x="12234" y="2356"/>
                  <a:pt x="12303" y="2356"/>
                </a:cubicBezTo>
                <a:cubicBezTo>
                  <a:pt x="12420" y="2356"/>
                  <a:pt x="12537" y="2345"/>
                  <a:pt x="12650" y="2381"/>
                </a:cubicBezTo>
                <a:cubicBezTo>
                  <a:pt x="12667" y="2389"/>
                  <a:pt x="12683" y="2398"/>
                  <a:pt x="12700" y="2406"/>
                </a:cubicBezTo>
              </a:path>
              <a:path w="7814" h="1018">
                <a:moveTo>
                  <a:pt x="12923" y="2257"/>
                </a:moveTo>
                <a:cubicBezTo>
                  <a:pt x="12847" y="2318"/>
                  <a:pt x="12790" y="2375"/>
                  <a:pt x="12774" y="2480"/>
                </a:cubicBezTo>
                <a:cubicBezTo>
                  <a:pt x="12764" y="2546"/>
                  <a:pt x="12762" y="2654"/>
                  <a:pt x="12799" y="2704"/>
                </a:cubicBezTo>
                <a:cubicBezTo>
                  <a:pt x="12822" y="2735"/>
                  <a:pt x="12856" y="2767"/>
                  <a:pt x="12898" y="2753"/>
                </a:cubicBezTo>
                <a:cubicBezTo>
                  <a:pt x="12975" y="2727"/>
                  <a:pt x="12988" y="2671"/>
                  <a:pt x="13022" y="2604"/>
                </a:cubicBezTo>
                <a:cubicBezTo>
                  <a:pt x="13052" y="2544"/>
                  <a:pt x="13047" y="2497"/>
                  <a:pt x="13047" y="2431"/>
                </a:cubicBezTo>
              </a:path>
              <a:path w="7814" h="1018">
                <a:moveTo>
                  <a:pt x="13047" y="2381"/>
                </a:moveTo>
                <a:cubicBezTo>
                  <a:pt x="13084" y="2443"/>
                  <a:pt x="13070" y="2489"/>
                  <a:pt x="13097" y="2555"/>
                </a:cubicBezTo>
                <a:cubicBezTo>
                  <a:pt x="13115" y="2601"/>
                  <a:pt x="13177" y="2636"/>
                  <a:pt x="13196" y="2679"/>
                </a:cubicBezTo>
                <a:cubicBezTo>
                  <a:pt x="13196" y="2687"/>
                  <a:pt x="13196" y="2696"/>
                  <a:pt x="13196" y="2704"/>
                </a:cubicBezTo>
              </a:path>
              <a:path w="7814" h="1018">
                <a:moveTo>
                  <a:pt x="13345" y="2332"/>
                </a:moveTo>
                <a:cubicBezTo>
                  <a:pt x="13345" y="2404"/>
                  <a:pt x="13348" y="2487"/>
                  <a:pt x="13370" y="2555"/>
                </a:cubicBezTo>
                <a:cubicBezTo>
                  <a:pt x="13391" y="2620"/>
                  <a:pt x="13395" y="2660"/>
                  <a:pt x="13395" y="2729"/>
                </a:cubicBezTo>
                <a:cubicBezTo>
                  <a:pt x="13395" y="2754"/>
                  <a:pt x="13395" y="2778"/>
                  <a:pt x="13395" y="2803"/>
                </a:cubicBezTo>
                <a:cubicBezTo>
                  <a:pt x="13409" y="2732"/>
                  <a:pt x="13419" y="2681"/>
                  <a:pt x="13419" y="2604"/>
                </a:cubicBezTo>
                <a:cubicBezTo>
                  <a:pt x="13419" y="2528"/>
                  <a:pt x="13404" y="2440"/>
                  <a:pt x="13444" y="2381"/>
                </a:cubicBezTo>
                <a:cubicBezTo>
                  <a:pt x="13477" y="2331"/>
                  <a:pt x="13514" y="2312"/>
                  <a:pt x="13568" y="2307"/>
                </a:cubicBezTo>
                <a:cubicBezTo>
                  <a:pt x="13625" y="2302"/>
                  <a:pt x="13647" y="2329"/>
                  <a:pt x="13692" y="2356"/>
                </a:cubicBezTo>
                <a:cubicBezTo>
                  <a:pt x="13772" y="2404"/>
                  <a:pt x="13800" y="2448"/>
                  <a:pt x="13841" y="2530"/>
                </a:cubicBezTo>
                <a:cubicBezTo>
                  <a:pt x="13868" y="2584"/>
                  <a:pt x="13900" y="2627"/>
                  <a:pt x="13915" y="2679"/>
                </a:cubicBezTo>
                <a:cubicBezTo>
                  <a:pt x="13915" y="2704"/>
                  <a:pt x="13915" y="2712"/>
                  <a:pt x="13940" y="2704"/>
                </a:cubicBezTo>
              </a:path>
              <a:path w="7814" h="1018">
                <a:moveTo>
                  <a:pt x="14536" y="2232"/>
                </a:moveTo>
                <a:cubicBezTo>
                  <a:pt x="14474" y="2269"/>
                  <a:pt x="14399" y="2380"/>
                  <a:pt x="14362" y="2456"/>
                </a:cubicBezTo>
                <a:cubicBezTo>
                  <a:pt x="14306" y="2571"/>
                  <a:pt x="14276" y="2682"/>
                  <a:pt x="14188" y="2778"/>
                </a:cubicBezTo>
                <a:cubicBezTo>
                  <a:pt x="14165" y="2801"/>
                  <a:pt x="14157" y="2805"/>
                  <a:pt x="14163" y="2828"/>
                </a:cubicBezTo>
                <a:cubicBezTo>
                  <a:pt x="14120" y="2813"/>
                  <a:pt x="14123" y="2807"/>
                  <a:pt x="14114" y="2753"/>
                </a:cubicBezTo>
              </a:path>
              <a:path w="7814" h="1018">
                <a:moveTo>
                  <a:pt x="14139" y="2282"/>
                </a:moveTo>
                <a:cubicBezTo>
                  <a:pt x="14160" y="2289"/>
                  <a:pt x="14193" y="2325"/>
                  <a:pt x="14213" y="2356"/>
                </a:cubicBezTo>
                <a:cubicBezTo>
                  <a:pt x="14271" y="2445"/>
                  <a:pt x="14332" y="2487"/>
                  <a:pt x="14412" y="2555"/>
                </a:cubicBezTo>
                <a:cubicBezTo>
                  <a:pt x="14494" y="2625"/>
                  <a:pt x="14544" y="2715"/>
                  <a:pt x="14635" y="2778"/>
                </a:cubicBezTo>
                <a:cubicBezTo>
                  <a:pt x="14651" y="2786"/>
                  <a:pt x="14668" y="2795"/>
                  <a:pt x="14684" y="2803"/>
                </a:cubicBezTo>
              </a:path>
              <a:path w="7814" h="1018">
                <a:moveTo>
                  <a:pt x="15106" y="2332"/>
                </a:moveTo>
                <a:cubicBezTo>
                  <a:pt x="15154" y="2303"/>
                  <a:pt x="15197" y="2287"/>
                  <a:pt x="15255" y="2282"/>
                </a:cubicBezTo>
                <a:cubicBezTo>
                  <a:pt x="15334" y="2275"/>
                  <a:pt x="15489" y="2268"/>
                  <a:pt x="15528" y="2307"/>
                </a:cubicBezTo>
              </a:path>
              <a:path w="7814" h="1018">
                <a:moveTo>
                  <a:pt x="15081" y="2629"/>
                </a:moveTo>
                <a:cubicBezTo>
                  <a:pt x="15100" y="2685"/>
                  <a:pt x="15130" y="2638"/>
                  <a:pt x="15180" y="2629"/>
                </a:cubicBezTo>
                <a:cubicBezTo>
                  <a:pt x="15304" y="2607"/>
                  <a:pt x="15431" y="2631"/>
                  <a:pt x="15553" y="2604"/>
                </a:cubicBezTo>
                <a:cubicBezTo>
                  <a:pt x="15561" y="2604"/>
                  <a:pt x="15569" y="2604"/>
                  <a:pt x="15577" y="2604"/>
                </a:cubicBezTo>
              </a:path>
              <a:path w="7814" h="1018">
                <a:moveTo>
                  <a:pt x="16222" y="2208"/>
                </a:moveTo>
                <a:cubicBezTo>
                  <a:pt x="16180" y="2176"/>
                  <a:pt x="16165" y="2172"/>
                  <a:pt x="16123" y="2208"/>
                </a:cubicBezTo>
                <a:cubicBezTo>
                  <a:pt x="16080" y="2245"/>
                  <a:pt x="16058" y="2289"/>
                  <a:pt x="16024" y="2332"/>
                </a:cubicBezTo>
                <a:cubicBezTo>
                  <a:pt x="16040" y="2379"/>
                  <a:pt x="16073" y="2363"/>
                  <a:pt x="16123" y="2381"/>
                </a:cubicBezTo>
                <a:cubicBezTo>
                  <a:pt x="16194" y="2406"/>
                  <a:pt x="16246" y="2478"/>
                  <a:pt x="16297" y="2530"/>
                </a:cubicBezTo>
                <a:cubicBezTo>
                  <a:pt x="16347" y="2581"/>
                  <a:pt x="16314" y="2626"/>
                  <a:pt x="16272" y="2679"/>
                </a:cubicBezTo>
                <a:cubicBezTo>
                  <a:pt x="16244" y="2714"/>
                  <a:pt x="16166" y="2791"/>
                  <a:pt x="16123" y="2803"/>
                </a:cubicBezTo>
                <a:cubicBezTo>
                  <a:pt x="16082" y="2814"/>
                  <a:pt x="16017" y="2803"/>
                  <a:pt x="15974" y="2803"/>
                </a:cubicBezTo>
              </a:path>
              <a:path w="7814" h="1018">
                <a:moveTo>
                  <a:pt x="16619" y="2257"/>
                </a:moveTo>
                <a:cubicBezTo>
                  <a:pt x="16530" y="2353"/>
                  <a:pt x="16475" y="2416"/>
                  <a:pt x="16421" y="2530"/>
                </a:cubicBezTo>
                <a:cubicBezTo>
                  <a:pt x="16393" y="2589"/>
                  <a:pt x="16385" y="2614"/>
                  <a:pt x="16446" y="2654"/>
                </a:cubicBezTo>
                <a:cubicBezTo>
                  <a:pt x="16501" y="2690"/>
                  <a:pt x="16556" y="2679"/>
                  <a:pt x="16619" y="2679"/>
                </a:cubicBezTo>
                <a:cubicBezTo>
                  <a:pt x="16636" y="2679"/>
                  <a:pt x="16652" y="2679"/>
                  <a:pt x="16669" y="2679"/>
                </a:cubicBezTo>
              </a:path>
              <a:path w="7814" h="1018">
                <a:moveTo>
                  <a:pt x="16669" y="2505"/>
                </a:moveTo>
                <a:cubicBezTo>
                  <a:pt x="16705" y="2477"/>
                  <a:pt x="16718" y="2475"/>
                  <a:pt x="16743" y="2456"/>
                </a:cubicBezTo>
                <a:cubicBezTo>
                  <a:pt x="16780" y="2429"/>
                  <a:pt x="16793" y="2425"/>
                  <a:pt x="16818" y="2406"/>
                </a:cubicBezTo>
                <a:cubicBezTo>
                  <a:pt x="16842" y="2387"/>
                  <a:pt x="16865" y="2350"/>
                  <a:pt x="16867" y="2332"/>
                </a:cubicBezTo>
                <a:cubicBezTo>
                  <a:pt x="16874" y="2275"/>
                  <a:pt x="16847" y="2298"/>
                  <a:pt x="16842" y="2257"/>
                </a:cubicBezTo>
                <a:cubicBezTo>
                  <a:pt x="16838" y="2222"/>
                  <a:pt x="16802" y="2232"/>
                  <a:pt x="16768" y="2208"/>
                </a:cubicBezTo>
                <a:cubicBezTo>
                  <a:pt x="16754" y="2248"/>
                  <a:pt x="16716" y="2225"/>
                  <a:pt x="16669" y="2257"/>
                </a:cubicBezTo>
                <a:cubicBezTo>
                  <a:pt x="16639" y="2277"/>
                  <a:pt x="16613" y="2349"/>
                  <a:pt x="16594" y="2381"/>
                </a:cubicBezTo>
                <a:cubicBezTo>
                  <a:pt x="16566" y="2428"/>
                  <a:pt x="16550" y="2465"/>
                  <a:pt x="16520" y="2505"/>
                </a:cubicBezTo>
                <a:cubicBezTo>
                  <a:pt x="16533" y="2543"/>
                  <a:pt x="16542" y="2534"/>
                  <a:pt x="16570" y="2555"/>
                </a:cubicBezTo>
                <a:cubicBezTo>
                  <a:pt x="16578" y="2563"/>
                  <a:pt x="16586" y="2572"/>
                  <a:pt x="16594" y="2580"/>
                </a:cubicBezTo>
              </a:path>
              <a:path w="7814" h="1018">
                <a:moveTo>
                  <a:pt x="17190" y="2183"/>
                </a:moveTo>
                <a:cubicBezTo>
                  <a:pt x="17087" y="2307"/>
                  <a:pt x="17049" y="2364"/>
                  <a:pt x="16991" y="2505"/>
                </a:cubicBezTo>
                <a:cubicBezTo>
                  <a:pt x="16971" y="2546"/>
                  <a:pt x="16962" y="2552"/>
                  <a:pt x="16966" y="2580"/>
                </a:cubicBezTo>
                <a:cubicBezTo>
                  <a:pt x="16996" y="2602"/>
                  <a:pt x="17028" y="2626"/>
                  <a:pt x="17066" y="2629"/>
                </a:cubicBezTo>
                <a:cubicBezTo>
                  <a:pt x="17115" y="2633"/>
                  <a:pt x="17165" y="2629"/>
                  <a:pt x="17214" y="2629"/>
                </a:cubicBezTo>
              </a:path>
              <a:path w="7814" h="1018">
                <a:moveTo>
                  <a:pt x="18008" y="2257"/>
                </a:moveTo>
                <a:cubicBezTo>
                  <a:pt x="17936" y="2330"/>
                  <a:pt x="17876" y="2382"/>
                  <a:pt x="17835" y="2480"/>
                </a:cubicBezTo>
                <a:cubicBezTo>
                  <a:pt x="17824" y="2507"/>
                  <a:pt x="17817" y="2564"/>
                  <a:pt x="17785" y="2580"/>
                </a:cubicBezTo>
                <a:cubicBezTo>
                  <a:pt x="17777" y="2580"/>
                  <a:pt x="17768" y="2580"/>
                  <a:pt x="17760" y="2580"/>
                </a:cubicBezTo>
              </a:path>
              <a:path w="7814" h="1018">
                <a:moveTo>
                  <a:pt x="17636" y="2232"/>
                </a:moveTo>
                <a:cubicBezTo>
                  <a:pt x="17650" y="2274"/>
                  <a:pt x="17729" y="2301"/>
                  <a:pt x="17760" y="2356"/>
                </a:cubicBezTo>
                <a:cubicBezTo>
                  <a:pt x="17815" y="2453"/>
                  <a:pt x="17860" y="2541"/>
                  <a:pt x="17934" y="2629"/>
                </a:cubicBezTo>
                <a:cubicBezTo>
                  <a:pt x="17994" y="2699"/>
                  <a:pt x="18080" y="2755"/>
                  <a:pt x="18157" y="28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68760" y="1535040"/>
            <a:ext cx="1036440" cy="287280"/>
          </a:xfrm>
          <a:custGeom>
            <a:avLst/>
            <a:gdLst/>
            <a:ahLst/>
            <a:rect l="l" t="t" r="r" b="b"/>
            <a:pathLst>
              <a:path w="2879" h="795">
                <a:moveTo>
                  <a:pt x="7838" y="4266"/>
                </a:moveTo>
                <a:cubicBezTo>
                  <a:pt x="7807" y="4276"/>
                  <a:pt x="7782" y="4322"/>
                  <a:pt x="7764" y="4366"/>
                </a:cubicBezTo>
                <a:cubicBezTo>
                  <a:pt x="7708" y="4502"/>
                  <a:pt x="7694" y="4641"/>
                  <a:pt x="7689" y="4787"/>
                </a:cubicBezTo>
                <a:cubicBezTo>
                  <a:pt x="7687" y="4861"/>
                  <a:pt x="7698" y="4924"/>
                  <a:pt x="7714" y="4961"/>
                </a:cubicBezTo>
                <a:cubicBezTo>
                  <a:pt x="7728" y="4995"/>
                  <a:pt x="7719" y="4986"/>
                  <a:pt x="7764" y="4986"/>
                </a:cubicBezTo>
              </a:path>
              <a:path w="2879" h="795">
                <a:moveTo>
                  <a:pt x="7863" y="4316"/>
                </a:moveTo>
                <a:cubicBezTo>
                  <a:pt x="7841" y="4333"/>
                  <a:pt x="7794" y="4356"/>
                  <a:pt x="7789" y="4366"/>
                </a:cubicBezTo>
                <a:cubicBezTo>
                  <a:pt x="7778" y="4387"/>
                  <a:pt x="7767" y="4442"/>
                  <a:pt x="7764" y="4465"/>
                </a:cubicBezTo>
                <a:cubicBezTo>
                  <a:pt x="7758" y="4515"/>
                  <a:pt x="7749" y="4617"/>
                  <a:pt x="7739" y="4663"/>
                </a:cubicBezTo>
                <a:cubicBezTo>
                  <a:pt x="7725" y="4728"/>
                  <a:pt x="7714" y="4765"/>
                  <a:pt x="7714" y="4837"/>
                </a:cubicBezTo>
                <a:cubicBezTo>
                  <a:pt x="7714" y="4896"/>
                  <a:pt x="7733" y="4931"/>
                  <a:pt x="7739" y="4986"/>
                </a:cubicBezTo>
                <a:cubicBezTo>
                  <a:pt x="7743" y="5027"/>
                  <a:pt x="7772" y="5055"/>
                  <a:pt x="7813" y="5060"/>
                </a:cubicBezTo>
                <a:cubicBezTo>
                  <a:pt x="7866" y="5066"/>
                  <a:pt x="7919" y="5041"/>
                  <a:pt x="7962" y="5011"/>
                </a:cubicBezTo>
                <a:cubicBezTo>
                  <a:pt x="7996" y="4987"/>
                  <a:pt x="8029" y="4962"/>
                  <a:pt x="8062" y="4936"/>
                </a:cubicBezTo>
              </a:path>
              <a:path w="2879" h="795">
                <a:moveTo>
                  <a:pt x="8310" y="4465"/>
                </a:moveTo>
                <a:cubicBezTo>
                  <a:pt x="8286" y="4586"/>
                  <a:pt x="8276" y="4672"/>
                  <a:pt x="8285" y="4787"/>
                </a:cubicBezTo>
                <a:cubicBezTo>
                  <a:pt x="8291" y="4865"/>
                  <a:pt x="8301" y="4944"/>
                  <a:pt x="8384" y="4986"/>
                </a:cubicBezTo>
                <a:cubicBezTo>
                  <a:pt x="8424" y="5006"/>
                  <a:pt x="8507" y="4966"/>
                  <a:pt x="8533" y="4936"/>
                </a:cubicBezTo>
                <a:cubicBezTo>
                  <a:pt x="8575" y="4888"/>
                  <a:pt x="8620" y="4773"/>
                  <a:pt x="8632" y="4713"/>
                </a:cubicBezTo>
                <a:cubicBezTo>
                  <a:pt x="8650" y="4618"/>
                  <a:pt x="8621" y="4527"/>
                  <a:pt x="8607" y="4440"/>
                </a:cubicBezTo>
                <a:cubicBezTo>
                  <a:pt x="8597" y="4378"/>
                  <a:pt x="8601" y="4385"/>
                  <a:pt x="8558" y="4341"/>
                </a:cubicBezTo>
                <a:cubicBezTo>
                  <a:pt x="8516" y="4382"/>
                  <a:pt x="8475" y="4423"/>
                  <a:pt x="8434" y="4465"/>
                </a:cubicBezTo>
              </a:path>
              <a:path w="2879" h="795">
                <a:moveTo>
                  <a:pt x="9004" y="4366"/>
                </a:moveTo>
                <a:cubicBezTo>
                  <a:pt x="8965" y="4410"/>
                  <a:pt x="8922" y="4462"/>
                  <a:pt x="8905" y="4514"/>
                </a:cubicBezTo>
                <a:cubicBezTo>
                  <a:pt x="8888" y="4565"/>
                  <a:pt x="8921" y="4575"/>
                  <a:pt x="8954" y="4589"/>
                </a:cubicBezTo>
                <a:cubicBezTo>
                  <a:pt x="9006" y="4611"/>
                  <a:pt x="9115" y="4647"/>
                  <a:pt x="9153" y="4688"/>
                </a:cubicBezTo>
                <a:cubicBezTo>
                  <a:pt x="9211" y="4751"/>
                  <a:pt x="9211" y="4791"/>
                  <a:pt x="9203" y="4862"/>
                </a:cubicBezTo>
                <a:cubicBezTo>
                  <a:pt x="9195" y="4933"/>
                  <a:pt x="9166" y="4948"/>
                  <a:pt x="9103" y="4986"/>
                </a:cubicBezTo>
                <a:cubicBezTo>
                  <a:pt x="9055" y="5015"/>
                  <a:pt x="9010" y="5054"/>
                  <a:pt x="8954" y="5060"/>
                </a:cubicBezTo>
                <a:cubicBezTo>
                  <a:pt x="8908" y="5065"/>
                  <a:pt x="8890" y="5061"/>
                  <a:pt x="8855" y="5035"/>
                </a:cubicBezTo>
              </a:path>
              <a:path w="2879" h="795">
                <a:moveTo>
                  <a:pt x="9699" y="4490"/>
                </a:moveTo>
                <a:cubicBezTo>
                  <a:pt x="9648" y="4582"/>
                  <a:pt x="9603" y="4675"/>
                  <a:pt x="9550" y="4762"/>
                </a:cubicBezTo>
                <a:cubicBezTo>
                  <a:pt x="9528" y="4798"/>
                  <a:pt x="9494" y="4868"/>
                  <a:pt x="9451" y="4887"/>
                </a:cubicBezTo>
                <a:cubicBezTo>
                  <a:pt x="9426" y="4887"/>
                  <a:pt x="9418" y="4887"/>
                  <a:pt x="9426" y="4862"/>
                </a:cubicBezTo>
              </a:path>
              <a:path w="2879" h="795">
                <a:moveTo>
                  <a:pt x="9401" y="4514"/>
                </a:moveTo>
                <a:cubicBezTo>
                  <a:pt x="9449" y="4562"/>
                  <a:pt x="9478" y="4614"/>
                  <a:pt x="9525" y="4663"/>
                </a:cubicBezTo>
                <a:cubicBezTo>
                  <a:pt x="9586" y="4727"/>
                  <a:pt x="9625" y="4808"/>
                  <a:pt x="9699" y="4862"/>
                </a:cubicBezTo>
                <a:cubicBezTo>
                  <a:pt x="9739" y="4891"/>
                  <a:pt x="9784" y="4905"/>
                  <a:pt x="9823" y="4936"/>
                </a:cubicBezTo>
              </a:path>
              <a:path w="2879" h="795">
                <a:moveTo>
                  <a:pt x="10220" y="4490"/>
                </a:moveTo>
                <a:cubicBezTo>
                  <a:pt x="10212" y="4498"/>
                  <a:pt x="10203" y="4506"/>
                  <a:pt x="10195" y="4514"/>
                </a:cubicBezTo>
                <a:cubicBezTo>
                  <a:pt x="10225" y="4584"/>
                  <a:pt x="10210" y="4662"/>
                  <a:pt x="10244" y="4738"/>
                </a:cubicBezTo>
                <a:cubicBezTo>
                  <a:pt x="10264" y="4784"/>
                  <a:pt x="10250" y="4849"/>
                  <a:pt x="10269" y="4887"/>
                </a:cubicBezTo>
                <a:cubicBezTo>
                  <a:pt x="10288" y="4925"/>
                  <a:pt x="10319" y="4944"/>
                  <a:pt x="10269" y="4961"/>
                </a:cubicBezTo>
              </a:path>
              <a:path w="2879" h="795">
                <a:moveTo>
                  <a:pt x="10071" y="4688"/>
                </a:moveTo>
                <a:cubicBezTo>
                  <a:pt x="10236" y="4688"/>
                  <a:pt x="10402" y="4688"/>
                  <a:pt x="10567" y="46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8960" y="1401840"/>
            <a:ext cx="1357200" cy="509400"/>
          </a:xfrm>
          <a:custGeom>
            <a:avLst/>
            <a:gdLst/>
            <a:ahLst/>
            <a:rect l="l" t="t" r="r" b="b"/>
            <a:pathLst>
              <a:path w="3772" h="1415">
                <a:moveTo>
                  <a:pt x="11460" y="4068"/>
                </a:moveTo>
                <a:cubicBezTo>
                  <a:pt x="11392" y="4113"/>
                  <a:pt x="11405" y="4107"/>
                  <a:pt x="11410" y="4118"/>
                </a:cubicBezTo>
                <a:cubicBezTo>
                  <a:pt x="11426" y="4157"/>
                  <a:pt x="11493" y="4176"/>
                  <a:pt x="11534" y="4217"/>
                </a:cubicBezTo>
                <a:cubicBezTo>
                  <a:pt x="11554" y="4237"/>
                  <a:pt x="11576" y="4285"/>
                  <a:pt x="11559" y="4316"/>
                </a:cubicBezTo>
                <a:cubicBezTo>
                  <a:pt x="11536" y="4357"/>
                  <a:pt x="11475" y="4405"/>
                  <a:pt x="11435" y="4415"/>
                </a:cubicBezTo>
              </a:path>
              <a:path w="3772" h="1415">
                <a:moveTo>
                  <a:pt x="11757" y="4366"/>
                </a:moveTo>
                <a:cubicBezTo>
                  <a:pt x="11757" y="4297"/>
                  <a:pt x="11759" y="4256"/>
                  <a:pt x="11733" y="4192"/>
                </a:cubicBezTo>
              </a:path>
              <a:path w="3772" h="1415">
                <a:moveTo>
                  <a:pt x="11683" y="3969"/>
                </a:moveTo>
                <a:cubicBezTo>
                  <a:pt x="11675" y="3969"/>
                  <a:pt x="11666" y="3969"/>
                  <a:pt x="11658" y="3969"/>
                </a:cubicBezTo>
              </a:path>
              <a:path w="3772" h="1415">
                <a:moveTo>
                  <a:pt x="11931" y="4118"/>
                </a:moveTo>
                <a:cubicBezTo>
                  <a:pt x="11931" y="4161"/>
                  <a:pt x="11942" y="4204"/>
                  <a:pt x="11956" y="4242"/>
                </a:cubicBezTo>
                <a:cubicBezTo>
                  <a:pt x="11974" y="4292"/>
                  <a:pt x="12000" y="4336"/>
                  <a:pt x="12005" y="4390"/>
                </a:cubicBezTo>
                <a:cubicBezTo>
                  <a:pt x="12005" y="4418"/>
                  <a:pt x="12007" y="4429"/>
                  <a:pt x="12030" y="4440"/>
                </a:cubicBezTo>
                <a:cubicBezTo>
                  <a:pt x="11998" y="4398"/>
                  <a:pt x="12005" y="4372"/>
                  <a:pt x="12005" y="4316"/>
                </a:cubicBezTo>
                <a:cubicBezTo>
                  <a:pt x="12005" y="4253"/>
                  <a:pt x="11990" y="4190"/>
                  <a:pt x="12030" y="4142"/>
                </a:cubicBezTo>
                <a:cubicBezTo>
                  <a:pt x="12059" y="4106"/>
                  <a:pt x="12103" y="4071"/>
                  <a:pt x="12154" y="4093"/>
                </a:cubicBezTo>
                <a:cubicBezTo>
                  <a:pt x="12202" y="4113"/>
                  <a:pt x="12272" y="4174"/>
                  <a:pt x="12303" y="4217"/>
                </a:cubicBezTo>
                <a:cubicBezTo>
                  <a:pt x="12325" y="4248"/>
                  <a:pt x="12372" y="4329"/>
                  <a:pt x="12378" y="4341"/>
                </a:cubicBezTo>
                <a:cubicBezTo>
                  <a:pt x="12378" y="4366"/>
                  <a:pt x="12378" y="4374"/>
                  <a:pt x="12378" y="4390"/>
                </a:cubicBezTo>
              </a:path>
              <a:path w="3772" h="1415">
                <a:moveTo>
                  <a:pt x="12675" y="4118"/>
                </a:moveTo>
                <a:cubicBezTo>
                  <a:pt x="12656" y="4194"/>
                  <a:pt x="12644" y="4267"/>
                  <a:pt x="12626" y="4341"/>
                </a:cubicBezTo>
                <a:cubicBezTo>
                  <a:pt x="12616" y="4383"/>
                  <a:pt x="12615" y="4351"/>
                  <a:pt x="12601" y="4390"/>
                </a:cubicBezTo>
              </a:path>
              <a:path w="3772" h="1415">
                <a:moveTo>
                  <a:pt x="12427" y="4093"/>
                </a:moveTo>
                <a:cubicBezTo>
                  <a:pt x="12444" y="4160"/>
                  <a:pt x="12499" y="4151"/>
                  <a:pt x="12551" y="4192"/>
                </a:cubicBezTo>
                <a:cubicBezTo>
                  <a:pt x="12625" y="4250"/>
                  <a:pt x="12677" y="4245"/>
                  <a:pt x="12750" y="4291"/>
                </a:cubicBezTo>
                <a:cubicBezTo>
                  <a:pt x="12789" y="4316"/>
                  <a:pt x="12829" y="4330"/>
                  <a:pt x="12874" y="4341"/>
                </a:cubicBezTo>
              </a:path>
              <a:path w="3772" h="1415">
                <a:moveTo>
                  <a:pt x="11584" y="4614"/>
                </a:moveTo>
                <a:cubicBezTo>
                  <a:pt x="11623" y="4604"/>
                  <a:pt x="11638" y="4589"/>
                  <a:pt x="11683" y="4589"/>
                </a:cubicBezTo>
                <a:cubicBezTo>
                  <a:pt x="11811" y="4589"/>
                  <a:pt x="11934" y="4580"/>
                  <a:pt x="12055" y="4564"/>
                </a:cubicBezTo>
                <a:cubicBezTo>
                  <a:pt x="12185" y="4547"/>
                  <a:pt x="12326" y="4555"/>
                  <a:pt x="12452" y="4539"/>
                </a:cubicBezTo>
                <a:cubicBezTo>
                  <a:pt x="12507" y="4532"/>
                  <a:pt x="12570" y="4539"/>
                  <a:pt x="12626" y="4539"/>
                </a:cubicBezTo>
              </a:path>
              <a:path w="3772" h="1415">
                <a:moveTo>
                  <a:pt x="12229" y="4862"/>
                </a:moveTo>
                <a:cubicBezTo>
                  <a:pt x="12249" y="4909"/>
                  <a:pt x="12275" y="4960"/>
                  <a:pt x="12278" y="5011"/>
                </a:cubicBezTo>
                <a:cubicBezTo>
                  <a:pt x="12283" y="5095"/>
                  <a:pt x="12250" y="5218"/>
                  <a:pt x="12303" y="5283"/>
                </a:cubicBezTo>
                <a:cubicBezTo>
                  <a:pt x="12311" y="5291"/>
                  <a:pt x="12320" y="5300"/>
                  <a:pt x="12328" y="5308"/>
                </a:cubicBezTo>
              </a:path>
              <a:path w="3772" h="1415">
                <a:moveTo>
                  <a:pt x="13246" y="4440"/>
                </a:moveTo>
                <a:cubicBezTo>
                  <a:pt x="13246" y="4448"/>
                  <a:pt x="13246" y="4457"/>
                  <a:pt x="13246" y="4465"/>
                </a:cubicBezTo>
              </a:path>
              <a:path w="3772" h="1415">
                <a:moveTo>
                  <a:pt x="13891" y="3894"/>
                </a:moveTo>
                <a:cubicBezTo>
                  <a:pt x="13846" y="3920"/>
                  <a:pt x="13796" y="3948"/>
                  <a:pt x="13767" y="3994"/>
                </a:cubicBezTo>
                <a:cubicBezTo>
                  <a:pt x="13735" y="4044"/>
                  <a:pt x="13724" y="4079"/>
                  <a:pt x="13667" y="4093"/>
                </a:cubicBezTo>
                <a:cubicBezTo>
                  <a:pt x="13711" y="4126"/>
                  <a:pt x="13720" y="4102"/>
                  <a:pt x="13767" y="4118"/>
                </a:cubicBezTo>
                <a:cubicBezTo>
                  <a:pt x="13813" y="4134"/>
                  <a:pt x="13908" y="4180"/>
                  <a:pt x="13940" y="4217"/>
                </a:cubicBezTo>
                <a:cubicBezTo>
                  <a:pt x="13967" y="4248"/>
                  <a:pt x="14030" y="4323"/>
                  <a:pt x="14015" y="4366"/>
                </a:cubicBezTo>
                <a:cubicBezTo>
                  <a:pt x="14000" y="4410"/>
                  <a:pt x="13971" y="4420"/>
                  <a:pt x="13940" y="4440"/>
                </a:cubicBezTo>
                <a:cubicBezTo>
                  <a:pt x="13895" y="4470"/>
                  <a:pt x="13912" y="4475"/>
                  <a:pt x="13866" y="4440"/>
                </a:cubicBezTo>
              </a:path>
              <a:path w="3772" h="1415">
                <a:moveTo>
                  <a:pt x="14163" y="4415"/>
                </a:moveTo>
                <a:cubicBezTo>
                  <a:pt x="14173" y="4344"/>
                  <a:pt x="14168" y="4337"/>
                  <a:pt x="14163" y="4266"/>
                </a:cubicBezTo>
                <a:cubicBezTo>
                  <a:pt x="14159" y="4207"/>
                  <a:pt x="14166" y="4205"/>
                  <a:pt x="14114" y="4192"/>
                </a:cubicBezTo>
              </a:path>
              <a:path w="3772" h="1415">
                <a:moveTo>
                  <a:pt x="14089" y="4018"/>
                </a:moveTo>
                <a:cubicBezTo>
                  <a:pt x="14089" y="4002"/>
                  <a:pt x="14089" y="3985"/>
                  <a:pt x="14089" y="3969"/>
                </a:cubicBezTo>
              </a:path>
              <a:path w="3772" h="1415">
                <a:moveTo>
                  <a:pt x="14288" y="4192"/>
                </a:moveTo>
                <a:cubicBezTo>
                  <a:pt x="14304" y="4270"/>
                  <a:pt x="14313" y="4348"/>
                  <a:pt x="14337" y="4415"/>
                </a:cubicBezTo>
                <a:cubicBezTo>
                  <a:pt x="14345" y="4432"/>
                  <a:pt x="14354" y="4448"/>
                  <a:pt x="14362" y="4465"/>
                </a:cubicBezTo>
                <a:cubicBezTo>
                  <a:pt x="14362" y="4370"/>
                  <a:pt x="14348" y="4278"/>
                  <a:pt x="14387" y="4192"/>
                </a:cubicBezTo>
                <a:cubicBezTo>
                  <a:pt x="14417" y="4124"/>
                  <a:pt x="14440" y="4099"/>
                  <a:pt x="14511" y="4093"/>
                </a:cubicBezTo>
                <a:cubicBezTo>
                  <a:pt x="14580" y="4087"/>
                  <a:pt x="14582" y="4136"/>
                  <a:pt x="14610" y="4192"/>
                </a:cubicBezTo>
                <a:cubicBezTo>
                  <a:pt x="14642" y="4256"/>
                  <a:pt x="14656" y="4344"/>
                  <a:pt x="14660" y="4415"/>
                </a:cubicBezTo>
                <a:cubicBezTo>
                  <a:pt x="14660" y="4457"/>
                  <a:pt x="14660" y="4465"/>
                  <a:pt x="14660" y="4490"/>
                </a:cubicBezTo>
              </a:path>
              <a:path w="3772" h="1415">
                <a:moveTo>
                  <a:pt x="15032" y="4167"/>
                </a:moveTo>
                <a:cubicBezTo>
                  <a:pt x="14993" y="4232"/>
                  <a:pt x="14927" y="4349"/>
                  <a:pt x="14883" y="4415"/>
                </a:cubicBezTo>
                <a:cubicBezTo>
                  <a:pt x="14859" y="4451"/>
                  <a:pt x="14864" y="4455"/>
                  <a:pt x="14833" y="4465"/>
                </a:cubicBezTo>
              </a:path>
              <a:path w="3772" h="1415">
                <a:moveTo>
                  <a:pt x="14833" y="4118"/>
                </a:moveTo>
                <a:cubicBezTo>
                  <a:pt x="14875" y="4159"/>
                  <a:pt x="14898" y="4196"/>
                  <a:pt x="14932" y="4242"/>
                </a:cubicBezTo>
                <a:cubicBezTo>
                  <a:pt x="14957" y="4275"/>
                  <a:pt x="15017" y="4348"/>
                  <a:pt x="15056" y="4366"/>
                </a:cubicBezTo>
                <a:cubicBezTo>
                  <a:pt x="15084" y="4378"/>
                  <a:pt x="15125" y="4384"/>
                  <a:pt x="15156" y="4390"/>
                </a:cubicBezTo>
              </a:path>
              <a:path w="3772" h="1415">
                <a:moveTo>
                  <a:pt x="13742" y="4638"/>
                </a:moveTo>
                <a:cubicBezTo>
                  <a:pt x="13894" y="4638"/>
                  <a:pt x="14043" y="4637"/>
                  <a:pt x="14188" y="4614"/>
                </a:cubicBezTo>
                <a:cubicBezTo>
                  <a:pt x="14430" y="4575"/>
                  <a:pt x="14711" y="4614"/>
                  <a:pt x="14957" y="46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73760" y="1758960"/>
            <a:ext cx="81000" cy="162000"/>
          </a:xfrm>
          <a:custGeom>
            <a:avLst/>
            <a:gdLst/>
            <a:ahLst/>
            <a:rect l="l" t="t" r="r" b="b"/>
            <a:pathLst>
              <a:path w="224" h="447">
                <a:moveTo>
                  <a:pt x="13965" y="4887"/>
                </a:moveTo>
                <a:cubicBezTo>
                  <a:pt x="13945" y="4907"/>
                  <a:pt x="13850" y="4979"/>
                  <a:pt x="13841" y="5011"/>
                </a:cubicBezTo>
                <a:cubicBezTo>
                  <a:pt x="13825" y="5066"/>
                  <a:pt x="13816" y="5124"/>
                  <a:pt x="13816" y="5184"/>
                </a:cubicBezTo>
                <a:cubicBezTo>
                  <a:pt x="13816" y="5214"/>
                  <a:pt x="13816" y="5291"/>
                  <a:pt x="13841" y="5308"/>
                </a:cubicBezTo>
                <a:cubicBezTo>
                  <a:pt x="13897" y="5345"/>
                  <a:pt x="13921" y="5317"/>
                  <a:pt x="13965" y="5308"/>
                </a:cubicBezTo>
                <a:cubicBezTo>
                  <a:pt x="14006" y="5308"/>
                  <a:pt x="14014" y="5308"/>
                  <a:pt x="14039" y="53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53040" y="1776240"/>
            <a:ext cx="517680" cy="169920"/>
          </a:xfrm>
          <a:custGeom>
            <a:avLst/>
            <a:gdLst/>
            <a:ahLst/>
            <a:rect l="l" t="t" r="r" b="b"/>
            <a:pathLst>
              <a:path w="1440" h="472">
                <a:moveTo>
                  <a:pt x="14412" y="4961"/>
                </a:moveTo>
                <a:cubicBezTo>
                  <a:pt x="14363" y="5041"/>
                  <a:pt x="14364" y="5059"/>
                  <a:pt x="14337" y="5135"/>
                </a:cubicBezTo>
                <a:cubicBezTo>
                  <a:pt x="14315" y="5196"/>
                  <a:pt x="14300" y="5254"/>
                  <a:pt x="14362" y="5308"/>
                </a:cubicBezTo>
                <a:cubicBezTo>
                  <a:pt x="14390" y="5332"/>
                  <a:pt x="14470" y="5345"/>
                  <a:pt x="14511" y="5333"/>
                </a:cubicBezTo>
                <a:cubicBezTo>
                  <a:pt x="14556" y="5320"/>
                  <a:pt x="14647" y="5263"/>
                  <a:pt x="14684" y="5234"/>
                </a:cubicBezTo>
                <a:cubicBezTo>
                  <a:pt x="14717" y="5208"/>
                  <a:pt x="14790" y="5126"/>
                  <a:pt x="14808" y="5085"/>
                </a:cubicBezTo>
                <a:cubicBezTo>
                  <a:pt x="14823" y="5051"/>
                  <a:pt x="14804" y="5009"/>
                  <a:pt x="14784" y="4986"/>
                </a:cubicBezTo>
                <a:cubicBezTo>
                  <a:pt x="14761" y="4960"/>
                  <a:pt x="14717" y="4940"/>
                  <a:pt x="14684" y="4936"/>
                </a:cubicBezTo>
                <a:cubicBezTo>
                  <a:pt x="14676" y="4936"/>
                  <a:pt x="14668" y="4936"/>
                  <a:pt x="14660" y="4936"/>
                </a:cubicBezTo>
              </a:path>
              <a:path w="1440" h="472">
                <a:moveTo>
                  <a:pt x="15056" y="4961"/>
                </a:moveTo>
                <a:cubicBezTo>
                  <a:pt x="15024" y="5042"/>
                  <a:pt x="14986" y="5112"/>
                  <a:pt x="14932" y="5184"/>
                </a:cubicBezTo>
                <a:cubicBezTo>
                  <a:pt x="14908" y="5209"/>
                  <a:pt x="14900" y="5218"/>
                  <a:pt x="14883" y="5234"/>
                </a:cubicBezTo>
              </a:path>
              <a:path w="1440" h="472">
                <a:moveTo>
                  <a:pt x="15032" y="4986"/>
                </a:moveTo>
                <a:cubicBezTo>
                  <a:pt x="15007" y="5019"/>
                  <a:pt x="14992" y="5045"/>
                  <a:pt x="14982" y="5085"/>
                </a:cubicBezTo>
                <a:cubicBezTo>
                  <a:pt x="14949" y="5096"/>
                  <a:pt x="14959" y="5099"/>
                  <a:pt x="14932" y="5135"/>
                </a:cubicBezTo>
                <a:cubicBezTo>
                  <a:pt x="14974" y="5189"/>
                  <a:pt x="14958" y="5157"/>
                  <a:pt x="15007" y="5184"/>
                </a:cubicBezTo>
                <a:cubicBezTo>
                  <a:pt x="15041" y="5203"/>
                  <a:pt x="15070" y="5243"/>
                  <a:pt x="15106" y="5259"/>
                </a:cubicBezTo>
                <a:cubicBezTo>
                  <a:pt x="15132" y="5270"/>
                  <a:pt x="15183" y="5285"/>
                  <a:pt x="15156" y="5333"/>
                </a:cubicBezTo>
                <a:cubicBezTo>
                  <a:pt x="15133" y="5356"/>
                  <a:pt x="15129" y="5364"/>
                  <a:pt x="15106" y="5358"/>
                </a:cubicBezTo>
                <a:cubicBezTo>
                  <a:pt x="15095" y="5392"/>
                  <a:pt x="15093" y="5381"/>
                  <a:pt x="15056" y="5407"/>
                </a:cubicBezTo>
              </a:path>
              <a:path w="1440" h="472">
                <a:moveTo>
                  <a:pt x="15577" y="4936"/>
                </a:moveTo>
                <a:cubicBezTo>
                  <a:pt x="15566" y="5017"/>
                  <a:pt x="15545" y="5057"/>
                  <a:pt x="15503" y="5135"/>
                </a:cubicBezTo>
                <a:cubicBezTo>
                  <a:pt x="15483" y="5172"/>
                  <a:pt x="15440" y="5266"/>
                  <a:pt x="15404" y="5283"/>
                </a:cubicBezTo>
                <a:cubicBezTo>
                  <a:pt x="15379" y="5283"/>
                  <a:pt x="15371" y="5283"/>
                  <a:pt x="15354" y="5283"/>
                </a:cubicBezTo>
              </a:path>
              <a:path w="1440" h="472">
                <a:moveTo>
                  <a:pt x="15379" y="4961"/>
                </a:moveTo>
                <a:cubicBezTo>
                  <a:pt x="15397" y="5035"/>
                  <a:pt x="15445" y="5058"/>
                  <a:pt x="15503" y="5110"/>
                </a:cubicBezTo>
                <a:cubicBezTo>
                  <a:pt x="15565" y="5166"/>
                  <a:pt x="15626" y="5196"/>
                  <a:pt x="15701" y="5234"/>
                </a:cubicBezTo>
                <a:cubicBezTo>
                  <a:pt x="15718" y="5242"/>
                  <a:pt x="15734" y="5251"/>
                  <a:pt x="15751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63880" y="2187720"/>
            <a:ext cx="787320" cy="233280"/>
          </a:xfrm>
          <a:custGeom>
            <a:avLst/>
            <a:gdLst/>
            <a:ahLst/>
            <a:rect l="l" t="t" r="r" b="b"/>
            <a:pathLst>
              <a:path w="2184" h="646">
                <a:moveTo>
                  <a:pt x="8409" y="6152"/>
                </a:moveTo>
                <a:cubicBezTo>
                  <a:pt x="8363" y="6204"/>
                  <a:pt x="8312" y="6259"/>
                  <a:pt x="8285" y="6325"/>
                </a:cubicBezTo>
                <a:cubicBezTo>
                  <a:pt x="8260" y="6387"/>
                  <a:pt x="8239" y="6462"/>
                  <a:pt x="8235" y="6524"/>
                </a:cubicBezTo>
                <a:cubicBezTo>
                  <a:pt x="8232" y="6574"/>
                  <a:pt x="8234" y="6696"/>
                  <a:pt x="8285" y="6722"/>
                </a:cubicBezTo>
                <a:cubicBezTo>
                  <a:pt x="8310" y="6722"/>
                  <a:pt x="8318" y="6722"/>
                  <a:pt x="8334" y="6722"/>
                </a:cubicBezTo>
              </a:path>
              <a:path w="2184" h="646">
                <a:moveTo>
                  <a:pt x="8731" y="6176"/>
                </a:moveTo>
                <a:cubicBezTo>
                  <a:pt x="8685" y="6230"/>
                  <a:pt x="8623" y="6302"/>
                  <a:pt x="8607" y="6375"/>
                </a:cubicBezTo>
                <a:cubicBezTo>
                  <a:pt x="8595" y="6429"/>
                  <a:pt x="8582" y="6465"/>
                  <a:pt x="8582" y="6524"/>
                </a:cubicBezTo>
                <a:cubicBezTo>
                  <a:pt x="8582" y="6595"/>
                  <a:pt x="8614" y="6594"/>
                  <a:pt x="8682" y="6598"/>
                </a:cubicBezTo>
                <a:cubicBezTo>
                  <a:pt x="8754" y="6602"/>
                  <a:pt x="8782" y="6548"/>
                  <a:pt x="8830" y="6499"/>
                </a:cubicBezTo>
                <a:cubicBezTo>
                  <a:pt x="8890" y="6439"/>
                  <a:pt x="8937" y="6336"/>
                  <a:pt x="8954" y="6251"/>
                </a:cubicBezTo>
                <a:cubicBezTo>
                  <a:pt x="8964" y="6200"/>
                  <a:pt x="8999" y="6142"/>
                  <a:pt x="8954" y="6127"/>
                </a:cubicBezTo>
              </a:path>
              <a:path w="2184" h="646">
                <a:moveTo>
                  <a:pt x="9376" y="6077"/>
                </a:moveTo>
                <a:cubicBezTo>
                  <a:pt x="9308" y="6175"/>
                  <a:pt x="9291" y="6146"/>
                  <a:pt x="9227" y="6201"/>
                </a:cubicBezTo>
                <a:cubicBezTo>
                  <a:pt x="9215" y="6211"/>
                  <a:pt x="9209" y="6233"/>
                  <a:pt x="9203" y="6251"/>
                </a:cubicBezTo>
                <a:cubicBezTo>
                  <a:pt x="9247" y="6262"/>
                  <a:pt x="9286" y="6278"/>
                  <a:pt x="9327" y="6300"/>
                </a:cubicBezTo>
                <a:cubicBezTo>
                  <a:pt x="9382" y="6329"/>
                  <a:pt x="9430" y="6361"/>
                  <a:pt x="9451" y="6424"/>
                </a:cubicBezTo>
                <a:cubicBezTo>
                  <a:pt x="9451" y="6449"/>
                  <a:pt x="9451" y="6457"/>
                  <a:pt x="9475" y="6449"/>
                </a:cubicBezTo>
                <a:cubicBezTo>
                  <a:pt x="9450" y="6483"/>
                  <a:pt x="9444" y="6510"/>
                  <a:pt x="9401" y="6524"/>
                </a:cubicBezTo>
                <a:cubicBezTo>
                  <a:pt x="9365" y="6536"/>
                  <a:pt x="9344" y="6548"/>
                  <a:pt x="9302" y="6548"/>
                </a:cubicBezTo>
              </a:path>
              <a:path w="2184" h="646">
                <a:moveTo>
                  <a:pt x="9773" y="6152"/>
                </a:moveTo>
                <a:cubicBezTo>
                  <a:pt x="9725" y="6218"/>
                  <a:pt x="9666" y="6281"/>
                  <a:pt x="9624" y="6350"/>
                </a:cubicBezTo>
                <a:cubicBezTo>
                  <a:pt x="9598" y="6393"/>
                  <a:pt x="9585" y="6414"/>
                  <a:pt x="9550" y="6449"/>
                </a:cubicBezTo>
              </a:path>
              <a:path w="2184" h="646">
                <a:moveTo>
                  <a:pt x="9550" y="6176"/>
                </a:moveTo>
                <a:cubicBezTo>
                  <a:pt x="9612" y="6212"/>
                  <a:pt x="9647" y="6256"/>
                  <a:pt x="9699" y="6300"/>
                </a:cubicBezTo>
                <a:cubicBezTo>
                  <a:pt x="9741" y="6335"/>
                  <a:pt x="9783" y="6360"/>
                  <a:pt x="9823" y="6400"/>
                </a:cubicBezTo>
              </a:path>
              <a:path w="2184" h="646">
                <a:moveTo>
                  <a:pt x="10170" y="6127"/>
                </a:moveTo>
                <a:cubicBezTo>
                  <a:pt x="10170" y="6219"/>
                  <a:pt x="10203" y="6273"/>
                  <a:pt x="10220" y="6375"/>
                </a:cubicBezTo>
                <a:cubicBezTo>
                  <a:pt x="10227" y="6415"/>
                  <a:pt x="10244" y="6429"/>
                  <a:pt x="10244" y="6474"/>
                </a:cubicBezTo>
              </a:path>
              <a:path w="2184" h="646">
                <a:moveTo>
                  <a:pt x="10071" y="6276"/>
                </a:moveTo>
                <a:cubicBezTo>
                  <a:pt x="10187" y="6276"/>
                  <a:pt x="10302" y="6276"/>
                  <a:pt x="10418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54320" y="2044800"/>
            <a:ext cx="660600" cy="536400"/>
          </a:xfrm>
          <a:custGeom>
            <a:avLst/>
            <a:gdLst/>
            <a:ahLst/>
            <a:rect l="l" t="t" r="r" b="b"/>
            <a:pathLst>
              <a:path w="1837" h="1490">
                <a:moveTo>
                  <a:pt x="11460" y="5928"/>
                </a:moveTo>
                <a:cubicBezTo>
                  <a:pt x="11404" y="5936"/>
                  <a:pt x="11370" y="5950"/>
                  <a:pt x="11336" y="6003"/>
                </a:cubicBezTo>
                <a:cubicBezTo>
                  <a:pt x="11311" y="6052"/>
                  <a:pt x="11302" y="6069"/>
                  <a:pt x="11261" y="6077"/>
                </a:cubicBezTo>
                <a:cubicBezTo>
                  <a:pt x="11319" y="6077"/>
                  <a:pt x="11338" y="6099"/>
                  <a:pt x="11385" y="6127"/>
                </a:cubicBezTo>
                <a:cubicBezTo>
                  <a:pt x="11437" y="6159"/>
                  <a:pt x="11486" y="6191"/>
                  <a:pt x="11509" y="6251"/>
                </a:cubicBezTo>
                <a:cubicBezTo>
                  <a:pt x="11526" y="6294"/>
                  <a:pt x="11498" y="6321"/>
                  <a:pt x="11460" y="6325"/>
                </a:cubicBezTo>
                <a:cubicBezTo>
                  <a:pt x="11409" y="6331"/>
                  <a:pt x="11400" y="6313"/>
                  <a:pt x="11361" y="6300"/>
                </a:cubicBezTo>
                <a:cubicBezTo>
                  <a:pt x="11353" y="6300"/>
                  <a:pt x="11344" y="6300"/>
                  <a:pt x="11336" y="6300"/>
                </a:cubicBezTo>
              </a:path>
              <a:path w="1837" h="1490">
                <a:moveTo>
                  <a:pt x="11683" y="6251"/>
                </a:moveTo>
                <a:cubicBezTo>
                  <a:pt x="11683" y="6201"/>
                  <a:pt x="11683" y="6152"/>
                  <a:pt x="11683" y="6102"/>
                </a:cubicBezTo>
              </a:path>
              <a:path w="1837" h="1490">
                <a:moveTo>
                  <a:pt x="11633" y="5928"/>
                </a:moveTo>
                <a:lnTo>
                  <a:pt x="11633" y="5928"/>
                </a:lnTo>
              </a:path>
              <a:path w="1837" h="1490">
                <a:moveTo>
                  <a:pt x="11906" y="6127"/>
                </a:moveTo>
                <a:cubicBezTo>
                  <a:pt x="11913" y="6178"/>
                  <a:pt x="11931" y="6200"/>
                  <a:pt x="11931" y="6251"/>
                </a:cubicBezTo>
                <a:cubicBezTo>
                  <a:pt x="11931" y="6327"/>
                  <a:pt x="11950" y="6303"/>
                  <a:pt x="11956" y="6350"/>
                </a:cubicBezTo>
                <a:cubicBezTo>
                  <a:pt x="11959" y="6374"/>
                  <a:pt x="11956" y="6400"/>
                  <a:pt x="11956" y="6424"/>
                </a:cubicBezTo>
                <a:cubicBezTo>
                  <a:pt x="11956" y="6351"/>
                  <a:pt x="11969" y="6286"/>
                  <a:pt x="11981" y="6226"/>
                </a:cubicBezTo>
                <a:cubicBezTo>
                  <a:pt x="11993" y="6168"/>
                  <a:pt x="11986" y="6083"/>
                  <a:pt x="12055" y="6052"/>
                </a:cubicBezTo>
                <a:cubicBezTo>
                  <a:pt x="12112" y="6027"/>
                  <a:pt x="12126" y="6042"/>
                  <a:pt x="12179" y="6052"/>
                </a:cubicBezTo>
                <a:cubicBezTo>
                  <a:pt x="12240" y="6064"/>
                  <a:pt x="12290" y="6088"/>
                  <a:pt x="12328" y="6152"/>
                </a:cubicBezTo>
                <a:cubicBezTo>
                  <a:pt x="12352" y="6193"/>
                  <a:pt x="12353" y="6252"/>
                  <a:pt x="12353" y="6300"/>
                </a:cubicBezTo>
                <a:cubicBezTo>
                  <a:pt x="12353" y="6325"/>
                  <a:pt x="12353" y="6333"/>
                  <a:pt x="12353" y="6350"/>
                </a:cubicBezTo>
              </a:path>
              <a:path w="1837" h="1490">
                <a:moveTo>
                  <a:pt x="12378" y="5705"/>
                </a:moveTo>
                <a:cubicBezTo>
                  <a:pt x="12405" y="5684"/>
                  <a:pt x="12452" y="5654"/>
                  <a:pt x="12477" y="5705"/>
                </a:cubicBezTo>
                <a:cubicBezTo>
                  <a:pt x="12499" y="5749"/>
                  <a:pt x="12522" y="5774"/>
                  <a:pt x="12526" y="5829"/>
                </a:cubicBezTo>
                <a:cubicBezTo>
                  <a:pt x="12532" y="5902"/>
                  <a:pt x="12522" y="5898"/>
                  <a:pt x="12477" y="5928"/>
                </a:cubicBezTo>
                <a:cubicBezTo>
                  <a:pt x="12431" y="5958"/>
                  <a:pt x="12436" y="5978"/>
                  <a:pt x="12378" y="5978"/>
                </a:cubicBezTo>
                <a:cubicBezTo>
                  <a:pt x="12397" y="5919"/>
                  <a:pt x="12413" y="5972"/>
                  <a:pt x="12452" y="5978"/>
                </a:cubicBezTo>
                <a:cubicBezTo>
                  <a:pt x="12477" y="5978"/>
                  <a:pt x="12501" y="5978"/>
                  <a:pt x="12526" y="5978"/>
                </a:cubicBezTo>
              </a:path>
              <a:path w="1837" h="1490">
                <a:moveTo>
                  <a:pt x="12849" y="6077"/>
                </a:moveTo>
                <a:cubicBezTo>
                  <a:pt x="12819" y="6160"/>
                  <a:pt x="12811" y="6185"/>
                  <a:pt x="12750" y="6226"/>
                </a:cubicBezTo>
                <a:cubicBezTo>
                  <a:pt x="12727" y="6249"/>
                  <a:pt x="12723" y="6257"/>
                  <a:pt x="12700" y="6251"/>
                </a:cubicBezTo>
              </a:path>
              <a:path w="1837" h="1490">
                <a:moveTo>
                  <a:pt x="12650" y="6028"/>
                </a:moveTo>
                <a:cubicBezTo>
                  <a:pt x="12661" y="6071"/>
                  <a:pt x="12691" y="6093"/>
                  <a:pt x="12725" y="6127"/>
                </a:cubicBezTo>
                <a:cubicBezTo>
                  <a:pt x="12763" y="6165"/>
                  <a:pt x="12804" y="6199"/>
                  <a:pt x="12849" y="6226"/>
                </a:cubicBezTo>
                <a:cubicBezTo>
                  <a:pt x="12899" y="6257"/>
                  <a:pt x="12954" y="6268"/>
                  <a:pt x="12998" y="6300"/>
                </a:cubicBezTo>
              </a:path>
              <a:path w="1837" h="1490">
                <a:moveTo>
                  <a:pt x="11336" y="6573"/>
                </a:moveTo>
                <a:cubicBezTo>
                  <a:pt x="11890" y="6573"/>
                  <a:pt x="12444" y="6573"/>
                  <a:pt x="12998" y="6573"/>
                </a:cubicBezTo>
              </a:path>
              <a:path w="1837" h="1490">
                <a:moveTo>
                  <a:pt x="11708" y="6772"/>
                </a:moveTo>
                <a:cubicBezTo>
                  <a:pt x="11696" y="6820"/>
                  <a:pt x="11648" y="6850"/>
                  <a:pt x="11633" y="6896"/>
                </a:cubicBezTo>
                <a:cubicBezTo>
                  <a:pt x="11617" y="6944"/>
                  <a:pt x="11632" y="7037"/>
                  <a:pt x="11658" y="7069"/>
                </a:cubicBezTo>
                <a:cubicBezTo>
                  <a:pt x="11706" y="7129"/>
                  <a:pt x="11729" y="7119"/>
                  <a:pt x="11807" y="7119"/>
                </a:cubicBezTo>
              </a:path>
              <a:path w="1837" h="1490">
                <a:moveTo>
                  <a:pt x="12055" y="6871"/>
                </a:moveTo>
                <a:cubicBezTo>
                  <a:pt x="12028" y="6924"/>
                  <a:pt x="12005" y="6961"/>
                  <a:pt x="12005" y="7020"/>
                </a:cubicBezTo>
                <a:cubicBezTo>
                  <a:pt x="12005" y="7077"/>
                  <a:pt x="12019" y="7107"/>
                  <a:pt x="12080" y="7119"/>
                </a:cubicBezTo>
                <a:cubicBezTo>
                  <a:pt x="12111" y="7125"/>
                  <a:pt x="12182" y="7105"/>
                  <a:pt x="12204" y="7094"/>
                </a:cubicBezTo>
                <a:cubicBezTo>
                  <a:pt x="12267" y="7062"/>
                  <a:pt x="12311" y="7021"/>
                  <a:pt x="12353" y="6970"/>
                </a:cubicBezTo>
                <a:cubicBezTo>
                  <a:pt x="12388" y="6928"/>
                  <a:pt x="12402" y="6927"/>
                  <a:pt x="12402" y="6871"/>
                </a:cubicBezTo>
                <a:cubicBezTo>
                  <a:pt x="12402" y="6816"/>
                  <a:pt x="12360" y="6816"/>
                  <a:pt x="12328" y="6796"/>
                </a:cubicBezTo>
                <a:cubicBezTo>
                  <a:pt x="12305" y="6774"/>
                  <a:pt x="12300" y="6766"/>
                  <a:pt x="12278" y="6772"/>
                </a:cubicBezTo>
              </a:path>
              <a:path w="1837" h="1490">
                <a:moveTo>
                  <a:pt x="12650" y="6846"/>
                </a:moveTo>
                <a:cubicBezTo>
                  <a:pt x="12629" y="6863"/>
                  <a:pt x="12581" y="6886"/>
                  <a:pt x="12576" y="6896"/>
                </a:cubicBezTo>
                <a:cubicBezTo>
                  <a:pt x="12560" y="6929"/>
                  <a:pt x="12563" y="6911"/>
                  <a:pt x="12551" y="6945"/>
                </a:cubicBezTo>
                <a:cubicBezTo>
                  <a:pt x="12588" y="6973"/>
                  <a:pt x="12614" y="6984"/>
                  <a:pt x="12650" y="7020"/>
                </a:cubicBezTo>
                <a:cubicBezTo>
                  <a:pt x="12690" y="7061"/>
                  <a:pt x="12700" y="7032"/>
                  <a:pt x="12700" y="7094"/>
                </a:cubicBezTo>
                <a:cubicBezTo>
                  <a:pt x="12700" y="7136"/>
                  <a:pt x="12665" y="7165"/>
                  <a:pt x="12626" y="7169"/>
                </a:cubicBezTo>
                <a:cubicBezTo>
                  <a:pt x="12601" y="7169"/>
                  <a:pt x="12593" y="7169"/>
                  <a:pt x="12576" y="7169"/>
                </a:cubicBezTo>
              </a:path>
              <a:path w="1837" h="1490">
                <a:moveTo>
                  <a:pt x="13022" y="6871"/>
                </a:moveTo>
                <a:cubicBezTo>
                  <a:pt x="12998" y="6936"/>
                  <a:pt x="12997" y="6992"/>
                  <a:pt x="12948" y="7045"/>
                </a:cubicBezTo>
                <a:cubicBezTo>
                  <a:pt x="12925" y="7071"/>
                  <a:pt x="12898" y="7094"/>
                  <a:pt x="12874" y="7119"/>
                </a:cubicBezTo>
              </a:path>
              <a:path w="1837" h="1490">
                <a:moveTo>
                  <a:pt x="12824" y="6896"/>
                </a:moveTo>
                <a:cubicBezTo>
                  <a:pt x="12884" y="6930"/>
                  <a:pt x="12923" y="6970"/>
                  <a:pt x="12973" y="7020"/>
                </a:cubicBezTo>
                <a:cubicBezTo>
                  <a:pt x="13012" y="7059"/>
                  <a:pt x="13054" y="7085"/>
                  <a:pt x="13097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38320" y="2919240"/>
            <a:ext cx="1847880" cy="573120"/>
          </a:xfrm>
          <a:custGeom>
            <a:avLst/>
            <a:gdLst/>
            <a:ahLst/>
            <a:rect l="l" t="t" r="r" b="b"/>
            <a:pathLst>
              <a:path w="5135" h="1589">
                <a:moveTo>
                  <a:pt x="8161" y="9128"/>
                </a:moveTo>
                <a:cubicBezTo>
                  <a:pt x="8337" y="9128"/>
                  <a:pt x="8510" y="9118"/>
                  <a:pt x="8682" y="9103"/>
                </a:cubicBezTo>
                <a:cubicBezTo>
                  <a:pt x="8911" y="9083"/>
                  <a:pt x="9148" y="9095"/>
                  <a:pt x="9376" y="9079"/>
                </a:cubicBezTo>
                <a:cubicBezTo>
                  <a:pt x="9510" y="9070"/>
                  <a:pt x="9645" y="9118"/>
                  <a:pt x="9773" y="9103"/>
                </a:cubicBezTo>
                <a:cubicBezTo>
                  <a:pt x="9867" y="9092"/>
                  <a:pt x="9905" y="9093"/>
                  <a:pt x="9996" y="9103"/>
                </a:cubicBezTo>
              </a:path>
              <a:path w="5135" h="1589">
                <a:moveTo>
                  <a:pt x="8632" y="9302"/>
                </a:moveTo>
                <a:cubicBezTo>
                  <a:pt x="8598" y="9336"/>
                  <a:pt x="8580" y="9368"/>
                  <a:pt x="8558" y="9401"/>
                </a:cubicBezTo>
                <a:cubicBezTo>
                  <a:pt x="8535" y="9436"/>
                  <a:pt x="8509" y="9529"/>
                  <a:pt x="8533" y="9575"/>
                </a:cubicBezTo>
                <a:cubicBezTo>
                  <a:pt x="8564" y="9635"/>
                  <a:pt x="8613" y="9627"/>
                  <a:pt x="8657" y="9649"/>
                </a:cubicBezTo>
                <a:cubicBezTo>
                  <a:pt x="8726" y="9683"/>
                  <a:pt x="8732" y="9653"/>
                  <a:pt x="8806" y="9649"/>
                </a:cubicBezTo>
                <a:cubicBezTo>
                  <a:pt x="8822" y="9649"/>
                  <a:pt x="8839" y="9649"/>
                  <a:pt x="8855" y="9649"/>
                </a:cubicBezTo>
              </a:path>
              <a:path w="5135" h="1589">
                <a:moveTo>
                  <a:pt x="9054" y="9376"/>
                </a:moveTo>
                <a:cubicBezTo>
                  <a:pt x="9024" y="9406"/>
                  <a:pt x="8963" y="9459"/>
                  <a:pt x="8954" y="9500"/>
                </a:cubicBezTo>
                <a:cubicBezTo>
                  <a:pt x="8939" y="9570"/>
                  <a:pt x="8933" y="9673"/>
                  <a:pt x="9004" y="9699"/>
                </a:cubicBezTo>
                <a:cubicBezTo>
                  <a:pt x="9057" y="9718"/>
                  <a:pt x="9132" y="9695"/>
                  <a:pt x="9178" y="9674"/>
                </a:cubicBezTo>
                <a:cubicBezTo>
                  <a:pt x="9273" y="9631"/>
                  <a:pt x="9262" y="9586"/>
                  <a:pt x="9327" y="9525"/>
                </a:cubicBezTo>
                <a:cubicBezTo>
                  <a:pt x="9390" y="9466"/>
                  <a:pt x="9401" y="9467"/>
                  <a:pt x="9401" y="9376"/>
                </a:cubicBezTo>
                <a:cubicBezTo>
                  <a:pt x="9401" y="9368"/>
                  <a:pt x="9401" y="9359"/>
                  <a:pt x="9401" y="9351"/>
                </a:cubicBezTo>
              </a:path>
              <a:path w="5135" h="1589">
                <a:moveTo>
                  <a:pt x="9599" y="9327"/>
                </a:moveTo>
                <a:cubicBezTo>
                  <a:pt x="9573" y="9374"/>
                  <a:pt x="9545" y="9399"/>
                  <a:pt x="9525" y="9426"/>
                </a:cubicBezTo>
                <a:cubicBezTo>
                  <a:pt x="9503" y="9455"/>
                  <a:pt x="9419" y="9459"/>
                  <a:pt x="9451" y="9475"/>
                </a:cubicBezTo>
                <a:cubicBezTo>
                  <a:pt x="9487" y="9493"/>
                  <a:pt x="9536" y="9534"/>
                  <a:pt x="9575" y="9550"/>
                </a:cubicBezTo>
                <a:cubicBezTo>
                  <a:pt x="9613" y="9566"/>
                  <a:pt x="9644" y="9575"/>
                  <a:pt x="9649" y="9624"/>
                </a:cubicBezTo>
                <a:cubicBezTo>
                  <a:pt x="9654" y="9667"/>
                  <a:pt x="9640" y="9685"/>
                  <a:pt x="9599" y="9699"/>
                </a:cubicBezTo>
                <a:cubicBezTo>
                  <a:pt x="9573" y="9708"/>
                  <a:pt x="9527" y="9699"/>
                  <a:pt x="9500" y="9699"/>
                </a:cubicBezTo>
              </a:path>
              <a:path w="5135" h="1589">
                <a:moveTo>
                  <a:pt x="10046" y="9351"/>
                </a:moveTo>
                <a:cubicBezTo>
                  <a:pt x="9983" y="9423"/>
                  <a:pt x="9920" y="9517"/>
                  <a:pt x="9823" y="9550"/>
                </a:cubicBezTo>
                <a:cubicBezTo>
                  <a:pt x="9783" y="9563"/>
                  <a:pt x="9770" y="9568"/>
                  <a:pt x="9723" y="9575"/>
                </a:cubicBezTo>
              </a:path>
              <a:path w="5135" h="1589">
                <a:moveTo>
                  <a:pt x="9748" y="9401"/>
                </a:moveTo>
                <a:cubicBezTo>
                  <a:pt x="9766" y="9416"/>
                  <a:pt x="9929" y="9578"/>
                  <a:pt x="9971" y="9599"/>
                </a:cubicBezTo>
              </a:path>
              <a:path w="5135" h="1589">
                <a:moveTo>
                  <a:pt x="9401" y="9401"/>
                </a:moveTo>
                <a:cubicBezTo>
                  <a:pt x="9401" y="9376"/>
                  <a:pt x="9401" y="9352"/>
                  <a:pt x="9401" y="9327"/>
                </a:cubicBezTo>
                <a:cubicBezTo>
                  <a:pt x="9361" y="9314"/>
                  <a:pt x="9391" y="9315"/>
                  <a:pt x="9351" y="9302"/>
                </a:cubicBezTo>
                <a:cubicBezTo>
                  <a:pt x="9344" y="9279"/>
                  <a:pt x="9309" y="9263"/>
                  <a:pt x="9277" y="9252"/>
                </a:cubicBezTo>
                <a:cubicBezTo>
                  <a:pt x="9271" y="9250"/>
                  <a:pt x="9188" y="9271"/>
                  <a:pt x="9178" y="9277"/>
                </a:cubicBezTo>
                <a:cubicBezTo>
                  <a:pt x="9128" y="9305"/>
                  <a:pt x="9113" y="9356"/>
                  <a:pt x="9054" y="9376"/>
                </a:cubicBezTo>
                <a:cubicBezTo>
                  <a:pt x="9026" y="9376"/>
                  <a:pt x="9015" y="9378"/>
                  <a:pt x="9004" y="9401"/>
                </a:cubicBezTo>
              </a:path>
              <a:path w="5135" h="1589">
                <a:moveTo>
                  <a:pt x="10666" y="8706"/>
                </a:moveTo>
                <a:cubicBezTo>
                  <a:pt x="10666" y="8835"/>
                  <a:pt x="10660" y="8958"/>
                  <a:pt x="10691" y="9079"/>
                </a:cubicBezTo>
                <a:cubicBezTo>
                  <a:pt x="10691" y="9107"/>
                  <a:pt x="10688" y="9117"/>
                  <a:pt x="10666" y="9128"/>
                </a:cubicBezTo>
              </a:path>
              <a:path w="5135" h="1589">
                <a:moveTo>
                  <a:pt x="10517" y="8905"/>
                </a:moveTo>
                <a:cubicBezTo>
                  <a:pt x="10603" y="8928"/>
                  <a:pt x="10677" y="8951"/>
                  <a:pt x="10765" y="8954"/>
                </a:cubicBezTo>
                <a:cubicBezTo>
                  <a:pt x="10840" y="8954"/>
                  <a:pt x="10864" y="8954"/>
                  <a:pt x="10914" y="8954"/>
                </a:cubicBezTo>
              </a:path>
              <a:path w="5135" h="1589">
                <a:moveTo>
                  <a:pt x="11460" y="8483"/>
                </a:moveTo>
                <a:cubicBezTo>
                  <a:pt x="11410" y="8516"/>
                  <a:pt x="11422" y="8521"/>
                  <a:pt x="11385" y="8533"/>
                </a:cubicBezTo>
                <a:cubicBezTo>
                  <a:pt x="11434" y="8562"/>
                  <a:pt x="11465" y="8562"/>
                  <a:pt x="11509" y="8607"/>
                </a:cubicBezTo>
                <a:cubicBezTo>
                  <a:pt x="11550" y="8648"/>
                  <a:pt x="11613" y="8712"/>
                  <a:pt x="11584" y="8781"/>
                </a:cubicBezTo>
                <a:cubicBezTo>
                  <a:pt x="11565" y="8826"/>
                  <a:pt x="11529" y="8860"/>
                  <a:pt x="11509" y="8905"/>
                </a:cubicBezTo>
                <a:cubicBezTo>
                  <a:pt x="11494" y="8940"/>
                  <a:pt x="11477" y="8965"/>
                  <a:pt x="11435" y="8979"/>
                </a:cubicBezTo>
                <a:cubicBezTo>
                  <a:pt x="11395" y="8992"/>
                  <a:pt x="11364" y="8975"/>
                  <a:pt x="11336" y="8954"/>
                </a:cubicBezTo>
              </a:path>
              <a:path w="5135" h="1589">
                <a:moveTo>
                  <a:pt x="11807" y="8830"/>
                </a:moveTo>
                <a:cubicBezTo>
                  <a:pt x="11823" y="8760"/>
                  <a:pt x="11832" y="8741"/>
                  <a:pt x="11832" y="8682"/>
                </a:cubicBezTo>
                <a:cubicBezTo>
                  <a:pt x="11799" y="8671"/>
                  <a:pt x="11809" y="8668"/>
                  <a:pt x="11782" y="8632"/>
                </a:cubicBezTo>
              </a:path>
              <a:path w="5135" h="1589">
                <a:moveTo>
                  <a:pt x="11757" y="8434"/>
                </a:moveTo>
                <a:cubicBezTo>
                  <a:pt x="11757" y="8392"/>
                  <a:pt x="11749" y="8376"/>
                  <a:pt x="11782" y="8384"/>
                </a:cubicBezTo>
              </a:path>
              <a:path w="5135" h="1589">
                <a:moveTo>
                  <a:pt x="12030" y="8558"/>
                </a:moveTo>
                <a:cubicBezTo>
                  <a:pt x="12030" y="8663"/>
                  <a:pt x="12025" y="8764"/>
                  <a:pt x="12055" y="8855"/>
                </a:cubicBezTo>
                <a:cubicBezTo>
                  <a:pt x="12066" y="8887"/>
                  <a:pt x="12091" y="8898"/>
                  <a:pt x="12080" y="8930"/>
                </a:cubicBezTo>
                <a:cubicBezTo>
                  <a:pt x="12072" y="8938"/>
                  <a:pt x="12063" y="8946"/>
                  <a:pt x="12055" y="8954"/>
                </a:cubicBezTo>
                <a:cubicBezTo>
                  <a:pt x="12055" y="8857"/>
                  <a:pt x="12059" y="8773"/>
                  <a:pt x="12080" y="8682"/>
                </a:cubicBezTo>
                <a:cubicBezTo>
                  <a:pt x="12091" y="8633"/>
                  <a:pt x="12109" y="8565"/>
                  <a:pt x="12154" y="8533"/>
                </a:cubicBezTo>
                <a:cubicBezTo>
                  <a:pt x="12200" y="8500"/>
                  <a:pt x="12262" y="8523"/>
                  <a:pt x="12303" y="8558"/>
                </a:cubicBezTo>
                <a:cubicBezTo>
                  <a:pt x="12372" y="8617"/>
                  <a:pt x="12396" y="8699"/>
                  <a:pt x="12427" y="8781"/>
                </a:cubicBezTo>
                <a:cubicBezTo>
                  <a:pt x="12443" y="8824"/>
                  <a:pt x="12473" y="8929"/>
                  <a:pt x="12452" y="8979"/>
                </a:cubicBezTo>
                <a:cubicBezTo>
                  <a:pt x="12435" y="9019"/>
                  <a:pt x="12402" y="9012"/>
                  <a:pt x="12452" y="9029"/>
                </a:cubicBezTo>
              </a:path>
              <a:path w="5135" h="1589">
                <a:moveTo>
                  <a:pt x="12477" y="8136"/>
                </a:moveTo>
                <a:cubicBezTo>
                  <a:pt x="12533" y="8111"/>
                  <a:pt x="12554" y="8094"/>
                  <a:pt x="12601" y="8136"/>
                </a:cubicBezTo>
                <a:cubicBezTo>
                  <a:pt x="12632" y="8163"/>
                  <a:pt x="12647" y="8219"/>
                  <a:pt x="12650" y="8260"/>
                </a:cubicBezTo>
                <a:cubicBezTo>
                  <a:pt x="12653" y="8310"/>
                  <a:pt x="12632" y="8349"/>
                  <a:pt x="12601" y="8384"/>
                </a:cubicBezTo>
                <a:cubicBezTo>
                  <a:pt x="12571" y="8418"/>
                  <a:pt x="12545" y="8409"/>
                  <a:pt x="12502" y="8409"/>
                </a:cubicBezTo>
                <a:cubicBezTo>
                  <a:pt x="12514" y="8371"/>
                  <a:pt x="12523" y="8380"/>
                  <a:pt x="12551" y="8359"/>
                </a:cubicBezTo>
                <a:cubicBezTo>
                  <a:pt x="12599" y="8323"/>
                  <a:pt x="12602" y="8364"/>
                  <a:pt x="12650" y="8384"/>
                </a:cubicBezTo>
                <a:cubicBezTo>
                  <a:pt x="12675" y="8392"/>
                  <a:pt x="12700" y="8401"/>
                  <a:pt x="12725" y="8409"/>
                </a:cubicBezTo>
              </a:path>
              <a:path w="5135" h="1589">
                <a:moveTo>
                  <a:pt x="13072" y="8632"/>
                </a:moveTo>
                <a:cubicBezTo>
                  <a:pt x="13039" y="8735"/>
                  <a:pt x="13007" y="8867"/>
                  <a:pt x="12948" y="8954"/>
                </a:cubicBezTo>
                <a:cubicBezTo>
                  <a:pt x="12940" y="8962"/>
                  <a:pt x="12931" y="8971"/>
                  <a:pt x="12923" y="8979"/>
                </a:cubicBezTo>
              </a:path>
              <a:path w="5135" h="1589">
                <a:moveTo>
                  <a:pt x="12874" y="8607"/>
                </a:moveTo>
                <a:cubicBezTo>
                  <a:pt x="12917" y="8637"/>
                  <a:pt x="12963" y="8681"/>
                  <a:pt x="12998" y="8731"/>
                </a:cubicBezTo>
                <a:cubicBezTo>
                  <a:pt x="13043" y="8795"/>
                  <a:pt x="13063" y="8831"/>
                  <a:pt x="13122" y="8880"/>
                </a:cubicBezTo>
                <a:cubicBezTo>
                  <a:pt x="13160" y="8912"/>
                  <a:pt x="13249" y="8976"/>
                  <a:pt x="13271" y="9004"/>
                </a:cubicBezTo>
                <a:cubicBezTo>
                  <a:pt x="13279" y="9021"/>
                  <a:pt x="13287" y="9037"/>
                  <a:pt x="13295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46160" y="4125960"/>
            <a:ext cx="1098720" cy="312840"/>
          </a:xfrm>
          <a:custGeom>
            <a:avLst/>
            <a:gdLst/>
            <a:ahLst/>
            <a:rect l="l" t="t" r="r" b="b"/>
            <a:pathLst>
              <a:path w="3052" h="869">
                <a:moveTo>
                  <a:pt x="5581" y="11485"/>
                </a:moveTo>
                <a:cubicBezTo>
                  <a:pt x="5550" y="11495"/>
                  <a:pt x="5531" y="11544"/>
                  <a:pt x="5507" y="11584"/>
                </a:cubicBezTo>
                <a:cubicBezTo>
                  <a:pt x="5472" y="11643"/>
                  <a:pt x="5442" y="11764"/>
                  <a:pt x="5432" y="11832"/>
                </a:cubicBezTo>
                <a:cubicBezTo>
                  <a:pt x="5418" y="11927"/>
                  <a:pt x="5381" y="12058"/>
                  <a:pt x="5407" y="12154"/>
                </a:cubicBezTo>
                <a:cubicBezTo>
                  <a:pt x="5437" y="12269"/>
                  <a:pt x="5444" y="12302"/>
                  <a:pt x="5531" y="12328"/>
                </a:cubicBezTo>
                <a:cubicBezTo>
                  <a:pt x="5577" y="12342"/>
                  <a:pt x="5621" y="12324"/>
                  <a:pt x="5655" y="12303"/>
                </a:cubicBezTo>
              </a:path>
              <a:path w="3052" h="869">
                <a:moveTo>
                  <a:pt x="5829" y="11683"/>
                </a:moveTo>
                <a:cubicBezTo>
                  <a:pt x="5890" y="11683"/>
                  <a:pt x="5929" y="11668"/>
                  <a:pt x="5978" y="11658"/>
                </a:cubicBezTo>
                <a:cubicBezTo>
                  <a:pt x="6020" y="11649"/>
                  <a:pt x="6085" y="11658"/>
                  <a:pt x="6127" y="11658"/>
                </a:cubicBezTo>
              </a:path>
              <a:path w="3052" h="869">
                <a:moveTo>
                  <a:pt x="6052" y="11708"/>
                </a:moveTo>
                <a:cubicBezTo>
                  <a:pt x="6013" y="11762"/>
                  <a:pt x="6046" y="11749"/>
                  <a:pt x="6052" y="11807"/>
                </a:cubicBezTo>
                <a:cubicBezTo>
                  <a:pt x="6056" y="11845"/>
                  <a:pt x="6087" y="11894"/>
                  <a:pt x="6102" y="11931"/>
                </a:cubicBezTo>
                <a:cubicBezTo>
                  <a:pt x="6124" y="11975"/>
                  <a:pt x="6127" y="11986"/>
                  <a:pt x="6152" y="12005"/>
                </a:cubicBezTo>
                <a:cubicBezTo>
                  <a:pt x="6125" y="12050"/>
                  <a:pt x="6138" y="12090"/>
                  <a:pt x="6102" y="12129"/>
                </a:cubicBezTo>
                <a:cubicBezTo>
                  <a:pt x="6063" y="12172"/>
                  <a:pt x="6072" y="12206"/>
                  <a:pt x="6003" y="12229"/>
                </a:cubicBezTo>
                <a:cubicBezTo>
                  <a:pt x="5962" y="12243"/>
                  <a:pt x="5959" y="12204"/>
                  <a:pt x="5953" y="12179"/>
                </a:cubicBezTo>
              </a:path>
              <a:path w="3052" h="869">
                <a:moveTo>
                  <a:pt x="6424" y="11931"/>
                </a:moveTo>
                <a:cubicBezTo>
                  <a:pt x="6478" y="11931"/>
                  <a:pt x="6504" y="11911"/>
                  <a:pt x="6548" y="11906"/>
                </a:cubicBezTo>
                <a:cubicBezTo>
                  <a:pt x="6556" y="11906"/>
                  <a:pt x="6565" y="11906"/>
                  <a:pt x="6573" y="11906"/>
                </a:cubicBezTo>
              </a:path>
              <a:path w="3052" h="869">
                <a:moveTo>
                  <a:pt x="6747" y="11708"/>
                </a:moveTo>
                <a:cubicBezTo>
                  <a:pt x="6785" y="11679"/>
                  <a:pt x="6798" y="11683"/>
                  <a:pt x="6846" y="11683"/>
                </a:cubicBezTo>
                <a:cubicBezTo>
                  <a:pt x="6929" y="11683"/>
                  <a:pt x="7011" y="11683"/>
                  <a:pt x="7094" y="11683"/>
                </a:cubicBezTo>
              </a:path>
              <a:path w="3052" h="869">
                <a:moveTo>
                  <a:pt x="6921" y="11782"/>
                </a:moveTo>
                <a:cubicBezTo>
                  <a:pt x="6921" y="11870"/>
                  <a:pt x="6918" y="11932"/>
                  <a:pt x="6896" y="12005"/>
                </a:cubicBezTo>
                <a:cubicBezTo>
                  <a:pt x="6890" y="12025"/>
                  <a:pt x="6896" y="12059"/>
                  <a:pt x="6896" y="12080"/>
                </a:cubicBezTo>
              </a:path>
              <a:path w="3052" h="869">
                <a:moveTo>
                  <a:pt x="7243" y="11857"/>
                </a:moveTo>
                <a:cubicBezTo>
                  <a:pt x="7208" y="11942"/>
                  <a:pt x="7135" y="12024"/>
                  <a:pt x="7218" y="12080"/>
                </a:cubicBezTo>
                <a:cubicBezTo>
                  <a:pt x="7247" y="12099"/>
                  <a:pt x="7323" y="12068"/>
                  <a:pt x="7342" y="12055"/>
                </a:cubicBezTo>
                <a:cubicBezTo>
                  <a:pt x="7404" y="12014"/>
                  <a:pt x="7398" y="11966"/>
                  <a:pt x="7417" y="11906"/>
                </a:cubicBezTo>
                <a:cubicBezTo>
                  <a:pt x="7437" y="11866"/>
                  <a:pt x="7445" y="11859"/>
                  <a:pt x="7441" y="11832"/>
                </a:cubicBezTo>
                <a:cubicBezTo>
                  <a:pt x="7408" y="11832"/>
                  <a:pt x="7375" y="11832"/>
                  <a:pt x="7342" y="11832"/>
                </a:cubicBezTo>
              </a:path>
              <a:path w="3052" h="869">
                <a:moveTo>
                  <a:pt x="7243" y="11857"/>
                </a:moveTo>
                <a:cubicBezTo>
                  <a:pt x="7251" y="11857"/>
                  <a:pt x="7260" y="11857"/>
                  <a:pt x="7268" y="11857"/>
                </a:cubicBezTo>
              </a:path>
              <a:path w="3052" h="869">
                <a:moveTo>
                  <a:pt x="7640" y="11782"/>
                </a:moveTo>
                <a:cubicBezTo>
                  <a:pt x="7620" y="11856"/>
                  <a:pt x="7615" y="11905"/>
                  <a:pt x="7615" y="11981"/>
                </a:cubicBezTo>
                <a:cubicBezTo>
                  <a:pt x="7615" y="12005"/>
                  <a:pt x="7615" y="12013"/>
                  <a:pt x="7640" y="12005"/>
                </a:cubicBezTo>
                <a:cubicBezTo>
                  <a:pt x="7668" y="11984"/>
                  <a:pt x="7687" y="11899"/>
                  <a:pt x="7714" y="11881"/>
                </a:cubicBezTo>
                <a:cubicBezTo>
                  <a:pt x="7722" y="11881"/>
                  <a:pt x="7731" y="11881"/>
                  <a:pt x="7739" y="11881"/>
                </a:cubicBezTo>
                <a:cubicBezTo>
                  <a:pt x="7739" y="11939"/>
                  <a:pt x="7739" y="11997"/>
                  <a:pt x="7739" y="12055"/>
                </a:cubicBezTo>
                <a:cubicBezTo>
                  <a:pt x="7791" y="12055"/>
                  <a:pt x="7791" y="12060"/>
                  <a:pt x="7813" y="12030"/>
                </a:cubicBezTo>
                <a:cubicBezTo>
                  <a:pt x="7843" y="11990"/>
                  <a:pt x="7871" y="11910"/>
                  <a:pt x="7888" y="11857"/>
                </a:cubicBezTo>
                <a:cubicBezTo>
                  <a:pt x="7888" y="11832"/>
                  <a:pt x="7888" y="11824"/>
                  <a:pt x="7913" y="11832"/>
                </a:cubicBezTo>
              </a:path>
              <a:path w="3052" h="869">
                <a:moveTo>
                  <a:pt x="8037" y="11782"/>
                </a:moveTo>
                <a:cubicBezTo>
                  <a:pt x="8037" y="11877"/>
                  <a:pt x="8006" y="12030"/>
                  <a:pt x="8062" y="12105"/>
                </a:cubicBezTo>
                <a:cubicBezTo>
                  <a:pt x="8062" y="12054"/>
                  <a:pt x="8084" y="12000"/>
                  <a:pt x="8111" y="11956"/>
                </a:cubicBezTo>
                <a:cubicBezTo>
                  <a:pt x="8132" y="11921"/>
                  <a:pt x="8132" y="11916"/>
                  <a:pt x="8161" y="11906"/>
                </a:cubicBezTo>
                <a:cubicBezTo>
                  <a:pt x="8200" y="11919"/>
                  <a:pt x="8207" y="11953"/>
                  <a:pt x="8210" y="12005"/>
                </a:cubicBezTo>
                <a:cubicBezTo>
                  <a:pt x="8213" y="12063"/>
                  <a:pt x="8224" y="12099"/>
                  <a:pt x="8235" y="12154"/>
                </a:cubicBezTo>
              </a:path>
              <a:path w="3052" h="869">
                <a:moveTo>
                  <a:pt x="8210" y="11485"/>
                </a:moveTo>
                <a:cubicBezTo>
                  <a:pt x="8252" y="11454"/>
                  <a:pt x="8268" y="11448"/>
                  <a:pt x="8310" y="11485"/>
                </a:cubicBezTo>
                <a:cubicBezTo>
                  <a:pt x="8356" y="11526"/>
                  <a:pt x="8386" y="11576"/>
                  <a:pt x="8409" y="11633"/>
                </a:cubicBezTo>
                <a:cubicBezTo>
                  <a:pt x="8462" y="11768"/>
                  <a:pt x="8458" y="11887"/>
                  <a:pt x="8458" y="12030"/>
                </a:cubicBezTo>
                <a:cubicBezTo>
                  <a:pt x="8458" y="12115"/>
                  <a:pt x="8453" y="12177"/>
                  <a:pt x="8434" y="12254"/>
                </a:cubicBezTo>
                <a:cubicBezTo>
                  <a:pt x="8434" y="12262"/>
                  <a:pt x="8434" y="12270"/>
                  <a:pt x="8434" y="122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94080" y="3724200"/>
            <a:ext cx="1704960" cy="544680"/>
          </a:xfrm>
          <a:custGeom>
            <a:avLst/>
            <a:gdLst/>
            <a:ahLst/>
            <a:rect l="l" t="t" r="r" b="b"/>
            <a:pathLst>
              <a:path w="4738" h="1514">
                <a:moveTo>
                  <a:pt x="10145" y="10344"/>
                </a:moveTo>
                <a:cubicBezTo>
                  <a:pt x="10145" y="10401"/>
                  <a:pt x="10129" y="10440"/>
                  <a:pt x="10120" y="10492"/>
                </a:cubicBezTo>
                <a:cubicBezTo>
                  <a:pt x="10100" y="10609"/>
                  <a:pt x="10120" y="10744"/>
                  <a:pt x="10120" y="10864"/>
                </a:cubicBezTo>
              </a:path>
              <a:path w="4738" h="1514">
                <a:moveTo>
                  <a:pt x="9426" y="11038"/>
                </a:moveTo>
                <a:cubicBezTo>
                  <a:pt x="9517" y="11038"/>
                  <a:pt x="9589" y="11027"/>
                  <a:pt x="9674" y="11013"/>
                </a:cubicBezTo>
                <a:cubicBezTo>
                  <a:pt x="9820" y="10988"/>
                  <a:pt x="9980" y="11022"/>
                  <a:pt x="10120" y="11038"/>
                </a:cubicBezTo>
                <a:cubicBezTo>
                  <a:pt x="10276" y="11055"/>
                  <a:pt x="10438" y="11046"/>
                  <a:pt x="10592" y="11063"/>
                </a:cubicBezTo>
                <a:cubicBezTo>
                  <a:pt x="10664" y="11071"/>
                  <a:pt x="10743" y="11063"/>
                  <a:pt x="10815" y="11063"/>
                </a:cubicBezTo>
              </a:path>
              <a:path w="4738" h="1514">
                <a:moveTo>
                  <a:pt x="9798" y="11261"/>
                </a:moveTo>
                <a:cubicBezTo>
                  <a:pt x="9752" y="11307"/>
                  <a:pt x="9758" y="11332"/>
                  <a:pt x="9723" y="11385"/>
                </a:cubicBezTo>
                <a:cubicBezTo>
                  <a:pt x="9698" y="11423"/>
                  <a:pt x="9676" y="11485"/>
                  <a:pt x="9674" y="11534"/>
                </a:cubicBezTo>
                <a:cubicBezTo>
                  <a:pt x="9670" y="11643"/>
                  <a:pt x="9673" y="11689"/>
                  <a:pt x="9748" y="11757"/>
                </a:cubicBezTo>
                <a:cubicBezTo>
                  <a:pt x="9797" y="11801"/>
                  <a:pt x="9804" y="11807"/>
                  <a:pt x="9872" y="11807"/>
                </a:cubicBezTo>
                <a:cubicBezTo>
                  <a:pt x="9889" y="11807"/>
                  <a:pt x="9905" y="11807"/>
                  <a:pt x="9922" y="11807"/>
                </a:cubicBezTo>
              </a:path>
              <a:path w="4738" h="1514">
                <a:moveTo>
                  <a:pt x="10120" y="11385"/>
                </a:moveTo>
                <a:cubicBezTo>
                  <a:pt x="10077" y="11458"/>
                  <a:pt x="10052" y="11500"/>
                  <a:pt x="10046" y="11584"/>
                </a:cubicBezTo>
                <a:cubicBezTo>
                  <a:pt x="10041" y="11649"/>
                  <a:pt x="10034" y="11726"/>
                  <a:pt x="10071" y="11782"/>
                </a:cubicBezTo>
                <a:cubicBezTo>
                  <a:pt x="10104" y="11831"/>
                  <a:pt x="10154" y="11802"/>
                  <a:pt x="10195" y="11782"/>
                </a:cubicBezTo>
                <a:cubicBezTo>
                  <a:pt x="10271" y="11746"/>
                  <a:pt x="10284" y="11702"/>
                  <a:pt x="10344" y="11658"/>
                </a:cubicBezTo>
                <a:cubicBezTo>
                  <a:pt x="10412" y="11609"/>
                  <a:pt x="10403" y="11600"/>
                  <a:pt x="10443" y="11534"/>
                </a:cubicBezTo>
                <a:cubicBezTo>
                  <a:pt x="10469" y="11491"/>
                  <a:pt x="10473" y="11461"/>
                  <a:pt x="10443" y="11410"/>
                </a:cubicBezTo>
                <a:cubicBezTo>
                  <a:pt x="10419" y="11371"/>
                  <a:pt x="10360" y="11346"/>
                  <a:pt x="10319" y="11336"/>
                </a:cubicBezTo>
                <a:cubicBezTo>
                  <a:pt x="10311" y="11336"/>
                  <a:pt x="10302" y="11336"/>
                  <a:pt x="10294" y="11336"/>
                </a:cubicBezTo>
              </a:path>
              <a:path w="4738" h="1514">
                <a:moveTo>
                  <a:pt x="10691" y="11336"/>
                </a:moveTo>
                <a:cubicBezTo>
                  <a:pt x="10663" y="11364"/>
                  <a:pt x="10627" y="11398"/>
                  <a:pt x="10592" y="11410"/>
                </a:cubicBezTo>
                <a:cubicBezTo>
                  <a:pt x="10542" y="11427"/>
                  <a:pt x="10525" y="11439"/>
                  <a:pt x="10567" y="11485"/>
                </a:cubicBezTo>
                <a:cubicBezTo>
                  <a:pt x="10597" y="11518"/>
                  <a:pt x="10653" y="11559"/>
                  <a:pt x="10691" y="11584"/>
                </a:cubicBezTo>
                <a:cubicBezTo>
                  <a:pt x="10727" y="11608"/>
                  <a:pt x="10795" y="11638"/>
                  <a:pt x="10815" y="11683"/>
                </a:cubicBezTo>
                <a:cubicBezTo>
                  <a:pt x="10832" y="11722"/>
                  <a:pt x="10812" y="11779"/>
                  <a:pt x="10790" y="11807"/>
                </a:cubicBezTo>
                <a:cubicBezTo>
                  <a:pt x="10773" y="11829"/>
                  <a:pt x="10692" y="11851"/>
                  <a:pt x="10666" y="11857"/>
                </a:cubicBezTo>
                <a:cubicBezTo>
                  <a:pt x="10617" y="11868"/>
                  <a:pt x="10577" y="11833"/>
                  <a:pt x="10542" y="11807"/>
                </a:cubicBezTo>
              </a:path>
              <a:path w="4738" h="1514">
                <a:moveTo>
                  <a:pt x="11013" y="11435"/>
                </a:moveTo>
                <a:cubicBezTo>
                  <a:pt x="10976" y="11510"/>
                  <a:pt x="10939" y="11591"/>
                  <a:pt x="10889" y="11658"/>
                </a:cubicBezTo>
                <a:cubicBezTo>
                  <a:pt x="10865" y="11689"/>
                  <a:pt x="10849" y="11700"/>
                  <a:pt x="10815" y="11708"/>
                </a:cubicBezTo>
              </a:path>
              <a:path w="4738" h="1514">
                <a:moveTo>
                  <a:pt x="10815" y="11361"/>
                </a:moveTo>
                <a:cubicBezTo>
                  <a:pt x="10824" y="11426"/>
                  <a:pt x="10841" y="11438"/>
                  <a:pt x="10889" y="11485"/>
                </a:cubicBezTo>
                <a:cubicBezTo>
                  <a:pt x="10921" y="11516"/>
                  <a:pt x="10960" y="11545"/>
                  <a:pt x="10988" y="11584"/>
                </a:cubicBezTo>
                <a:cubicBezTo>
                  <a:pt x="11033" y="11647"/>
                  <a:pt x="11050" y="11661"/>
                  <a:pt x="11112" y="11708"/>
                </a:cubicBezTo>
                <a:cubicBezTo>
                  <a:pt x="11139" y="11728"/>
                  <a:pt x="11163" y="11758"/>
                  <a:pt x="11187" y="11782"/>
                </a:cubicBezTo>
              </a:path>
              <a:path w="4738" h="1514">
                <a:moveTo>
                  <a:pt x="11361" y="11063"/>
                </a:moveTo>
                <a:cubicBezTo>
                  <a:pt x="11406" y="11051"/>
                  <a:pt x="11431" y="11038"/>
                  <a:pt x="11485" y="11038"/>
                </a:cubicBezTo>
                <a:cubicBezTo>
                  <a:pt x="11592" y="11038"/>
                  <a:pt x="11700" y="11038"/>
                  <a:pt x="11807" y="11038"/>
                </a:cubicBezTo>
              </a:path>
              <a:path w="4738" h="1514">
                <a:moveTo>
                  <a:pt x="11460" y="11286"/>
                </a:moveTo>
                <a:cubicBezTo>
                  <a:pt x="11480" y="11364"/>
                  <a:pt x="11499" y="11311"/>
                  <a:pt x="11559" y="11336"/>
                </a:cubicBezTo>
                <a:cubicBezTo>
                  <a:pt x="11617" y="11360"/>
                  <a:pt x="11662" y="11361"/>
                  <a:pt x="11733" y="11361"/>
                </a:cubicBezTo>
                <a:cubicBezTo>
                  <a:pt x="11824" y="11361"/>
                  <a:pt x="11914" y="11361"/>
                  <a:pt x="12005" y="11361"/>
                </a:cubicBezTo>
              </a:path>
              <a:path w="4738" h="1514">
                <a:moveTo>
                  <a:pt x="12477" y="11063"/>
                </a:moveTo>
                <a:cubicBezTo>
                  <a:pt x="12437" y="11086"/>
                  <a:pt x="12386" y="11115"/>
                  <a:pt x="12353" y="11137"/>
                </a:cubicBezTo>
                <a:cubicBezTo>
                  <a:pt x="12336" y="11148"/>
                  <a:pt x="12294" y="11217"/>
                  <a:pt x="12303" y="11237"/>
                </a:cubicBezTo>
                <a:cubicBezTo>
                  <a:pt x="12318" y="11271"/>
                  <a:pt x="12377" y="11294"/>
                  <a:pt x="12402" y="11336"/>
                </a:cubicBezTo>
                <a:cubicBezTo>
                  <a:pt x="12423" y="11372"/>
                  <a:pt x="12492" y="11449"/>
                  <a:pt x="12502" y="11485"/>
                </a:cubicBezTo>
                <a:cubicBezTo>
                  <a:pt x="12511" y="11515"/>
                  <a:pt x="12511" y="11592"/>
                  <a:pt x="12477" y="11609"/>
                </a:cubicBezTo>
                <a:cubicBezTo>
                  <a:pt x="12436" y="11629"/>
                  <a:pt x="12357" y="11606"/>
                  <a:pt x="12328" y="11584"/>
                </a:cubicBezTo>
              </a:path>
              <a:path w="4738" h="1514">
                <a:moveTo>
                  <a:pt x="12750" y="11336"/>
                </a:moveTo>
                <a:cubicBezTo>
                  <a:pt x="12779" y="11359"/>
                  <a:pt x="12831" y="11379"/>
                  <a:pt x="12874" y="11361"/>
                </a:cubicBezTo>
                <a:cubicBezTo>
                  <a:pt x="12930" y="11337"/>
                  <a:pt x="12966" y="11289"/>
                  <a:pt x="13022" y="11261"/>
                </a:cubicBezTo>
                <a:cubicBezTo>
                  <a:pt x="13047" y="11261"/>
                  <a:pt x="13055" y="11261"/>
                  <a:pt x="13047" y="11237"/>
                </a:cubicBezTo>
                <a:cubicBezTo>
                  <a:pt x="13017" y="11214"/>
                  <a:pt x="12966" y="11194"/>
                  <a:pt x="12923" y="11212"/>
                </a:cubicBezTo>
                <a:cubicBezTo>
                  <a:pt x="12873" y="11233"/>
                  <a:pt x="12799" y="11247"/>
                  <a:pt x="12750" y="11286"/>
                </a:cubicBezTo>
                <a:cubicBezTo>
                  <a:pt x="12685" y="11337"/>
                  <a:pt x="12648" y="11398"/>
                  <a:pt x="12601" y="11460"/>
                </a:cubicBezTo>
                <a:cubicBezTo>
                  <a:pt x="12562" y="11512"/>
                  <a:pt x="12582" y="11534"/>
                  <a:pt x="12626" y="11584"/>
                </a:cubicBezTo>
                <a:cubicBezTo>
                  <a:pt x="12656" y="11618"/>
                  <a:pt x="12705" y="11618"/>
                  <a:pt x="12750" y="11609"/>
                </a:cubicBezTo>
                <a:cubicBezTo>
                  <a:pt x="12783" y="11601"/>
                  <a:pt x="12816" y="11592"/>
                  <a:pt x="12849" y="11584"/>
                </a:cubicBezTo>
              </a:path>
              <a:path w="4738" h="1514">
                <a:moveTo>
                  <a:pt x="13395" y="11261"/>
                </a:moveTo>
                <a:cubicBezTo>
                  <a:pt x="13395" y="11213"/>
                  <a:pt x="13353" y="11308"/>
                  <a:pt x="13320" y="11336"/>
                </a:cubicBezTo>
                <a:cubicBezTo>
                  <a:pt x="13247" y="11397"/>
                  <a:pt x="13259" y="11383"/>
                  <a:pt x="13221" y="11460"/>
                </a:cubicBezTo>
                <a:cubicBezTo>
                  <a:pt x="13204" y="11494"/>
                  <a:pt x="13173" y="11538"/>
                  <a:pt x="13196" y="11584"/>
                </a:cubicBezTo>
                <a:cubicBezTo>
                  <a:pt x="13220" y="11632"/>
                  <a:pt x="13301" y="11655"/>
                  <a:pt x="13345" y="11658"/>
                </a:cubicBezTo>
                <a:cubicBezTo>
                  <a:pt x="13362" y="11658"/>
                  <a:pt x="13378" y="11658"/>
                  <a:pt x="13395" y="11658"/>
                </a:cubicBezTo>
              </a:path>
              <a:path w="4738" h="1514">
                <a:moveTo>
                  <a:pt x="14015" y="11286"/>
                </a:moveTo>
                <a:cubicBezTo>
                  <a:pt x="13929" y="11384"/>
                  <a:pt x="13843" y="11454"/>
                  <a:pt x="13767" y="11559"/>
                </a:cubicBezTo>
              </a:path>
              <a:path w="4738" h="1514">
                <a:moveTo>
                  <a:pt x="13791" y="11237"/>
                </a:moveTo>
                <a:cubicBezTo>
                  <a:pt x="13831" y="11295"/>
                  <a:pt x="13860" y="11387"/>
                  <a:pt x="13915" y="11435"/>
                </a:cubicBezTo>
                <a:cubicBezTo>
                  <a:pt x="13970" y="11483"/>
                  <a:pt x="14010" y="11562"/>
                  <a:pt x="14064" y="11609"/>
                </a:cubicBezTo>
                <a:cubicBezTo>
                  <a:pt x="14106" y="11645"/>
                  <a:pt x="14128" y="11662"/>
                  <a:pt x="14163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43200" y="4537080"/>
            <a:ext cx="1635120" cy="249120"/>
          </a:xfrm>
          <a:custGeom>
            <a:avLst/>
            <a:gdLst/>
            <a:ahLst/>
            <a:rect l="l" t="t" r="r" b="b"/>
            <a:pathLst>
              <a:path w="4541" h="695">
                <a:moveTo>
                  <a:pt x="10344" y="12650"/>
                </a:moveTo>
                <a:cubicBezTo>
                  <a:pt x="10285" y="12675"/>
                  <a:pt x="10271" y="12692"/>
                  <a:pt x="10220" y="12725"/>
                </a:cubicBezTo>
                <a:cubicBezTo>
                  <a:pt x="10175" y="12754"/>
                  <a:pt x="10126" y="12766"/>
                  <a:pt x="10120" y="12824"/>
                </a:cubicBezTo>
                <a:cubicBezTo>
                  <a:pt x="10115" y="12869"/>
                  <a:pt x="10131" y="12898"/>
                  <a:pt x="10170" y="12923"/>
                </a:cubicBezTo>
                <a:cubicBezTo>
                  <a:pt x="10235" y="12965"/>
                  <a:pt x="10270" y="13014"/>
                  <a:pt x="10319" y="13072"/>
                </a:cubicBezTo>
                <a:cubicBezTo>
                  <a:pt x="10354" y="13114"/>
                  <a:pt x="10353" y="13145"/>
                  <a:pt x="10319" y="13196"/>
                </a:cubicBezTo>
                <a:cubicBezTo>
                  <a:pt x="10302" y="13222"/>
                  <a:pt x="10248" y="13243"/>
                  <a:pt x="10220" y="13246"/>
                </a:cubicBezTo>
                <a:cubicBezTo>
                  <a:pt x="10187" y="13246"/>
                  <a:pt x="10170" y="13246"/>
                  <a:pt x="10145" y="13246"/>
                </a:cubicBezTo>
              </a:path>
              <a:path w="4541" h="695">
                <a:moveTo>
                  <a:pt x="10691" y="12998"/>
                </a:moveTo>
                <a:cubicBezTo>
                  <a:pt x="10699" y="13006"/>
                  <a:pt x="10708" y="13014"/>
                  <a:pt x="10716" y="13022"/>
                </a:cubicBezTo>
                <a:cubicBezTo>
                  <a:pt x="10753" y="12994"/>
                  <a:pt x="10798" y="12974"/>
                  <a:pt x="10840" y="12948"/>
                </a:cubicBezTo>
                <a:cubicBezTo>
                  <a:pt x="10883" y="12922"/>
                  <a:pt x="10920" y="12899"/>
                  <a:pt x="10964" y="12874"/>
                </a:cubicBezTo>
              </a:path>
              <a:path w="4541" h="695">
                <a:moveTo>
                  <a:pt x="10964" y="12774"/>
                </a:moveTo>
                <a:cubicBezTo>
                  <a:pt x="10897" y="12780"/>
                  <a:pt x="10798" y="12782"/>
                  <a:pt x="10740" y="12824"/>
                </a:cubicBezTo>
                <a:cubicBezTo>
                  <a:pt x="10660" y="12882"/>
                  <a:pt x="10610" y="12950"/>
                  <a:pt x="10542" y="13022"/>
                </a:cubicBezTo>
                <a:cubicBezTo>
                  <a:pt x="10513" y="13052"/>
                  <a:pt x="10434" y="13145"/>
                  <a:pt x="10443" y="13196"/>
                </a:cubicBezTo>
                <a:cubicBezTo>
                  <a:pt x="10451" y="13247"/>
                  <a:pt x="10503" y="13256"/>
                  <a:pt x="10542" y="13271"/>
                </a:cubicBezTo>
                <a:cubicBezTo>
                  <a:pt x="10616" y="13300"/>
                  <a:pt x="10682" y="13265"/>
                  <a:pt x="10765" y="13246"/>
                </a:cubicBezTo>
              </a:path>
              <a:path w="4541" h="695">
                <a:moveTo>
                  <a:pt x="11237" y="12799"/>
                </a:moveTo>
                <a:cubicBezTo>
                  <a:pt x="11180" y="12856"/>
                  <a:pt x="11161" y="12879"/>
                  <a:pt x="11137" y="12948"/>
                </a:cubicBezTo>
                <a:cubicBezTo>
                  <a:pt x="11114" y="13013"/>
                  <a:pt x="11112" y="13053"/>
                  <a:pt x="11112" y="13122"/>
                </a:cubicBezTo>
                <a:cubicBezTo>
                  <a:pt x="11112" y="13169"/>
                  <a:pt x="11170" y="13207"/>
                  <a:pt x="11212" y="13221"/>
                </a:cubicBezTo>
                <a:cubicBezTo>
                  <a:pt x="11245" y="13232"/>
                  <a:pt x="11302" y="13221"/>
                  <a:pt x="11336" y="13221"/>
                </a:cubicBezTo>
              </a:path>
              <a:path w="4541" h="695">
                <a:moveTo>
                  <a:pt x="11881" y="12874"/>
                </a:moveTo>
                <a:cubicBezTo>
                  <a:pt x="11819" y="12936"/>
                  <a:pt x="11756" y="13000"/>
                  <a:pt x="11708" y="13072"/>
                </a:cubicBezTo>
                <a:cubicBezTo>
                  <a:pt x="11674" y="13124"/>
                  <a:pt x="11643" y="13156"/>
                  <a:pt x="11584" y="13171"/>
                </a:cubicBezTo>
              </a:path>
              <a:path w="4541" h="695">
                <a:moveTo>
                  <a:pt x="11609" y="12799"/>
                </a:moveTo>
                <a:cubicBezTo>
                  <a:pt x="11634" y="12834"/>
                  <a:pt x="11642" y="12872"/>
                  <a:pt x="11683" y="12898"/>
                </a:cubicBezTo>
                <a:cubicBezTo>
                  <a:pt x="11746" y="12938"/>
                  <a:pt x="11770" y="12986"/>
                  <a:pt x="11832" y="13022"/>
                </a:cubicBezTo>
                <a:cubicBezTo>
                  <a:pt x="11899" y="13061"/>
                  <a:pt x="11961" y="13092"/>
                  <a:pt x="12030" y="13122"/>
                </a:cubicBezTo>
              </a:path>
              <a:path w="4541" h="695">
                <a:moveTo>
                  <a:pt x="12303" y="12948"/>
                </a:moveTo>
                <a:cubicBezTo>
                  <a:pt x="12382" y="12905"/>
                  <a:pt x="12394" y="12898"/>
                  <a:pt x="12477" y="12898"/>
                </a:cubicBezTo>
                <a:cubicBezTo>
                  <a:pt x="12493" y="12898"/>
                  <a:pt x="12510" y="12898"/>
                  <a:pt x="12526" y="12898"/>
                </a:cubicBezTo>
              </a:path>
              <a:path w="4541" h="695">
                <a:moveTo>
                  <a:pt x="12303" y="13097"/>
                </a:moveTo>
                <a:cubicBezTo>
                  <a:pt x="12351" y="13137"/>
                  <a:pt x="12383" y="13166"/>
                  <a:pt x="12452" y="13146"/>
                </a:cubicBezTo>
                <a:cubicBezTo>
                  <a:pt x="12469" y="13138"/>
                  <a:pt x="12485" y="13130"/>
                  <a:pt x="12502" y="13122"/>
                </a:cubicBezTo>
              </a:path>
              <a:path w="4541" h="695">
                <a:moveTo>
                  <a:pt x="12998" y="12774"/>
                </a:moveTo>
                <a:cubicBezTo>
                  <a:pt x="12987" y="12777"/>
                  <a:pt x="12818" y="12807"/>
                  <a:pt x="12849" y="12874"/>
                </a:cubicBezTo>
                <a:cubicBezTo>
                  <a:pt x="12876" y="12933"/>
                  <a:pt x="12945" y="12984"/>
                  <a:pt x="12973" y="13047"/>
                </a:cubicBezTo>
                <a:cubicBezTo>
                  <a:pt x="12989" y="13084"/>
                  <a:pt x="12998" y="13128"/>
                  <a:pt x="12998" y="13171"/>
                </a:cubicBezTo>
                <a:cubicBezTo>
                  <a:pt x="12998" y="13198"/>
                  <a:pt x="12973" y="13218"/>
                  <a:pt x="12948" y="13221"/>
                </a:cubicBezTo>
                <a:cubicBezTo>
                  <a:pt x="12902" y="13227"/>
                  <a:pt x="12883" y="13222"/>
                  <a:pt x="12849" y="13196"/>
                </a:cubicBezTo>
              </a:path>
              <a:path w="4541" h="695">
                <a:moveTo>
                  <a:pt x="13345" y="12923"/>
                </a:moveTo>
                <a:cubicBezTo>
                  <a:pt x="13404" y="12923"/>
                  <a:pt x="13397" y="12887"/>
                  <a:pt x="13444" y="12874"/>
                </a:cubicBezTo>
                <a:cubicBezTo>
                  <a:pt x="13536" y="12849"/>
                  <a:pt x="13503" y="12865"/>
                  <a:pt x="13593" y="12774"/>
                </a:cubicBezTo>
              </a:path>
              <a:path w="4541" h="695">
                <a:moveTo>
                  <a:pt x="13593" y="12725"/>
                </a:moveTo>
                <a:cubicBezTo>
                  <a:pt x="13553" y="12725"/>
                  <a:pt x="13445" y="12728"/>
                  <a:pt x="13419" y="12750"/>
                </a:cubicBezTo>
                <a:cubicBezTo>
                  <a:pt x="13348" y="12810"/>
                  <a:pt x="13301" y="12868"/>
                  <a:pt x="13246" y="12948"/>
                </a:cubicBezTo>
                <a:cubicBezTo>
                  <a:pt x="13220" y="12986"/>
                  <a:pt x="13201" y="13072"/>
                  <a:pt x="13221" y="13122"/>
                </a:cubicBezTo>
                <a:cubicBezTo>
                  <a:pt x="13236" y="13161"/>
                  <a:pt x="13317" y="13190"/>
                  <a:pt x="13345" y="13196"/>
                </a:cubicBezTo>
                <a:cubicBezTo>
                  <a:pt x="13386" y="13196"/>
                  <a:pt x="13394" y="13196"/>
                  <a:pt x="13419" y="13196"/>
                </a:cubicBezTo>
              </a:path>
              <a:path w="4541" h="695">
                <a:moveTo>
                  <a:pt x="13866" y="12774"/>
                </a:moveTo>
                <a:cubicBezTo>
                  <a:pt x="13822" y="12785"/>
                  <a:pt x="13812" y="12810"/>
                  <a:pt x="13791" y="12849"/>
                </a:cubicBezTo>
                <a:cubicBezTo>
                  <a:pt x="13734" y="12955"/>
                  <a:pt x="13721" y="12952"/>
                  <a:pt x="13791" y="13022"/>
                </a:cubicBezTo>
                <a:cubicBezTo>
                  <a:pt x="13828" y="13059"/>
                  <a:pt x="13864" y="13047"/>
                  <a:pt x="13915" y="13047"/>
                </a:cubicBezTo>
                <a:cubicBezTo>
                  <a:pt x="13981" y="13047"/>
                  <a:pt x="14003" y="13031"/>
                  <a:pt x="14064" y="13022"/>
                </a:cubicBezTo>
              </a:path>
              <a:path w="4541" h="695">
                <a:moveTo>
                  <a:pt x="14511" y="12750"/>
                </a:moveTo>
                <a:cubicBezTo>
                  <a:pt x="14442" y="12812"/>
                  <a:pt x="14397" y="12858"/>
                  <a:pt x="14337" y="12923"/>
                </a:cubicBezTo>
                <a:cubicBezTo>
                  <a:pt x="14291" y="12970"/>
                  <a:pt x="14279" y="12984"/>
                  <a:pt x="14238" y="12998"/>
                </a:cubicBezTo>
              </a:path>
              <a:path w="4541" h="695">
                <a:moveTo>
                  <a:pt x="14238" y="12601"/>
                </a:moveTo>
                <a:cubicBezTo>
                  <a:pt x="14318" y="12659"/>
                  <a:pt x="14382" y="12717"/>
                  <a:pt x="14436" y="12799"/>
                </a:cubicBezTo>
                <a:cubicBezTo>
                  <a:pt x="14485" y="12873"/>
                  <a:pt x="14536" y="12953"/>
                  <a:pt x="14585" y="13022"/>
                </a:cubicBezTo>
                <a:cubicBezTo>
                  <a:pt x="14632" y="13069"/>
                  <a:pt x="14646" y="13081"/>
                  <a:pt x="1466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89240" y="5000760"/>
            <a:ext cx="189000" cy="241200"/>
          </a:xfrm>
          <a:custGeom>
            <a:avLst/>
            <a:gdLst/>
            <a:ahLst/>
            <a:rect l="l" t="t" r="r" b="b"/>
            <a:pathLst>
              <a:path w="521" h="670">
                <a:moveTo>
                  <a:pt x="11460" y="14511"/>
                </a:moveTo>
                <a:cubicBezTo>
                  <a:pt x="11491" y="14521"/>
                  <a:pt x="11499" y="14529"/>
                  <a:pt x="11509" y="14560"/>
                </a:cubicBezTo>
                <a:cubicBezTo>
                  <a:pt x="11485" y="14536"/>
                  <a:pt x="11476" y="14527"/>
                  <a:pt x="11460" y="14511"/>
                </a:cubicBezTo>
              </a:path>
              <a:path w="521" h="670">
                <a:moveTo>
                  <a:pt x="11385" y="14089"/>
                </a:moveTo>
                <a:cubicBezTo>
                  <a:pt x="11357" y="14156"/>
                  <a:pt x="11352" y="14176"/>
                  <a:pt x="11385" y="14238"/>
                </a:cubicBezTo>
                <a:cubicBezTo>
                  <a:pt x="11410" y="14286"/>
                  <a:pt x="11402" y="14331"/>
                  <a:pt x="11460" y="14337"/>
                </a:cubicBezTo>
                <a:cubicBezTo>
                  <a:pt x="11502" y="14342"/>
                  <a:pt x="11470" y="14349"/>
                  <a:pt x="11509" y="14362"/>
                </a:cubicBezTo>
                <a:cubicBezTo>
                  <a:pt x="11521" y="14314"/>
                  <a:pt x="11557" y="14305"/>
                  <a:pt x="11584" y="14263"/>
                </a:cubicBezTo>
                <a:cubicBezTo>
                  <a:pt x="11639" y="14177"/>
                  <a:pt x="11721" y="14121"/>
                  <a:pt x="11782" y="14039"/>
                </a:cubicBezTo>
                <a:cubicBezTo>
                  <a:pt x="11815" y="13990"/>
                  <a:pt x="11848" y="13940"/>
                  <a:pt x="11881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2054160"/>
            <a:ext cx="1224000" cy="1152720"/>
          </a:xfrm>
          <a:custGeom>
            <a:avLst/>
            <a:gdLst/>
            <a:ahLst/>
            <a:rect l="l" t="t" r="r" b="b"/>
            <a:pathLst>
              <a:path w="3400" h="3201">
                <a:moveTo>
                  <a:pt x="8533" y="6871"/>
                </a:moveTo>
                <a:cubicBezTo>
                  <a:pt x="8711" y="6871"/>
                  <a:pt x="8879" y="6864"/>
                  <a:pt x="9054" y="6846"/>
                </a:cubicBezTo>
                <a:cubicBezTo>
                  <a:pt x="9155" y="6835"/>
                  <a:pt x="9251" y="6810"/>
                  <a:pt x="9351" y="6796"/>
                </a:cubicBezTo>
                <a:cubicBezTo>
                  <a:pt x="9422" y="6786"/>
                  <a:pt x="9505" y="6787"/>
                  <a:pt x="9575" y="6772"/>
                </a:cubicBezTo>
                <a:cubicBezTo>
                  <a:pt x="9640" y="6758"/>
                  <a:pt x="9683" y="6747"/>
                  <a:pt x="9748" y="6747"/>
                </a:cubicBezTo>
              </a:path>
              <a:path w="3400" h="3201">
                <a:moveTo>
                  <a:pt x="9004" y="7144"/>
                </a:moveTo>
                <a:cubicBezTo>
                  <a:pt x="9029" y="7186"/>
                  <a:pt x="9062" y="7242"/>
                  <a:pt x="9079" y="7293"/>
                </a:cubicBezTo>
                <a:cubicBezTo>
                  <a:pt x="9115" y="7404"/>
                  <a:pt x="9116" y="7550"/>
                  <a:pt x="9128" y="7665"/>
                </a:cubicBezTo>
                <a:cubicBezTo>
                  <a:pt x="9135" y="7729"/>
                  <a:pt x="9137" y="7781"/>
                  <a:pt x="9153" y="7813"/>
                </a:cubicBezTo>
                <a:cubicBezTo>
                  <a:pt x="9153" y="7838"/>
                  <a:pt x="9153" y="7846"/>
                  <a:pt x="9153" y="7813"/>
                </a:cubicBezTo>
              </a:path>
              <a:path w="3400" h="3201">
                <a:moveTo>
                  <a:pt x="8062" y="6201"/>
                </a:moveTo>
                <a:cubicBezTo>
                  <a:pt x="8010" y="6292"/>
                  <a:pt x="7985" y="6320"/>
                  <a:pt x="7962" y="6424"/>
                </a:cubicBezTo>
                <a:cubicBezTo>
                  <a:pt x="7932" y="6557"/>
                  <a:pt x="7874" y="6683"/>
                  <a:pt x="7863" y="6821"/>
                </a:cubicBezTo>
                <a:cubicBezTo>
                  <a:pt x="7845" y="7045"/>
                  <a:pt x="7866" y="7272"/>
                  <a:pt x="7888" y="7491"/>
                </a:cubicBezTo>
                <a:cubicBezTo>
                  <a:pt x="7899" y="7603"/>
                  <a:pt x="7913" y="7654"/>
                  <a:pt x="7987" y="7739"/>
                </a:cubicBezTo>
              </a:path>
              <a:path w="3400" h="3201">
                <a:moveTo>
                  <a:pt x="9847" y="5978"/>
                </a:moveTo>
                <a:cubicBezTo>
                  <a:pt x="9873" y="6004"/>
                  <a:pt x="9913" y="6043"/>
                  <a:pt x="9922" y="6077"/>
                </a:cubicBezTo>
                <a:cubicBezTo>
                  <a:pt x="9942" y="6153"/>
                  <a:pt x="9944" y="6220"/>
                  <a:pt x="9971" y="6300"/>
                </a:cubicBezTo>
                <a:cubicBezTo>
                  <a:pt x="10018" y="6438"/>
                  <a:pt x="10074" y="6605"/>
                  <a:pt x="10096" y="6747"/>
                </a:cubicBezTo>
                <a:cubicBezTo>
                  <a:pt x="10116" y="6874"/>
                  <a:pt x="10083" y="6997"/>
                  <a:pt x="10071" y="7119"/>
                </a:cubicBezTo>
                <a:cubicBezTo>
                  <a:pt x="10058" y="7244"/>
                  <a:pt x="10017" y="7305"/>
                  <a:pt x="9971" y="7417"/>
                </a:cubicBezTo>
                <a:cubicBezTo>
                  <a:pt x="9963" y="7442"/>
                  <a:pt x="9955" y="7466"/>
                  <a:pt x="9947" y="7491"/>
                </a:cubicBezTo>
              </a:path>
              <a:path w="3400" h="3201">
                <a:moveTo>
                  <a:pt x="6796" y="6127"/>
                </a:moveTo>
                <a:cubicBezTo>
                  <a:pt x="6760" y="6163"/>
                  <a:pt x="6731" y="6207"/>
                  <a:pt x="6722" y="6251"/>
                </a:cubicBezTo>
                <a:cubicBezTo>
                  <a:pt x="6705" y="6334"/>
                  <a:pt x="6697" y="6412"/>
                  <a:pt x="6697" y="6499"/>
                </a:cubicBezTo>
                <a:cubicBezTo>
                  <a:pt x="6697" y="6552"/>
                  <a:pt x="6694" y="6607"/>
                  <a:pt x="6722" y="6648"/>
                </a:cubicBezTo>
                <a:cubicBezTo>
                  <a:pt x="6753" y="6693"/>
                  <a:pt x="6772" y="6690"/>
                  <a:pt x="6821" y="6697"/>
                </a:cubicBezTo>
              </a:path>
              <a:path w="3400" h="3201">
                <a:moveTo>
                  <a:pt x="6945" y="6251"/>
                </a:moveTo>
                <a:cubicBezTo>
                  <a:pt x="6945" y="6298"/>
                  <a:pt x="6935" y="6460"/>
                  <a:pt x="6970" y="6499"/>
                </a:cubicBezTo>
                <a:cubicBezTo>
                  <a:pt x="7008" y="6542"/>
                  <a:pt x="7129" y="6600"/>
                  <a:pt x="7193" y="6573"/>
                </a:cubicBezTo>
                <a:cubicBezTo>
                  <a:pt x="7213" y="6564"/>
                  <a:pt x="7315" y="6454"/>
                  <a:pt x="7317" y="6449"/>
                </a:cubicBezTo>
                <a:cubicBezTo>
                  <a:pt x="7340" y="6384"/>
                  <a:pt x="7378" y="6272"/>
                  <a:pt x="7392" y="6201"/>
                </a:cubicBezTo>
                <a:cubicBezTo>
                  <a:pt x="7404" y="6140"/>
                  <a:pt x="7396" y="6053"/>
                  <a:pt x="7367" y="6028"/>
                </a:cubicBezTo>
                <a:cubicBezTo>
                  <a:pt x="7316" y="5984"/>
                  <a:pt x="7283" y="6024"/>
                  <a:pt x="7218" y="6028"/>
                </a:cubicBezTo>
                <a:cubicBezTo>
                  <a:pt x="7160" y="6031"/>
                  <a:pt x="7143" y="6040"/>
                  <a:pt x="7094" y="6052"/>
                </a:cubicBezTo>
              </a:path>
              <a:path w="3400" h="3201">
                <a:moveTo>
                  <a:pt x="7516" y="5829"/>
                </a:moveTo>
                <a:cubicBezTo>
                  <a:pt x="7516" y="5875"/>
                  <a:pt x="7496" y="5888"/>
                  <a:pt x="7491" y="5928"/>
                </a:cubicBezTo>
                <a:cubicBezTo>
                  <a:pt x="7485" y="5983"/>
                  <a:pt x="7500" y="6008"/>
                  <a:pt x="7466" y="6052"/>
                </a:cubicBezTo>
                <a:cubicBezTo>
                  <a:pt x="7481" y="6073"/>
                  <a:pt x="7502" y="6145"/>
                  <a:pt x="7541" y="6127"/>
                </a:cubicBezTo>
                <a:cubicBezTo>
                  <a:pt x="7619" y="6091"/>
                  <a:pt x="7623" y="6109"/>
                  <a:pt x="7714" y="6127"/>
                </a:cubicBezTo>
                <a:cubicBezTo>
                  <a:pt x="7771" y="6139"/>
                  <a:pt x="7797" y="6160"/>
                  <a:pt x="7838" y="6201"/>
                </a:cubicBezTo>
                <a:cubicBezTo>
                  <a:pt x="7875" y="6238"/>
                  <a:pt x="7863" y="6277"/>
                  <a:pt x="7863" y="6325"/>
                </a:cubicBezTo>
                <a:cubicBezTo>
                  <a:pt x="7863" y="6333"/>
                  <a:pt x="7863" y="6342"/>
                  <a:pt x="7863" y="6350"/>
                </a:cubicBezTo>
                <a:cubicBezTo>
                  <a:pt x="7830" y="6358"/>
                  <a:pt x="7769" y="6384"/>
                  <a:pt x="7739" y="6400"/>
                </a:cubicBezTo>
                <a:cubicBezTo>
                  <a:pt x="7731" y="6408"/>
                  <a:pt x="7722" y="6416"/>
                  <a:pt x="7714" y="6424"/>
                </a:cubicBezTo>
              </a:path>
              <a:path w="3400" h="3201">
                <a:moveTo>
                  <a:pt x="7863" y="5705"/>
                </a:moveTo>
                <a:cubicBezTo>
                  <a:pt x="7834" y="5781"/>
                  <a:pt x="7817" y="5846"/>
                  <a:pt x="7813" y="5928"/>
                </a:cubicBezTo>
                <a:cubicBezTo>
                  <a:pt x="7810" y="5995"/>
                  <a:pt x="7803" y="6044"/>
                  <a:pt x="7789" y="6102"/>
                </a:cubicBezTo>
              </a:path>
              <a:path w="3400" h="3201">
                <a:moveTo>
                  <a:pt x="7590" y="5879"/>
                </a:moveTo>
                <a:cubicBezTo>
                  <a:pt x="7701" y="5934"/>
                  <a:pt x="7752" y="5978"/>
                  <a:pt x="7863" y="6028"/>
                </a:cubicBezTo>
                <a:cubicBezTo>
                  <a:pt x="7940" y="6063"/>
                  <a:pt x="8040" y="6094"/>
                  <a:pt x="8111" y="6127"/>
                </a:cubicBezTo>
                <a:cubicBezTo>
                  <a:pt x="8141" y="6157"/>
                  <a:pt x="8155" y="6168"/>
                  <a:pt x="8186" y="6176"/>
                </a:cubicBezTo>
              </a:path>
              <a:path w="3400" h="3201">
                <a:moveTo>
                  <a:pt x="8384" y="8359"/>
                </a:moveTo>
                <a:cubicBezTo>
                  <a:pt x="8299" y="8449"/>
                  <a:pt x="8220" y="8526"/>
                  <a:pt x="8161" y="8632"/>
                </a:cubicBezTo>
                <a:cubicBezTo>
                  <a:pt x="8125" y="8698"/>
                  <a:pt x="8092" y="8756"/>
                  <a:pt x="8086" y="8830"/>
                </a:cubicBezTo>
                <a:cubicBezTo>
                  <a:pt x="8083" y="8874"/>
                  <a:pt x="8152" y="8897"/>
                  <a:pt x="8186" y="8905"/>
                </a:cubicBezTo>
              </a:path>
              <a:path w="3400" h="3201">
                <a:moveTo>
                  <a:pt x="8582" y="8434"/>
                </a:moveTo>
                <a:cubicBezTo>
                  <a:pt x="8549" y="8519"/>
                  <a:pt x="8472" y="8657"/>
                  <a:pt x="8508" y="8756"/>
                </a:cubicBezTo>
                <a:cubicBezTo>
                  <a:pt x="8523" y="8797"/>
                  <a:pt x="8649" y="8790"/>
                  <a:pt x="8682" y="8781"/>
                </a:cubicBezTo>
                <a:cubicBezTo>
                  <a:pt x="8772" y="8756"/>
                  <a:pt x="8861" y="8688"/>
                  <a:pt x="8905" y="8607"/>
                </a:cubicBezTo>
                <a:cubicBezTo>
                  <a:pt x="8950" y="8525"/>
                  <a:pt x="8925" y="8456"/>
                  <a:pt x="8905" y="8384"/>
                </a:cubicBezTo>
                <a:cubicBezTo>
                  <a:pt x="8905" y="8376"/>
                  <a:pt x="8905" y="8367"/>
                  <a:pt x="8905" y="8359"/>
                </a:cubicBezTo>
                <a:cubicBezTo>
                  <a:pt x="8859" y="8341"/>
                  <a:pt x="8787" y="8349"/>
                  <a:pt x="8731" y="8384"/>
                </a:cubicBezTo>
                <a:cubicBezTo>
                  <a:pt x="8723" y="8392"/>
                  <a:pt x="8714" y="8401"/>
                  <a:pt x="8706" y="8409"/>
                </a:cubicBezTo>
              </a:path>
              <a:path w="3400" h="3201">
                <a:moveTo>
                  <a:pt x="9103" y="8359"/>
                </a:moveTo>
                <a:cubicBezTo>
                  <a:pt x="9047" y="8397"/>
                  <a:pt x="9022" y="8392"/>
                  <a:pt x="9029" y="8434"/>
                </a:cubicBezTo>
                <a:cubicBezTo>
                  <a:pt x="9039" y="8462"/>
                  <a:pt x="9068" y="8463"/>
                  <a:pt x="9103" y="8483"/>
                </a:cubicBezTo>
                <a:cubicBezTo>
                  <a:pt x="9175" y="8525"/>
                  <a:pt x="9286" y="8550"/>
                  <a:pt x="9327" y="8632"/>
                </a:cubicBezTo>
                <a:cubicBezTo>
                  <a:pt x="9351" y="8679"/>
                  <a:pt x="9297" y="8724"/>
                  <a:pt x="9277" y="8756"/>
                </a:cubicBezTo>
                <a:cubicBezTo>
                  <a:pt x="9232" y="8830"/>
                  <a:pt x="9193" y="8816"/>
                  <a:pt x="9128" y="8855"/>
                </a:cubicBezTo>
                <a:cubicBezTo>
                  <a:pt x="9064" y="8893"/>
                  <a:pt x="9061" y="8874"/>
                  <a:pt x="9004" y="8855"/>
                </a:cubicBezTo>
                <a:cubicBezTo>
                  <a:pt x="8969" y="8855"/>
                  <a:pt x="8956" y="8846"/>
                  <a:pt x="8954" y="8806"/>
                </a:cubicBezTo>
              </a:path>
              <a:path w="3400" h="3201">
                <a:moveTo>
                  <a:pt x="9327" y="8136"/>
                </a:moveTo>
                <a:cubicBezTo>
                  <a:pt x="9334" y="8090"/>
                  <a:pt x="9333" y="8067"/>
                  <a:pt x="9376" y="8062"/>
                </a:cubicBezTo>
                <a:cubicBezTo>
                  <a:pt x="9408" y="8058"/>
                  <a:pt x="9458" y="8052"/>
                  <a:pt x="9475" y="8086"/>
                </a:cubicBezTo>
                <a:cubicBezTo>
                  <a:pt x="9497" y="8131"/>
                  <a:pt x="9500" y="8183"/>
                  <a:pt x="9500" y="8235"/>
                </a:cubicBezTo>
                <a:cubicBezTo>
                  <a:pt x="9500" y="8278"/>
                  <a:pt x="9456" y="8305"/>
                  <a:pt x="9426" y="8334"/>
                </a:cubicBezTo>
                <a:cubicBezTo>
                  <a:pt x="9396" y="8364"/>
                  <a:pt x="9391" y="8359"/>
                  <a:pt x="9351" y="8359"/>
                </a:cubicBezTo>
                <a:cubicBezTo>
                  <a:pt x="9351" y="8302"/>
                  <a:pt x="9336" y="8284"/>
                  <a:pt x="9401" y="8260"/>
                </a:cubicBezTo>
                <a:cubicBezTo>
                  <a:pt x="9457" y="8239"/>
                  <a:pt x="9504" y="8274"/>
                  <a:pt x="9550" y="8285"/>
                </a:cubicBezTo>
              </a:path>
              <a:path w="3400" h="3201">
                <a:moveTo>
                  <a:pt x="9947" y="8434"/>
                </a:moveTo>
                <a:cubicBezTo>
                  <a:pt x="9896" y="8535"/>
                  <a:pt x="9833" y="8666"/>
                  <a:pt x="9773" y="8756"/>
                </a:cubicBezTo>
                <a:cubicBezTo>
                  <a:pt x="9749" y="8792"/>
                  <a:pt x="9754" y="8796"/>
                  <a:pt x="9723" y="8806"/>
                </a:cubicBezTo>
              </a:path>
              <a:path w="3400" h="3201">
                <a:moveTo>
                  <a:pt x="9674" y="8434"/>
                </a:moveTo>
                <a:cubicBezTo>
                  <a:pt x="9708" y="8468"/>
                  <a:pt x="9741" y="8531"/>
                  <a:pt x="9773" y="8558"/>
                </a:cubicBezTo>
                <a:cubicBezTo>
                  <a:pt x="9830" y="8606"/>
                  <a:pt x="9911" y="8637"/>
                  <a:pt x="9971" y="8682"/>
                </a:cubicBezTo>
                <a:cubicBezTo>
                  <a:pt x="10023" y="8722"/>
                  <a:pt x="10037" y="8746"/>
                  <a:pt x="10046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2643120"/>
            <a:ext cx="1222560" cy="928800"/>
          </a:xfrm>
          <a:custGeom>
            <a:avLst/>
            <a:gdLst/>
            <a:ahLst/>
            <a:rect l="l" t="t" r="r" b="b"/>
            <a:pathLst>
              <a:path w="3399" h="2581">
                <a:moveTo>
                  <a:pt x="11361" y="9128"/>
                </a:moveTo>
                <a:cubicBezTo>
                  <a:pt x="11405" y="9122"/>
                  <a:pt x="11442" y="9109"/>
                  <a:pt x="11485" y="9103"/>
                </a:cubicBezTo>
                <a:cubicBezTo>
                  <a:pt x="11677" y="9075"/>
                  <a:pt x="11893" y="9106"/>
                  <a:pt x="12080" y="9128"/>
                </a:cubicBezTo>
                <a:cubicBezTo>
                  <a:pt x="12242" y="9147"/>
                  <a:pt x="12494" y="9168"/>
                  <a:pt x="12650" y="9153"/>
                </a:cubicBezTo>
                <a:cubicBezTo>
                  <a:pt x="12734" y="9145"/>
                  <a:pt x="12825" y="9153"/>
                  <a:pt x="12923" y="9153"/>
                </a:cubicBezTo>
                <a:cubicBezTo>
                  <a:pt x="12956" y="9153"/>
                  <a:pt x="12973" y="9153"/>
                  <a:pt x="12998" y="9153"/>
                </a:cubicBezTo>
              </a:path>
              <a:path w="3399" h="2581">
                <a:moveTo>
                  <a:pt x="11708" y="9401"/>
                </a:moveTo>
                <a:cubicBezTo>
                  <a:pt x="11650" y="9459"/>
                  <a:pt x="11686" y="9459"/>
                  <a:pt x="11658" y="9525"/>
                </a:cubicBezTo>
                <a:cubicBezTo>
                  <a:pt x="11640" y="9569"/>
                  <a:pt x="11633" y="9596"/>
                  <a:pt x="11633" y="9649"/>
                </a:cubicBezTo>
                <a:cubicBezTo>
                  <a:pt x="11633" y="9718"/>
                  <a:pt x="11655" y="9725"/>
                  <a:pt x="11708" y="9748"/>
                </a:cubicBezTo>
                <a:cubicBezTo>
                  <a:pt x="11788" y="9783"/>
                  <a:pt x="11763" y="9776"/>
                  <a:pt x="11857" y="9748"/>
                </a:cubicBezTo>
              </a:path>
              <a:path w="3399" h="2581">
                <a:moveTo>
                  <a:pt x="12080" y="9475"/>
                </a:moveTo>
                <a:cubicBezTo>
                  <a:pt x="12045" y="9536"/>
                  <a:pt x="12030" y="9554"/>
                  <a:pt x="12030" y="9624"/>
                </a:cubicBezTo>
                <a:cubicBezTo>
                  <a:pt x="12030" y="9665"/>
                  <a:pt x="12076" y="9655"/>
                  <a:pt x="12105" y="9674"/>
                </a:cubicBezTo>
                <a:cubicBezTo>
                  <a:pt x="12151" y="9706"/>
                  <a:pt x="12197" y="9693"/>
                  <a:pt x="12254" y="9674"/>
                </a:cubicBezTo>
                <a:cubicBezTo>
                  <a:pt x="12327" y="9649"/>
                  <a:pt x="12374" y="9603"/>
                  <a:pt x="12427" y="9550"/>
                </a:cubicBezTo>
                <a:cubicBezTo>
                  <a:pt x="12452" y="9525"/>
                  <a:pt x="12477" y="9500"/>
                  <a:pt x="12502" y="9475"/>
                </a:cubicBezTo>
                <a:cubicBezTo>
                  <a:pt x="12465" y="9457"/>
                  <a:pt x="12447" y="9416"/>
                  <a:pt x="12402" y="9401"/>
                </a:cubicBezTo>
                <a:cubicBezTo>
                  <a:pt x="12374" y="9401"/>
                  <a:pt x="12364" y="9398"/>
                  <a:pt x="12353" y="9376"/>
                </a:cubicBezTo>
              </a:path>
              <a:path w="3399" h="2581">
                <a:moveTo>
                  <a:pt x="12874" y="9426"/>
                </a:moveTo>
                <a:cubicBezTo>
                  <a:pt x="12830" y="9502"/>
                  <a:pt x="12839" y="9477"/>
                  <a:pt x="12774" y="9500"/>
                </a:cubicBezTo>
                <a:cubicBezTo>
                  <a:pt x="12727" y="9517"/>
                  <a:pt x="12710" y="9545"/>
                  <a:pt x="12700" y="9575"/>
                </a:cubicBezTo>
                <a:cubicBezTo>
                  <a:pt x="12724" y="9583"/>
                  <a:pt x="12747" y="9606"/>
                  <a:pt x="12774" y="9624"/>
                </a:cubicBezTo>
                <a:cubicBezTo>
                  <a:pt x="12795" y="9638"/>
                  <a:pt x="12864" y="9680"/>
                  <a:pt x="12874" y="9699"/>
                </a:cubicBezTo>
                <a:cubicBezTo>
                  <a:pt x="12887" y="9725"/>
                  <a:pt x="12875" y="9785"/>
                  <a:pt x="12849" y="9798"/>
                </a:cubicBezTo>
                <a:cubicBezTo>
                  <a:pt x="12820" y="9813"/>
                  <a:pt x="12820" y="9842"/>
                  <a:pt x="12774" y="9847"/>
                </a:cubicBezTo>
                <a:cubicBezTo>
                  <a:pt x="12766" y="9847"/>
                  <a:pt x="12758" y="9847"/>
                  <a:pt x="12750" y="9847"/>
                </a:cubicBezTo>
              </a:path>
              <a:path w="3399" h="2581">
                <a:moveTo>
                  <a:pt x="13295" y="9525"/>
                </a:moveTo>
                <a:cubicBezTo>
                  <a:pt x="13251" y="9606"/>
                  <a:pt x="13232" y="9639"/>
                  <a:pt x="13171" y="9699"/>
                </a:cubicBezTo>
                <a:cubicBezTo>
                  <a:pt x="13139" y="9730"/>
                  <a:pt x="13116" y="9768"/>
                  <a:pt x="13072" y="9773"/>
                </a:cubicBezTo>
                <a:cubicBezTo>
                  <a:pt x="13064" y="9773"/>
                  <a:pt x="13055" y="9773"/>
                  <a:pt x="13047" y="9773"/>
                </a:cubicBezTo>
              </a:path>
              <a:path w="3399" h="2581">
                <a:moveTo>
                  <a:pt x="13072" y="9599"/>
                </a:moveTo>
                <a:cubicBezTo>
                  <a:pt x="13125" y="9676"/>
                  <a:pt x="13180" y="9732"/>
                  <a:pt x="13246" y="9798"/>
                </a:cubicBezTo>
                <a:cubicBezTo>
                  <a:pt x="13293" y="9845"/>
                  <a:pt x="13313" y="9866"/>
                  <a:pt x="13345" y="9922"/>
                </a:cubicBezTo>
              </a:path>
              <a:path w="3399" h="2581">
                <a:moveTo>
                  <a:pt x="9947" y="8186"/>
                </a:moveTo>
                <a:cubicBezTo>
                  <a:pt x="9971" y="8171"/>
                  <a:pt x="9993" y="8179"/>
                  <a:pt x="10021" y="8161"/>
                </a:cubicBezTo>
                <a:cubicBezTo>
                  <a:pt x="10041" y="8148"/>
                  <a:pt x="10118" y="8082"/>
                  <a:pt x="10145" y="8062"/>
                </a:cubicBezTo>
                <a:cubicBezTo>
                  <a:pt x="10187" y="8031"/>
                  <a:pt x="10229" y="8011"/>
                  <a:pt x="10269" y="7987"/>
                </a:cubicBezTo>
                <a:cubicBezTo>
                  <a:pt x="10327" y="7952"/>
                  <a:pt x="10360" y="7934"/>
                  <a:pt x="10418" y="7913"/>
                </a:cubicBezTo>
                <a:cubicBezTo>
                  <a:pt x="10493" y="7886"/>
                  <a:pt x="10529" y="7850"/>
                  <a:pt x="10616" y="7838"/>
                </a:cubicBezTo>
                <a:cubicBezTo>
                  <a:pt x="10664" y="7831"/>
                  <a:pt x="10705" y="7861"/>
                  <a:pt x="10716" y="7863"/>
                </a:cubicBezTo>
                <a:cubicBezTo>
                  <a:pt x="10778" y="7876"/>
                  <a:pt x="10744" y="7867"/>
                  <a:pt x="10790" y="7913"/>
                </a:cubicBezTo>
                <a:cubicBezTo>
                  <a:pt x="10825" y="7948"/>
                  <a:pt x="10873" y="7951"/>
                  <a:pt x="10914" y="7987"/>
                </a:cubicBezTo>
                <a:cubicBezTo>
                  <a:pt x="10963" y="8031"/>
                  <a:pt x="11003" y="8056"/>
                  <a:pt x="11063" y="8086"/>
                </a:cubicBezTo>
                <a:cubicBezTo>
                  <a:pt x="11121" y="8115"/>
                  <a:pt x="11172" y="8171"/>
                  <a:pt x="11237" y="8186"/>
                </a:cubicBezTo>
                <a:cubicBezTo>
                  <a:pt x="11281" y="8186"/>
                  <a:pt x="11294" y="8183"/>
                  <a:pt x="11311" y="8210"/>
                </a:cubicBezTo>
              </a:path>
              <a:path w="3399" h="2581">
                <a:moveTo>
                  <a:pt x="10716" y="7342"/>
                </a:moveTo>
                <a:cubicBezTo>
                  <a:pt x="10716" y="7419"/>
                  <a:pt x="10719" y="7476"/>
                  <a:pt x="10740" y="7541"/>
                </a:cubicBezTo>
                <a:cubicBezTo>
                  <a:pt x="10749" y="7569"/>
                  <a:pt x="10740" y="7610"/>
                  <a:pt x="10740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7960" y="3517920"/>
            <a:ext cx="1108080" cy="581040"/>
          </a:xfrm>
          <a:custGeom>
            <a:avLst/>
            <a:gdLst/>
            <a:ahLst/>
            <a:rect l="l" t="t" r="r" b="b"/>
            <a:pathLst>
              <a:path w="3077" h="1613">
                <a:moveTo>
                  <a:pt x="4837" y="9823"/>
                </a:moveTo>
                <a:cubicBezTo>
                  <a:pt x="4763" y="9902"/>
                  <a:pt x="4714" y="9957"/>
                  <a:pt x="4663" y="10046"/>
                </a:cubicBezTo>
                <a:cubicBezTo>
                  <a:pt x="4738" y="10046"/>
                  <a:pt x="4769" y="10070"/>
                  <a:pt x="4837" y="10096"/>
                </a:cubicBezTo>
                <a:cubicBezTo>
                  <a:pt x="4905" y="10122"/>
                  <a:pt x="5032" y="10135"/>
                  <a:pt x="5060" y="10220"/>
                </a:cubicBezTo>
                <a:cubicBezTo>
                  <a:pt x="5082" y="10284"/>
                  <a:pt x="5062" y="10411"/>
                  <a:pt x="5035" y="10468"/>
                </a:cubicBezTo>
                <a:cubicBezTo>
                  <a:pt x="5007" y="10526"/>
                  <a:pt x="4966" y="10651"/>
                  <a:pt x="4911" y="10691"/>
                </a:cubicBezTo>
                <a:cubicBezTo>
                  <a:pt x="4869" y="10721"/>
                  <a:pt x="4807" y="10799"/>
                  <a:pt x="4787" y="10740"/>
                </a:cubicBezTo>
              </a:path>
              <a:path w="3077" h="1613">
                <a:moveTo>
                  <a:pt x="5333" y="9773"/>
                </a:moveTo>
                <a:cubicBezTo>
                  <a:pt x="5358" y="9896"/>
                  <a:pt x="5356" y="9996"/>
                  <a:pt x="5333" y="10120"/>
                </a:cubicBezTo>
                <a:cubicBezTo>
                  <a:pt x="5313" y="10229"/>
                  <a:pt x="5288" y="10333"/>
                  <a:pt x="5283" y="10443"/>
                </a:cubicBezTo>
                <a:cubicBezTo>
                  <a:pt x="5281" y="10493"/>
                  <a:pt x="5269" y="10500"/>
                  <a:pt x="5259" y="10542"/>
                </a:cubicBezTo>
              </a:path>
              <a:path w="3077" h="1613">
                <a:moveTo>
                  <a:pt x="5159" y="10145"/>
                </a:moveTo>
                <a:cubicBezTo>
                  <a:pt x="5209" y="10096"/>
                  <a:pt x="5240" y="10063"/>
                  <a:pt x="5308" y="10046"/>
                </a:cubicBezTo>
                <a:cubicBezTo>
                  <a:pt x="5358" y="10033"/>
                  <a:pt x="5429" y="10046"/>
                  <a:pt x="5482" y="10046"/>
                </a:cubicBezTo>
              </a:path>
              <a:path w="3077" h="1613">
                <a:moveTo>
                  <a:pt x="5457" y="10269"/>
                </a:moveTo>
                <a:cubicBezTo>
                  <a:pt x="5492" y="10292"/>
                  <a:pt x="5492" y="10274"/>
                  <a:pt x="5556" y="10244"/>
                </a:cubicBezTo>
                <a:cubicBezTo>
                  <a:pt x="5640" y="10205"/>
                  <a:pt x="5677" y="10140"/>
                  <a:pt x="5730" y="10071"/>
                </a:cubicBezTo>
                <a:cubicBezTo>
                  <a:pt x="5756" y="10038"/>
                  <a:pt x="5770" y="10035"/>
                  <a:pt x="5779" y="9996"/>
                </a:cubicBezTo>
                <a:cubicBezTo>
                  <a:pt x="5729" y="9996"/>
                  <a:pt x="5697" y="10014"/>
                  <a:pt x="5655" y="10046"/>
                </a:cubicBezTo>
                <a:cubicBezTo>
                  <a:pt x="5590" y="10095"/>
                  <a:pt x="5538" y="10169"/>
                  <a:pt x="5507" y="10244"/>
                </a:cubicBezTo>
                <a:cubicBezTo>
                  <a:pt x="5466" y="10342"/>
                  <a:pt x="5438" y="10399"/>
                  <a:pt x="5507" y="10492"/>
                </a:cubicBezTo>
                <a:cubicBezTo>
                  <a:pt x="5548" y="10548"/>
                  <a:pt x="5600" y="10554"/>
                  <a:pt x="5655" y="10517"/>
                </a:cubicBezTo>
                <a:cubicBezTo>
                  <a:pt x="5685" y="10487"/>
                  <a:pt x="5699" y="10476"/>
                  <a:pt x="5730" y="10468"/>
                </a:cubicBezTo>
              </a:path>
              <a:path w="3077" h="1613">
                <a:moveTo>
                  <a:pt x="5879" y="10071"/>
                </a:moveTo>
                <a:cubicBezTo>
                  <a:pt x="5904" y="10231"/>
                  <a:pt x="5902" y="10325"/>
                  <a:pt x="6003" y="10443"/>
                </a:cubicBezTo>
                <a:cubicBezTo>
                  <a:pt x="6037" y="10483"/>
                  <a:pt x="6052" y="10492"/>
                  <a:pt x="6102" y="10492"/>
                </a:cubicBezTo>
                <a:cubicBezTo>
                  <a:pt x="6114" y="10399"/>
                  <a:pt x="6165" y="10317"/>
                  <a:pt x="6176" y="10220"/>
                </a:cubicBezTo>
                <a:cubicBezTo>
                  <a:pt x="6185" y="10140"/>
                  <a:pt x="6180" y="10061"/>
                  <a:pt x="6226" y="10021"/>
                </a:cubicBezTo>
                <a:cubicBezTo>
                  <a:pt x="6234" y="10013"/>
                  <a:pt x="6243" y="10004"/>
                  <a:pt x="6251" y="9996"/>
                </a:cubicBezTo>
              </a:path>
              <a:path w="3077" h="1613">
                <a:moveTo>
                  <a:pt x="6276" y="10269"/>
                </a:moveTo>
                <a:cubicBezTo>
                  <a:pt x="6370" y="10243"/>
                  <a:pt x="6403" y="10256"/>
                  <a:pt x="6449" y="10170"/>
                </a:cubicBezTo>
                <a:cubicBezTo>
                  <a:pt x="6483" y="10107"/>
                  <a:pt x="6541" y="10070"/>
                  <a:pt x="6548" y="9996"/>
                </a:cubicBezTo>
                <a:cubicBezTo>
                  <a:pt x="6548" y="9988"/>
                  <a:pt x="6548" y="9979"/>
                  <a:pt x="6548" y="9971"/>
                </a:cubicBezTo>
                <a:cubicBezTo>
                  <a:pt x="6501" y="10007"/>
                  <a:pt x="6462" y="10039"/>
                  <a:pt x="6424" y="10096"/>
                </a:cubicBezTo>
                <a:cubicBezTo>
                  <a:pt x="6378" y="10165"/>
                  <a:pt x="6305" y="10243"/>
                  <a:pt x="6276" y="10319"/>
                </a:cubicBezTo>
                <a:cubicBezTo>
                  <a:pt x="6255" y="10374"/>
                  <a:pt x="6279" y="10406"/>
                  <a:pt x="6325" y="10418"/>
                </a:cubicBezTo>
              </a:path>
              <a:path w="3077" h="1613">
                <a:moveTo>
                  <a:pt x="6598" y="10542"/>
                </a:moveTo>
                <a:cubicBezTo>
                  <a:pt x="6606" y="10550"/>
                  <a:pt x="6615" y="10559"/>
                  <a:pt x="6623" y="10567"/>
                </a:cubicBezTo>
                <a:cubicBezTo>
                  <a:pt x="6667" y="10538"/>
                  <a:pt x="6666" y="10432"/>
                  <a:pt x="6697" y="10368"/>
                </a:cubicBezTo>
                <a:cubicBezTo>
                  <a:pt x="6732" y="10295"/>
                  <a:pt x="6789" y="10227"/>
                  <a:pt x="6846" y="10170"/>
                </a:cubicBezTo>
                <a:cubicBezTo>
                  <a:pt x="6874" y="10179"/>
                  <a:pt x="6913" y="10250"/>
                  <a:pt x="6921" y="10294"/>
                </a:cubicBezTo>
                <a:cubicBezTo>
                  <a:pt x="6939" y="10395"/>
                  <a:pt x="6911" y="10501"/>
                  <a:pt x="6921" y="10592"/>
                </a:cubicBezTo>
                <a:cubicBezTo>
                  <a:pt x="6921" y="10633"/>
                  <a:pt x="6921" y="10641"/>
                  <a:pt x="6921" y="10666"/>
                </a:cubicBezTo>
              </a:path>
              <a:path w="3077" h="1613">
                <a:moveTo>
                  <a:pt x="5978" y="10765"/>
                </a:moveTo>
                <a:cubicBezTo>
                  <a:pt x="5916" y="10936"/>
                  <a:pt x="5823" y="11034"/>
                  <a:pt x="5928" y="11187"/>
                </a:cubicBezTo>
                <a:cubicBezTo>
                  <a:pt x="5984" y="11269"/>
                  <a:pt x="6035" y="11214"/>
                  <a:pt x="6102" y="11187"/>
                </a:cubicBezTo>
                <a:cubicBezTo>
                  <a:pt x="6230" y="11137"/>
                  <a:pt x="6237" y="11077"/>
                  <a:pt x="6300" y="10964"/>
                </a:cubicBezTo>
                <a:cubicBezTo>
                  <a:pt x="6350" y="10873"/>
                  <a:pt x="6394" y="10726"/>
                  <a:pt x="6375" y="10616"/>
                </a:cubicBezTo>
                <a:cubicBezTo>
                  <a:pt x="6367" y="10600"/>
                  <a:pt x="6358" y="10583"/>
                  <a:pt x="6350" y="10567"/>
                </a:cubicBezTo>
                <a:cubicBezTo>
                  <a:pt x="6293" y="10524"/>
                  <a:pt x="6265" y="10560"/>
                  <a:pt x="6201" y="10592"/>
                </a:cubicBezTo>
                <a:cubicBezTo>
                  <a:pt x="6149" y="10618"/>
                  <a:pt x="6101" y="10669"/>
                  <a:pt x="6052" y="10691"/>
                </a:cubicBezTo>
                <a:cubicBezTo>
                  <a:pt x="6020" y="10691"/>
                  <a:pt x="6012" y="10699"/>
                  <a:pt x="6028" y="10740"/>
                </a:cubicBezTo>
              </a:path>
              <a:path w="3077" h="1613">
                <a:moveTo>
                  <a:pt x="6424" y="10864"/>
                </a:moveTo>
                <a:cubicBezTo>
                  <a:pt x="6385" y="10983"/>
                  <a:pt x="6355" y="11087"/>
                  <a:pt x="6350" y="11212"/>
                </a:cubicBezTo>
                <a:cubicBezTo>
                  <a:pt x="6347" y="11300"/>
                  <a:pt x="6349" y="11296"/>
                  <a:pt x="6424" y="11311"/>
                </a:cubicBezTo>
                <a:cubicBezTo>
                  <a:pt x="6476" y="11246"/>
                  <a:pt x="6518" y="11191"/>
                  <a:pt x="6548" y="11112"/>
                </a:cubicBezTo>
                <a:cubicBezTo>
                  <a:pt x="6585" y="11015"/>
                  <a:pt x="6594" y="10893"/>
                  <a:pt x="6598" y="10790"/>
                </a:cubicBezTo>
                <a:cubicBezTo>
                  <a:pt x="6600" y="10736"/>
                  <a:pt x="6615" y="10680"/>
                  <a:pt x="6573" y="10666"/>
                </a:cubicBezTo>
                <a:cubicBezTo>
                  <a:pt x="6538" y="10713"/>
                  <a:pt x="6548" y="10753"/>
                  <a:pt x="6548" y="10815"/>
                </a:cubicBezTo>
                <a:cubicBezTo>
                  <a:pt x="6548" y="10900"/>
                  <a:pt x="6567" y="11036"/>
                  <a:pt x="6598" y="11112"/>
                </a:cubicBezTo>
                <a:cubicBezTo>
                  <a:pt x="6613" y="11149"/>
                  <a:pt x="6626" y="11172"/>
                  <a:pt x="6648" y="11187"/>
                </a:cubicBezTo>
              </a:path>
              <a:path w="3077" h="1613">
                <a:moveTo>
                  <a:pt x="6796" y="10691"/>
                </a:moveTo>
                <a:cubicBezTo>
                  <a:pt x="6796" y="10828"/>
                  <a:pt x="6807" y="10955"/>
                  <a:pt x="6821" y="11088"/>
                </a:cubicBezTo>
                <a:cubicBezTo>
                  <a:pt x="6829" y="11161"/>
                  <a:pt x="6832" y="11217"/>
                  <a:pt x="6846" y="11286"/>
                </a:cubicBezTo>
              </a:path>
              <a:path w="3077" h="1613">
                <a:moveTo>
                  <a:pt x="6995" y="10939"/>
                </a:moveTo>
                <a:cubicBezTo>
                  <a:pt x="6972" y="11054"/>
                  <a:pt x="6956" y="11154"/>
                  <a:pt x="6970" y="11261"/>
                </a:cubicBezTo>
                <a:cubicBezTo>
                  <a:pt x="6970" y="11286"/>
                  <a:pt x="6970" y="11294"/>
                  <a:pt x="6970" y="11311"/>
                </a:cubicBezTo>
                <a:cubicBezTo>
                  <a:pt x="7027" y="11297"/>
                  <a:pt x="7063" y="11265"/>
                  <a:pt x="7094" y="11212"/>
                </a:cubicBezTo>
                <a:cubicBezTo>
                  <a:pt x="7131" y="11150"/>
                  <a:pt x="7163" y="11066"/>
                  <a:pt x="7218" y="11038"/>
                </a:cubicBezTo>
                <a:cubicBezTo>
                  <a:pt x="7218" y="11154"/>
                  <a:pt x="7218" y="11269"/>
                  <a:pt x="7218" y="11385"/>
                </a:cubicBezTo>
              </a:path>
              <a:path w="3077" h="1613">
                <a:moveTo>
                  <a:pt x="7367" y="11088"/>
                </a:moveTo>
                <a:cubicBezTo>
                  <a:pt x="7353" y="11184"/>
                  <a:pt x="7367" y="11203"/>
                  <a:pt x="7367" y="11286"/>
                </a:cubicBezTo>
                <a:cubicBezTo>
                  <a:pt x="7395" y="11250"/>
                  <a:pt x="7410" y="11185"/>
                  <a:pt x="7417" y="11137"/>
                </a:cubicBezTo>
                <a:cubicBezTo>
                  <a:pt x="7428" y="11067"/>
                  <a:pt x="7424" y="11010"/>
                  <a:pt x="7441" y="10939"/>
                </a:cubicBezTo>
              </a:path>
              <a:path w="3077" h="1613">
                <a:moveTo>
                  <a:pt x="7466" y="10889"/>
                </a:moveTo>
                <a:cubicBezTo>
                  <a:pt x="7466" y="10988"/>
                  <a:pt x="7466" y="11088"/>
                  <a:pt x="7466" y="11187"/>
                </a:cubicBezTo>
                <a:cubicBezTo>
                  <a:pt x="7522" y="11131"/>
                  <a:pt x="7564" y="11072"/>
                  <a:pt x="7615" y="11013"/>
                </a:cubicBezTo>
                <a:cubicBezTo>
                  <a:pt x="7650" y="10972"/>
                  <a:pt x="7670" y="10950"/>
                  <a:pt x="7714" y="10939"/>
                </a:cubicBezTo>
                <a:cubicBezTo>
                  <a:pt x="7753" y="11055"/>
                  <a:pt x="7728" y="11140"/>
                  <a:pt x="7714" y="11261"/>
                </a:cubicBezTo>
                <a:cubicBezTo>
                  <a:pt x="7714" y="11278"/>
                  <a:pt x="7714" y="11294"/>
                  <a:pt x="7714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Find the error in the verification: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(Ta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x + 1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(Sec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x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Verdana"/>
              </a:rPr>
              <a:t>cos x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946080" y="4133880"/>
            <a:ext cx="1500120" cy="1063440"/>
          </a:xfrm>
          <a:custGeom>
            <a:avLst/>
            <a:gdLst/>
            <a:ahLst/>
            <a:rect l="l" t="t" r="r" b="b"/>
            <a:pathLst>
              <a:path w="4168" h="2952">
                <a:moveTo>
                  <a:pt x="3249" y="12824"/>
                </a:moveTo>
                <a:cubicBezTo>
                  <a:pt x="3394" y="12921"/>
                  <a:pt x="3510" y="13025"/>
                  <a:pt x="3646" y="13122"/>
                </a:cubicBezTo>
                <a:cubicBezTo>
                  <a:pt x="3691" y="13154"/>
                  <a:pt x="3687" y="13160"/>
                  <a:pt x="3721" y="13171"/>
                </a:cubicBezTo>
                <a:cubicBezTo>
                  <a:pt x="3693" y="13143"/>
                  <a:pt x="3684" y="13130"/>
                  <a:pt x="3696" y="13097"/>
                </a:cubicBezTo>
              </a:path>
              <a:path w="4168" h="2952">
                <a:moveTo>
                  <a:pt x="3746" y="12129"/>
                </a:moveTo>
                <a:cubicBezTo>
                  <a:pt x="3572" y="12247"/>
                  <a:pt x="3351" y="12380"/>
                  <a:pt x="3200" y="12526"/>
                </a:cubicBezTo>
                <a:cubicBezTo>
                  <a:pt x="3095" y="12628"/>
                  <a:pt x="2984" y="12721"/>
                  <a:pt x="2877" y="12824"/>
                </a:cubicBezTo>
                <a:cubicBezTo>
                  <a:pt x="2813" y="12886"/>
                  <a:pt x="2743" y="12935"/>
                  <a:pt x="2679" y="12998"/>
                </a:cubicBezTo>
                <a:cubicBezTo>
                  <a:pt x="2654" y="13022"/>
                  <a:pt x="2645" y="13030"/>
                  <a:pt x="2629" y="13047"/>
                </a:cubicBezTo>
              </a:path>
              <a:path w="4168" h="2952">
                <a:moveTo>
                  <a:pt x="5507" y="11485"/>
                </a:moveTo>
                <a:cubicBezTo>
                  <a:pt x="5491" y="11547"/>
                  <a:pt x="5475" y="11612"/>
                  <a:pt x="5457" y="11683"/>
                </a:cubicBezTo>
                <a:cubicBezTo>
                  <a:pt x="5426" y="11806"/>
                  <a:pt x="5396" y="11932"/>
                  <a:pt x="5383" y="12055"/>
                </a:cubicBezTo>
                <a:cubicBezTo>
                  <a:pt x="5374" y="12145"/>
                  <a:pt x="5407" y="12235"/>
                  <a:pt x="5407" y="12328"/>
                </a:cubicBezTo>
                <a:cubicBezTo>
                  <a:pt x="5407" y="12394"/>
                  <a:pt x="5407" y="12460"/>
                  <a:pt x="5407" y="12526"/>
                </a:cubicBezTo>
              </a:path>
              <a:path w="4168" h="2952">
                <a:moveTo>
                  <a:pt x="4713" y="12750"/>
                </a:moveTo>
                <a:cubicBezTo>
                  <a:pt x="4837" y="12719"/>
                  <a:pt x="4956" y="12725"/>
                  <a:pt x="5085" y="12725"/>
                </a:cubicBezTo>
                <a:cubicBezTo>
                  <a:pt x="5253" y="12725"/>
                  <a:pt x="5415" y="12760"/>
                  <a:pt x="5581" y="12774"/>
                </a:cubicBezTo>
                <a:cubicBezTo>
                  <a:pt x="5671" y="12781"/>
                  <a:pt x="5764" y="12774"/>
                  <a:pt x="5854" y="12774"/>
                </a:cubicBezTo>
              </a:path>
              <a:path w="4168" h="2952">
                <a:moveTo>
                  <a:pt x="5482" y="13146"/>
                </a:moveTo>
                <a:cubicBezTo>
                  <a:pt x="5482" y="13223"/>
                  <a:pt x="5470" y="13222"/>
                  <a:pt x="5507" y="13271"/>
                </a:cubicBezTo>
                <a:cubicBezTo>
                  <a:pt x="5493" y="13215"/>
                  <a:pt x="5446" y="13206"/>
                  <a:pt x="5383" y="13196"/>
                </a:cubicBezTo>
                <a:cubicBezTo>
                  <a:pt x="5303" y="13184"/>
                  <a:pt x="5227" y="13237"/>
                  <a:pt x="5159" y="13271"/>
                </a:cubicBezTo>
                <a:cubicBezTo>
                  <a:pt x="5057" y="13321"/>
                  <a:pt x="5017" y="13372"/>
                  <a:pt x="4961" y="13469"/>
                </a:cubicBezTo>
                <a:cubicBezTo>
                  <a:pt x="4922" y="13537"/>
                  <a:pt x="4882" y="13666"/>
                  <a:pt x="4887" y="13742"/>
                </a:cubicBezTo>
                <a:cubicBezTo>
                  <a:pt x="4894" y="13841"/>
                  <a:pt x="4959" y="13931"/>
                  <a:pt x="5035" y="13990"/>
                </a:cubicBezTo>
                <a:cubicBezTo>
                  <a:pt x="5122" y="14057"/>
                  <a:pt x="5200" y="14084"/>
                  <a:pt x="5308" y="14089"/>
                </a:cubicBezTo>
                <a:cubicBezTo>
                  <a:pt x="5360" y="14089"/>
                  <a:pt x="5378" y="14088"/>
                  <a:pt x="5407" y="14064"/>
                </a:cubicBezTo>
              </a:path>
              <a:path w="4168" h="2952">
                <a:moveTo>
                  <a:pt x="5829" y="13618"/>
                </a:moveTo>
                <a:cubicBezTo>
                  <a:pt x="5785" y="13683"/>
                  <a:pt x="5759" y="13765"/>
                  <a:pt x="5730" y="13841"/>
                </a:cubicBezTo>
                <a:cubicBezTo>
                  <a:pt x="5703" y="13912"/>
                  <a:pt x="5688" y="13971"/>
                  <a:pt x="5730" y="14039"/>
                </a:cubicBezTo>
                <a:cubicBezTo>
                  <a:pt x="5760" y="14087"/>
                  <a:pt x="5877" y="14131"/>
                  <a:pt x="5928" y="14139"/>
                </a:cubicBezTo>
                <a:cubicBezTo>
                  <a:pt x="6012" y="14152"/>
                  <a:pt x="6148" y="14125"/>
                  <a:pt x="6201" y="14064"/>
                </a:cubicBezTo>
                <a:cubicBezTo>
                  <a:pt x="6252" y="14006"/>
                  <a:pt x="6297" y="13945"/>
                  <a:pt x="6300" y="13866"/>
                </a:cubicBezTo>
                <a:cubicBezTo>
                  <a:pt x="6304" y="13770"/>
                  <a:pt x="6306" y="13676"/>
                  <a:pt x="6251" y="13593"/>
                </a:cubicBezTo>
                <a:cubicBezTo>
                  <a:pt x="6190" y="13501"/>
                  <a:pt x="6139" y="13425"/>
                  <a:pt x="6028" y="13419"/>
                </a:cubicBezTo>
                <a:cubicBezTo>
                  <a:pt x="5972" y="13416"/>
                  <a:pt x="5899" y="13421"/>
                  <a:pt x="5854" y="13444"/>
                </a:cubicBezTo>
                <a:cubicBezTo>
                  <a:pt x="5813" y="13464"/>
                  <a:pt x="5829" y="13532"/>
                  <a:pt x="5829" y="13568"/>
                </a:cubicBezTo>
                <a:cubicBezTo>
                  <a:pt x="5829" y="13596"/>
                  <a:pt x="5831" y="13607"/>
                  <a:pt x="5854" y="13618"/>
                </a:cubicBezTo>
              </a:path>
              <a:path w="4168" h="2952">
                <a:moveTo>
                  <a:pt x="6697" y="13494"/>
                </a:moveTo>
                <a:cubicBezTo>
                  <a:pt x="6649" y="13523"/>
                  <a:pt x="6604" y="13538"/>
                  <a:pt x="6548" y="13568"/>
                </a:cubicBezTo>
                <a:cubicBezTo>
                  <a:pt x="6531" y="13577"/>
                  <a:pt x="6422" y="13638"/>
                  <a:pt x="6424" y="13667"/>
                </a:cubicBezTo>
                <a:cubicBezTo>
                  <a:pt x="6429" y="13735"/>
                  <a:pt x="6487" y="13791"/>
                  <a:pt x="6524" y="13841"/>
                </a:cubicBezTo>
                <a:cubicBezTo>
                  <a:pt x="6592" y="13933"/>
                  <a:pt x="6691" y="14027"/>
                  <a:pt x="6747" y="14114"/>
                </a:cubicBezTo>
                <a:cubicBezTo>
                  <a:pt x="6802" y="14199"/>
                  <a:pt x="6804" y="14286"/>
                  <a:pt x="6747" y="14362"/>
                </a:cubicBezTo>
                <a:cubicBezTo>
                  <a:pt x="6709" y="14413"/>
                  <a:pt x="6606" y="14430"/>
                  <a:pt x="6548" y="14436"/>
                </a:cubicBezTo>
                <a:cubicBezTo>
                  <a:pt x="6441" y="14436"/>
                  <a:pt x="6383" y="14436"/>
                  <a:pt x="6300" y="144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90880" y="2938320"/>
            <a:ext cx="3608280" cy="1652760"/>
          </a:xfrm>
          <a:custGeom>
            <a:avLst/>
            <a:gdLst/>
            <a:ahLst/>
            <a:rect l="l" t="t" r="r" b="b"/>
            <a:pathLst>
              <a:path w="10022" h="4590">
                <a:moveTo>
                  <a:pt x="14163" y="11013"/>
                </a:moveTo>
                <a:cubicBezTo>
                  <a:pt x="14130" y="10841"/>
                  <a:pt x="14126" y="10750"/>
                  <a:pt x="14064" y="10592"/>
                </a:cubicBezTo>
                <a:cubicBezTo>
                  <a:pt x="14006" y="10444"/>
                  <a:pt x="13938" y="10321"/>
                  <a:pt x="13841" y="10195"/>
                </a:cubicBezTo>
                <a:cubicBezTo>
                  <a:pt x="13733" y="10055"/>
                  <a:pt x="13601" y="9939"/>
                  <a:pt x="13469" y="9823"/>
                </a:cubicBezTo>
                <a:cubicBezTo>
                  <a:pt x="13325" y="9696"/>
                  <a:pt x="13163" y="9573"/>
                  <a:pt x="12998" y="9475"/>
                </a:cubicBezTo>
                <a:cubicBezTo>
                  <a:pt x="12842" y="9382"/>
                  <a:pt x="12644" y="9274"/>
                  <a:pt x="12477" y="9203"/>
                </a:cubicBezTo>
                <a:cubicBezTo>
                  <a:pt x="12218" y="9093"/>
                  <a:pt x="11976" y="9065"/>
                  <a:pt x="11708" y="9004"/>
                </a:cubicBezTo>
                <a:cubicBezTo>
                  <a:pt x="11448" y="8945"/>
                  <a:pt x="11204" y="8903"/>
                  <a:pt x="10939" y="8880"/>
                </a:cubicBezTo>
                <a:cubicBezTo>
                  <a:pt x="10697" y="8859"/>
                  <a:pt x="10440" y="8831"/>
                  <a:pt x="10195" y="8855"/>
                </a:cubicBezTo>
                <a:cubicBezTo>
                  <a:pt x="9905" y="8883"/>
                  <a:pt x="9592" y="8950"/>
                  <a:pt x="9327" y="9054"/>
                </a:cubicBezTo>
                <a:cubicBezTo>
                  <a:pt x="9173" y="9115"/>
                  <a:pt x="9060" y="9182"/>
                  <a:pt x="8930" y="9277"/>
                </a:cubicBezTo>
                <a:cubicBezTo>
                  <a:pt x="8832" y="9349"/>
                  <a:pt x="8744" y="9440"/>
                  <a:pt x="8657" y="9525"/>
                </a:cubicBezTo>
                <a:cubicBezTo>
                  <a:pt x="8557" y="9623"/>
                  <a:pt x="8517" y="9699"/>
                  <a:pt x="8458" y="9823"/>
                </a:cubicBezTo>
                <a:cubicBezTo>
                  <a:pt x="8387" y="9972"/>
                  <a:pt x="8330" y="10102"/>
                  <a:pt x="8310" y="10269"/>
                </a:cubicBezTo>
                <a:cubicBezTo>
                  <a:pt x="8289" y="10446"/>
                  <a:pt x="8321" y="10624"/>
                  <a:pt x="8384" y="10790"/>
                </a:cubicBezTo>
                <a:cubicBezTo>
                  <a:pt x="8426" y="10900"/>
                  <a:pt x="8506" y="11022"/>
                  <a:pt x="8582" y="11112"/>
                </a:cubicBezTo>
                <a:cubicBezTo>
                  <a:pt x="8813" y="11387"/>
                  <a:pt x="9088" y="11587"/>
                  <a:pt x="9401" y="11757"/>
                </a:cubicBezTo>
                <a:cubicBezTo>
                  <a:pt x="9570" y="11849"/>
                  <a:pt x="9743" y="11957"/>
                  <a:pt x="9922" y="12030"/>
                </a:cubicBezTo>
                <a:cubicBezTo>
                  <a:pt x="10167" y="12130"/>
                  <a:pt x="10423" y="12201"/>
                  <a:pt x="10666" y="12303"/>
                </a:cubicBezTo>
                <a:cubicBezTo>
                  <a:pt x="10887" y="12395"/>
                  <a:pt x="11107" y="12455"/>
                  <a:pt x="11336" y="12526"/>
                </a:cubicBezTo>
                <a:cubicBezTo>
                  <a:pt x="11560" y="12595"/>
                  <a:pt x="11797" y="12641"/>
                  <a:pt x="12030" y="12675"/>
                </a:cubicBezTo>
                <a:cubicBezTo>
                  <a:pt x="12382" y="12727"/>
                  <a:pt x="12740" y="12779"/>
                  <a:pt x="13097" y="12750"/>
                </a:cubicBezTo>
                <a:cubicBezTo>
                  <a:pt x="13354" y="12729"/>
                  <a:pt x="13623" y="12682"/>
                  <a:pt x="13866" y="12601"/>
                </a:cubicBezTo>
                <a:cubicBezTo>
                  <a:pt x="14033" y="12546"/>
                  <a:pt x="14180" y="12470"/>
                  <a:pt x="14312" y="12353"/>
                </a:cubicBezTo>
                <a:cubicBezTo>
                  <a:pt x="14462" y="12220"/>
                  <a:pt x="14560" y="12041"/>
                  <a:pt x="14635" y="11857"/>
                </a:cubicBezTo>
                <a:cubicBezTo>
                  <a:pt x="14688" y="11726"/>
                  <a:pt x="14689" y="11574"/>
                  <a:pt x="14684" y="11435"/>
                </a:cubicBezTo>
                <a:cubicBezTo>
                  <a:pt x="14678" y="11272"/>
                  <a:pt x="14654" y="11140"/>
                  <a:pt x="14610" y="10988"/>
                </a:cubicBezTo>
                <a:cubicBezTo>
                  <a:pt x="14557" y="10803"/>
                  <a:pt x="14453" y="10623"/>
                  <a:pt x="14337" y="10468"/>
                </a:cubicBezTo>
                <a:cubicBezTo>
                  <a:pt x="14261" y="10366"/>
                  <a:pt x="14148" y="10286"/>
                  <a:pt x="14089" y="10170"/>
                </a:cubicBezTo>
                <a:cubicBezTo>
                  <a:pt x="14061" y="10115"/>
                  <a:pt x="14053" y="10092"/>
                  <a:pt x="14064" y="10046"/>
                </a:cubicBezTo>
              </a:path>
              <a:path w="10022" h="4590">
                <a:moveTo>
                  <a:pt x="13990" y="8210"/>
                </a:moveTo>
                <a:cubicBezTo>
                  <a:pt x="14064" y="8155"/>
                  <a:pt x="14043" y="8149"/>
                  <a:pt x="14114" y="8186"/>
                </a:cubicBezTo>
                <a:cubicBezTo>
                  <a:pt x="14180" y="8221"/>
                  <a:pt x="14232" y="8263"/>
                  <a:pt x="14263" y="8334"/>
                </a:cubicBezTo>
                <a:cubicBezTo>
                  <a:pt x="14308" y="8438"/>
                  <a:pt x="14360" y="8548"/>
                  <a:pt x="14387" y="8657"/>
                </a:cubicBezTo>
                <a:cubicBezTo>
                  <a:pt x="14421" y="8793"/>
                  <a:pt x="14420" y="8922"/>
                  <a:pt x="14412" y="9054"/>
                </a:cubicBezTo>
                <a:cubicBezTo>
                  <a:pt x="14404" y="9200"/>
                  <a:pt x="14417" y="9341"/>
                  <a:pt x="14337" y="9475"/>
                </a:cubicBezTo>
                <a:cubicBezTo>
                  <a:pt x="14305" y="9528"/>
                  <a:pt x="14255" y="9602"/>
                  <a:pt x="14213" y="9649"/>
                </a:cubicBezTo>
                <a:cubicBezTo>
                  <a:pt x="14183" y="9682"/>
                  <a:pt x="14162" y="9680"/>
                  <a:pt x="14139" y="9699"/>
                </a:cubicBezTo>
                <a:cubicBezTo>
                  <a:pt x="14121" y="9659"/>
                  <a:pt x="14112" y="9619"/>
                  <a:pt x="14089" y="9575"/>
                </a:cubicBezTo>
              </a:path>
              <a:path w="10022" h="4590">
                <a:moveTo>
                  <a:pt x="14039" y="9252"/>
                </a:moveTo>
                <a:cubicBezTo>
                  <a:pt x="14000" y="9279"/>
                  <a:pt x="14015" y="9363"/>
                  <a:pt x="14015" y="9426"/>
                </a:cubicBezTo>
                <a:cubicBezTo>
                  <a:pt x="14015" y="9492"/>
                  <a:pt x="14043" y="9546"/>
                  <a:pt x="14064" y="9599"/>
                </a:cubicBezTo>
                <a:cubicBezTo>
                  <a:pt x="14082" y="9645"/>
                  <a:pt x="14113" y="9745"/>
                  <a:pt x="14163" y="9773"/>
                </a:cubicBezTo>
                <a:cubicBezTo>
                  <a:pt x="14201" y="9794"/>
                  <a:pt x="14240" y="9798"/>
                  <a:pt x="14288" y="9798"/>
                </a:cubicBezTo>
                <a:cubicBezTo>
                  <a:pt x="14393" y="9798"/>
                  <a:pt x="14484" y="9797"/>
                  <a:pt x="14585" y="9823"/>
                </a:cubicBezTo>
              </a:path>
              <a:path w="10022" h="4590">
                <a:moveTo>
                  <a:pt x="16123" y="9550"/>
                </a:moveTo>
                <a:cubicBezTo>
                  <a:pt x="16123" y="9654"/>
                  <a:pt x="16102" y="9745"/>
                  <a:pt x="16098" y="9847"/>
                </a:cubicBezTo>
                <a:cubicBezTo>
                  <a:pt x="16094" y="9953"/>
                  <a:pt x="16112" y="10044"/>
                  <a:pt x="16123" y="10145"/>
                </a:cubicBezTo>
                <a:cubicBezTo>
                  <a:pt x="16133" y="10231"/>
                  <a:pt x="16148" y="10304"/>
                  <a:pt x="16148" y="10393"/>
                </a:cubicBezTo>
                <a:cubicBezTo>
                  <a:pt x="16148" y="10456"/>
                  <a:pt x="16132" y="10492"/>
                  <a:pt x="16098" y="10542"/>
                </a:cubicBezTo>
              </a:path>
              <a:path w="10022" h="4590">
                <a:moveTo>
                  <a:pt x="15602" y="10716"/>
                </a:moveTo>
                <a:cubicBezTo>
                  <a:pt x="15902" y="10716"/>
                  <a:pt x="16199" y="10716"/>
                  <a:pt x="16495" y="10740"/>
                </a:cubicBezTo>
                <a:cubicBezTo>
                  <a:pt x="16597" y="10748"/>
                  <a:pt x="16744" y="10736"/>
                  <a:pt x="16842" y="10765"/>
                </a:cubicBezTo>
                <a:cubicBezTo>
                  <a:pt x="16870" y="10793"/>
                  <a:pt x="16884" y="10802"/>
                  <a:pt x="16917" y="10790"/>
                </a:cubicBezTo>
              </a:path>
              <a:path w="10022" h="4590">
                <a:moveTo>
                  <a:pt x="16049" y="11286"/>
                </a:moveTo>
                <a:cubicBezTo>
                  <a:pt x="16043" y="11363"/>
                  <a:pt x="16037" y="11393"/>
                  <a:pt x="16024" y="11460"/>
                </a:cubicBezTo>
                <a:cubicBezTo>
                  <a:pt x="16024" y="11521"/>
                  <a:pt x="16000" y="11415"/>
                  <a:pt x="15999" y="11410"/>
                </a:cubicBezTo>
                <a:cubicBezTo>
                  <a:pt x="15985" y="11323"/>
                  <a:pt x="16000" y="11318"/>
                  <a:pt x="15925" y="11286"/>
                </a:cubicBezTo>
                <a:cubicBezTo>
                  <a:pt x="15863" y="11259"/>
                  <a:pt x="15818" y="11281"/>
                  <a:pt x="15751" y="11311"/>
                </a:cubicBezTo>
                <a:cubicBezTo>
                  <a:pt x="15682" y="11342"/>
                  <a:pt x="15647" y="11381"/>
                  <a:pt x="15602" y="11435"/>
                </a:cubicBezTo>
                <a:cubicBezTo>
                  <a:pt x="15552" y="11495"/>
                  <a:pt x="15532" y="11554"/>
                  <a:pt x="15528" y="11633"/>
                </a:cubicBezTo>
                <a:cubicBezTo>
                  <a:pt x="15523" y="11724"/>
                  <a:pt x="15519" y="11763"/>
                  <a:pt x="15577" y="11832"/>
                </a:cubicBezTo>
                <a:cubicBezTo>
                  <a:pt x="15629" y="11894"/>
                  <a:pt x="15694" y="11943"/>
                  <a:pt x="15776" y="11956"/>
                </a:cubicBezTo>
                <a:cubicBezTo>
                  <a:pt x="15886" y="11973"/>
                  <a:pt x="16007" y="11946"/>
                  <a:pt x="16098" y="11881"/>
                </a:cubicBezTo>
                <a:cubicBezTo>
                  <a:pt x="16148" y="11832"/>
                  <a:pt x="16165" y="11816"/>
                  <a:pt x="16197" y="11782"/>
                </a:cubicBezTo>
              </a:path>
              <a:path w="10022" h="4590">
                <a:moveTo>
                  <a:pt x="16446" y="11435"/>
                </a:moveTo>
                <a:cubicBezTo>
                  <a:pt x="16431" y="11493"/>
                  <a:pt x="16384" y="11541"/>
                  <a:pt x="16371" y="11609"/>
                </a:cubicBezTo>
                <a:cubicBezTo>
                  <a:pt x="16358" y="11676"/>
                  <a:pt x="16327" y="11760"/>
                  <a:pt x="16346" y="11832"/>
                </a:cubicBezTo>
                <a:cubicBezTo>
                  <a:pt x="16368" y="11915"/>
                  <a:pt x="16384" y="11942"/>
                  <a:pt x="16446" y="12005"/>
                </a:cubicBezTo>
                <a:cubicBezTo>
                  <a:pt x="16510" y="12069"/>
                  <a:pt x="16608" y="12076"/>
                  <a:pt x="16694" y="12055"/>
                </a:cubicBezTo>
                <a:cubicBezTo>
                  <a:pt x="16776" y="12035"/>
                  <a:pt x="16829" y="11974"/>
                  <a:pt x="16867" y="11906"/>
                </a:cubicBezTo>
                <a:cubicBezTo>
                  <a:pt x="16905" y="11838"/>
                  <a:pt x="16938" y="11794"/>
                  <a:pt x="16917" y="11708"/>
                </a:cubicBezTo>
                <a:cubicBezTo>
                  <a:pt x="16903" y="11651"/>
                  <a:pt x="16841" y="11519"/>
                  <a:pt x="16793" y="11485"/>
                </a:cubicBezTo>
                <a:cubicBezTo>
                  <a:pt x="16741" y="11448"/>
                  <a:pt x="16632" y="11446"/>
                  <a:pt x="16570" y="11460"/>
                </a:cubicBezTo>
                <a:cubicBezTo>
                  <a:pt x="16523" y="11470"/>
                  <a:pt x="16444" y="11508"/>
                  <a:pt x="16421" y="11559"/>
                </a:cubicBezTo>
                <a:cubicBezTo>
                  <a:pt x="16396" y="11617"/>
                  <a:pt x="16441" y="11644"/>
                  <a:pt x="16470" y="11683"/>
                </a:cubicBezTo>
              </a:path>
              <a:path w="10022" h="4590">
                <a:moveTo>
                  <a:pt x="17190" y="11410"/>
                </a:moveTo>
                <a:cubicBezTo>
                  <a:pt x="17165" y="11385"/>
                  <a:pt x="17121" y="11403"/>
                  <a:pt x="17115" y="11460"/>
                </a:cubicBezTo>
                <a:cubicBezTo>
                  <a:pt x="17110" y="11501"/>
                  <a:pt x="17163" y="11532"/>
                  <a:pt x="17190" y="11559"/>
                </a:cubicBezTo>
                <a:cubicBezTo>
                  <a:pt x="17241" y="11610"/>
                  <a:pt x="17337" y="11690"/>
                  <a:pt x="17363" y="11757"/>
                </a:cubicBezTo>
                <a:cubicBezTo>
                  <a:pt x="17394" y="11837"/>
                  <a:pt x="17375" y="11847"/>
                  <a:pt x="17338" y="11906"/>
                </a:cubicBezTo>
                <a:cubicBezTo>
                  <a:pt x="17302" y="11962"/>
                  <a:pt x="17259" y="11978"/>
                  <a:pt x="17190" y="11981"/>
                </a:cubicBezTo>
                <a:cubicBezTo>
                  <a:pt x="17124" y="11984"/>
                  <a:pt x="17046" y="11990"/>
                  <a:pt x="17016" y="11956"/>
                </a:cubicBezTo>
                <a:cubicBezTo>
                  <a:pt x="16976" y="11910"/>
                  <a:pt x="17030" y="11855"/>
                  <a:pt x="17066" y="11807"/>
                </a:cubicBezTo>
              </a:path>
              <a:path w="10022" h="4590">
                <a:moveTo>
                  <a:pt x="17388" y="11038"/>
                </a:moveTo>
                <a:cubicBezTo>
                  <a:pt x="17422" y="11017"/>
                  <a:pt x="17512" y="10951"/>
                  <a:pt x="17562" y="10964"/>
                </a:cubicBezTo>
                <a:cubicBezTo>
                  <a:pt x="17614" y="10978"/>
                  <a:pt x="17679" y="10979"/>
                  <a:pt x="17686" y="11038"/>
                </a:cubicBezTo>
                <a:cubicBezTo>
                  <a:pt x="17690" y="11073"/>
                  <a:pt x="17637" y="11164"/>
                  <a:pt x="17611" y="11187"/>
                </a:cubicBezTo>
                <a:cubicBezTo>
                  <a:pt x="17550" y="11240"/>
                  <a:pt x="17519" y="11224"/>
                  <a:pt x="17512" y="11311"/>
                </a:cubicBezTo>
                <a:cubicBezTo>
                  <a:pt x="17508" y="11363"/>
                  <a:pt x="17547" y="11410"/>
                  <a:pt x="17587" y="11435"/>
                </a:cubicBezTo>
                <a:cubicBezTo>
                  <a:pt x="17661" y="11482"/>
                  <a:pt x="17710" y="11475"/>
                  <a:pt x="17785" y="11460"/>
                </a:cubicBezTo>
              </a:path>
              <a:path w="10022" h="4590">
                <a:moveTo>
                  <a:pt x="17909" y="11385"/>
                </a:moveTo>
                <a:cubicBezTo>
                  <a:pt x="17931" y="11496"/>
                  <a:pt x="17954" y="11629"/>
                  <a:pt x="18008" y="11733"/>
                </a:cubicBezTo>
                <a:cubicBezTo>
                  <a:pt x="18060" y="11833"/>
                  <a:pt x="18110" y="11941"/>
                  <a:pt x="18182" y="12030"/>
                </a:cubicBezTo>
                <a:cubicBezTo>
                  <a:pt x="18226" y="12084"/>
                  <a:pt x="18274" y="12118"/>
                  <a:pt x="18331" y="12154"/>
                </a:cubicBezTo>
              </a:path>
              <a:path w="10022" h="4590">
                <a:moveTo>
                  <a:pt x="18157" y="11509"/>
                </a:moveTo>
                <a:cubicBezTo>
                  <a:pt x="18017" y="11627"/>
                  <a:pt x="17880" y="11745"/>
                  <a:pt x="17735" y="11857"/>
                </a:cubicBezTo>
                <a:cubicBezTo>
                  <a:pt x="17598" y="11962"/>
                  <a:pt x="17459" y="12048"/>
                  <a:pt x="17388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880" y="558972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059" y="15528"/>
                </a:moveTo>
                <a:cubicBezTo>
                  <a:pt x="2266" y="15528"/>
                  <a:pt x="2836" y="15528"/>
                  <a:pt x="2629" y="15528"/>
                </a:cubicBezTo>
              </a:path>
              <a:path w="621" h="497">
                <a:moveTo>
                  <a:pt x="2034" y="15925"/>
                </a:moveTo>
                <a:cubicBezTo>
                  <a:pt x="2067" y="15990"/>
                  <a:pt x="2132" y="15995"/>
                  <a:pt x="2208" y="15999"/>
                </a:cubicBezTo>
                <a:cubicBezTo>
                  <a:pt x="2301" y="16003"/>
                  <a:pt x="2362" y="16009"/>
                  <a:pt x="2456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70000" y="5589720"/>
            <a:ext cx="982800" cy="474480"/>
          </a:xfrm>
          <a:custGeom>
            <a:avLst/>
            <a:gdLst/>
            <a:ahLst/>
            <a:rect l="l" t="t" r="r" b="b"/>
            <a:pathLst>
              <a:path w="2730" h="1315">
                <a:moveTo>
                  <a:pt x="3721" y="15577"/>
                </a:moveTo>
                <a:cubicBezTo>
                  <a:pt x="3737" y="15577"/>
                  <a:pt x="3754" y="15577"/>
                  <a:pt x="3770" y="15577"/>
                </a:cubicBezTo>
                <a:cubicBezTo>
                  <a:pt x="3723" y="15549"/>
                  <a:pt x="3678" y="15531"/>
                  <a:pt x="3621" y="15528"/>
                </a:cubicBezTo>
                <a:cubicBezTo>
                  <a:pt x="3545" y="15523"/>
                  <a:pt x="3493" y="15537"/>
                  <a:pt x="3423" y="15553"/>
                </a:cubicBezTo>
                <a:cubicBezTo>
                  <a:pt x="3379" y="15563"/>
                  <a:pt x="3355" y="15543"/>
                  <a:pt x="3349" y="15602"/>
                </a:cubicBezTo>
                <a:cubicBezTo>
                  <a:pt x="3341" y="15681"/>
                  <a:pt x="3408" y="15738"/>
                  <a:pt x="3448" y="15801"/>
                </a:cubicBezTo>
                <a:cubicBezTo>
                  <a:pt x="3512" y="15901"/>
                  <a:pt x="3571" y="15992"/>
                  <a:pt x="3621" y="16098"/>
                </a:cubicBezTo>
                <a:cubicBezTo>
                  <a:pt x="3674" y="16211"/>
                  <a:pt x="3696" y="16273"/>
                  <a:pt x="3696" y="16396"/>
                </a:cubicBezTo>
                <a:cubicBezTo>
                  <a:pt x="3696" y="16455"/>
                  <a:pt x="3661" y="16505"/>
                  <a:pt x="3597" y="16520"/>
                </a:cubicBezTo>
                <a:cubicBezTo>
                  <a:pt x="3537" y="16534"/>
                  <a:pt x="3425" y="16533"/>
                  <a:pt x="3373" y="16495"/>
                </a:cubicBezTo>
                <a:cubicBezTo>
                  <a:pt x="3333" y="16467"/>
                  <a:pt x="3253" y="16421"/>
                  <a:pt x="3249" y="16371"/>
                </a:cubicBezTo>
                <a:cubicBezTo>
                  <a:pt x="3249" y="16354"/>
                  <a:pt x="3249" y="16338"/>
                  <a:pt x="3249" y="16321"/>
                </a:cubicBezTo>
              </a:path>
              <a:path w="2730" h="1315">
                <a:moveTo>
                  <a:pt x="3770" y="16123"/>
                </a:moveTo>
                <a:cubicBezTo>
                  <a:pt x="3891" y="16107"/>
                  <a:pt x="4100" y="16099"/>
                  <a:pt x="4217" y="16024"/>
                </a:cubicBezTo>
                <a:cubicBezTo>
                  <a:pt x="4271" y="15989"/>
                  <a:pt x="4322" y="15910"/>
                  <a:pt x="4341" y="15850"/>
                </a:cubicBezTo>
                <a:cubicBezTo>
                  <a:pt x="4367" y="15767"/>
                  <a:pt x="4268" y="15758"/>
                  <a:pt x="4217" y="15776"/>
                </a:cubicBezTo>
                <a:cubicBezTo>
                  <a:pt x="4132" y="15806"/>
                  <a:pt x="4080" y="15863"/>
                  <a:pt x="4018" y="15925"/>
                </a:cubicBezTo>
                <a:cubicBezTo>
                  <a:pt x="3953" y="15990"/>
                  <a:pt x="3908" y="16105"/>
                  <a:pt x="3894" y="16197"/>
                </a:cubicBezTo>
                <a:cubicBezTo>
                  <a:pt x="3879" y="16297"/>
                  <a:pt x="3902" y="16381"/>
                  <a:pt x="3944" y="16470"/>
                </a:cubicBezTo>
                <a:cubicBezTo>
                  <a:pt x="3994" y="16574"/>
                  <a:pt x="4043" y="16551"/>
                  <a:pt x="4118" y="16495"/>
                </a:cubicBezTo>
              </a:path>
              <a:path w="2730" h="1315">
                <a:moveTo>
                  <a:pt x="4862" y="15751"/>
                </a:moveTo>
                <a:cubicBezTo>
                  <a:pt x="4878" y="15751"/>
                  <a:pt x="4895" y="15751"/>
                  <a:pt x="4911" y="15751"/>
                </a:cubicBezTo>
                <a:cubicBezTo>
                  <a:pt x="4895" y="15700"/>
                  <a:pt x="4854" y="15729"/>
                  <a:pt x="4812" y="15751"/>
                </a:cubicBezTo>
                <a:cubicBezTo>
                  <a:pt x="4722" y="15799"/>
                  <a:pt x="4630" y="15843"/>
                  <a:pt x="4564" y="15925"/>
                </a:cubicBezTo>
                <a:cubicBezTo>
                  <a:pt x="4504" y="16000"/>
                  <a:pt x="4514" y="16083"/>
                  <a:pt x="4514" y="16173"/>
                </a:cubicBezTo>
                <a:cubicBezTo>
                  <a:pt x="4514" y="16279"/>
                  <a:pt x="4546" y="16386"/>
                  <a:pt x="4614" y="16470"/>
                </a:cubicBezTo>
                <a:cubicBezTo>
                  <a:pt x="4678" y="16548"/>
                  <a:pt x="4761" y="16622"/>
                  <a:pt x="4862" y="16644"/>
                </a:cubicBezTo>
                <a:cubicBezTo>
                  <a:pt x="4911" y="16655"/>
                  <a:pt x="4945" y="16617"/>
                  <a:pt x="4986" y="16594"/>
                </a:cubicBezTo>
              </a:path>
              <a:path w="2730" h="1315">
                <a:moveTo>
                  <a:pt x="5333" y="15925"/>
                </a:moveTo>
                <a:cubicBezTo>
                  <a:pt x="5379" y="16015"/>
                  <a:pt x="5407" y="16109"/>
                  <a:pt x="5457" y="16197"/>
                </a:cubicBezTo>
                <a:cubicBezTo>
                  <a:pt x="5532" y="16329"/>
                  <a:pt x="5617" y="16446"/>
                  <a:pt x="5705" y="16570"/>
                </a:cubicBezTo>
                <a:cubicBezTo>
                  <a:pt x="5783" y="16680"/>
                  <a:pt x="5856" y="16724"/>
                  <a:pt x="5978" y="16768"/>
                </a:cubicBezTo>
              </a:path>
              <a:path w="2730" h="1315">
                <a:moveTo>
                  <a:pt x="5730" y="15974"/>
                </a:moveTo>
                <a:cubicBezTo>
                  <a:pt x="5529" y="16194"/>
                  <a:pt x="5339" y="16406"/>
                  <a:pt x="5159" y="16644"/>
                </a:cubicBezTo>
                <a:cubicBezTo>
                  <a:pt x="5089" y="16737"/>
                  <a:pt x="5066" y="16763"/>
                  <a:pt x="5060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sec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–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28920" y="1197000"/>
            <a:ext cx="1581120" cy="419040"/>
          </a:xfrm>
          <a:custGeom>
            <a:avLst/>
            <a:gdLst/>
            <a:ahLst/>
            <a:rect l="l" t="t" r="r" b="b"/>
            <a:pathLst>
              <a:path w="4391" h="1167">
                <a:moveTo>
                  <a:pt x="10220" y="3870"/>
                </a:moveTo>
                <a:cubicBezTo>
                  <a:pt x="10318" y="3856"/>
                  <a:pt x="10392" y="3845"/>
                  <a:pt x="10492" y="3845"/>
                </a:cubicBezTo>
                <a:cubicBezTo>
                  <a:pt x="10605" y="3845"/>
                  <a:pt x="10710" y="3857"/>
                  <a:pt x="10815" y="3870"/>
                </a:cubicBezTo>
                <a:cubicBezTo>
                  <a:pt x="10887" y="3879"/>
                  <a:pt x="10945" y="3881"/>
                  <a:pt x="11013" y="3894"/>
                </a:cubicBezTo>
              </a:path>
              <a:path w="4391" h="1167">
                <a:moveTo>
                  <a:pt x="10220" y="4266"/>
                </a:moveTo>
                <a:cubicBezTo>
                  <a:pt x="10291" y="4314"/>
                  <a:pt x="10361" y="4316"/>
                  <a:pt x="10443" y="4341"/>
                </a:cubicBezTo>
                <a:cubicBezTo>
                  <a:pt x="10573" y="4381"/>
                  <a:pt x="10679" y="4390"/>
                  <a:pt x="10815" y="4390"/>
                </a:cubicBezTo>
                <a:cubicBezTo>
                  <a:pt x="10921" y="4390"/>
                  <a:pt x="11013" y="4386"/>
                  <a:pt x="11112" y="4366"/>
                </a:cubicBezTo>
                <a:cubicBezTo>
                  <a:pt x="11120" y="4366"/>
                  <a:pt x="11129" y="4366"/>
                  <a:pt x="11137" y="4366"/>
                </a:cubicBezTo>
              </a:path>
              <a:path w="4391" h="1167">
                <a:moveTo>
                  <a:pt x="6921" y="3497"/>
                </a:moveTo>
                <a:cubicBezTo>
                  <a:pt x="6921" y="3593"/>
                  <a:pt x="6905" y="3678"/>
                  <a:pt x="6896" y="3770"/>
                </a:cubicBezTo>
                <a:cubicBezTo>
                  <a:pt x="6885" y="3891"/>
                  <a:pt x="6909" y="4002"/>
                  <a:pt x="6921" y="4118"/>
                </a:cubicBezTo>
                <a:cubicBezTo>
                  <a:pt x="6930" y="4202"/>
                  <a:pt x="6936" y="4309"/>
                  <a:pt x="6970" y="4390"/>
                </a:cubicBezTo>
                <a:cubicBezTo>
                  <a:pt x="6985" y="4426"/>
                  <a:pt x="6999" y="4456"/>
                  <a:pt x="7020" y="4490"/>
                </a:cubicBezTo>
              </a:path>
              <a:path w="4391" h="1167">
                <a:moveTo>
                  <a:pt x="6747" y="3870"/>
                </a:moveTo>
                <a:cubicBezTo>
                  <a:pt x="6762" y="3913"/>
                  <a:pt x="6819" y="3894"/>
                  <a:pt x="6871" y="3894"/>
                </a:cubicBezTo>
                <a:cubicBezTo>
                  <a:pt x="6992" y="3894"/>
                  <a:pt x="7104" y="3901"/>
                  <a:pt x="7218" y="3919"/>
                </a:cubicBezTo>
                <a:cubicBezTo>
                  <a:pt x="7260" y="3919"/>
                  <a:pt x="7268" y="3919"/>
                  <a:pt x="7293" y="3919"/>
                </a:cubicBezTo>
              </a:path>
              <a:path w="4391" h="1167">
                <a:moveTo>
                  <a:pt x="7565" y="4018"/>
                </a:moveTo>
                <a:cubicBezTo>
                  <a:pt x="7565" y="3974"/>
                  <a:pt x="7568" y="3961"/>
                  <a:pt x="7541" y="3944"/>
                </a:cubicBezTo>
                <a:cubicBezTo>
                  <a:pt x="7486" y="3999"/>
                  <a:pt x="7474" y="4019"/>
                  <a:pt x="7441" y="4093"/>
                </a:cubicBezTo>
                <a:cubicBezTo>
                  <a:pt x="7415" y="4152"/>
                  <a:pt x="7347" y="4304"/>
                  <a:pt x="7392" y="4366"/>
                </a:cubicBezTo>
                <a:cubicBezTo>
                  <a:pt x="7400" y="4366"/>
                  <a:pt x="7409" y="4366"/>
                  <a:pt x="7417" y="4366"/>
                </a:cubicBezTo>
                <a:cubicBezTo>
                  <a:pt x="7466" y="4303"/>
                  <a:pt x="7484" y="4240"/>
                  <a:pt x="7516" y="4167"/>
                </a:cubicBezTo>
                <a:cubicBezTo>
                  <a:pt x="7539" y="4114"/>
                  <a:pt x="7554" y="4020"/>
                  <a:pt x="7615" y="3994"/>
                </a:cubicBezTo>
                <a:cubicBezTo>
                  <a:pt x="7623" y="3994"/>
                  <a:pt x="7632" y="3994"/>
                  <a:pt x="7640" y="3994"/>
                </a:cubicBezTo>
                <a:cubicBezTo>
                  <a:pt x="7640" y="4069"/>
                  <a:pt x="7656" y="4124"/>
                  <a:pt x="7665" y="4192"/>
                </a:cubicBezTo>
                <a:cubicBezTo>
                  <a:pt x="7670" y="4232"/>
                  <a:pt x="7667" y="4317"/>
                  <a:pt x="7714" y="4341"/>
                </a:cubicBezTo>
                <a:cubicBezTo>
                  <a:pt x="7757" y="4362"/>
                  <a:pt x="7789" y="4316"/>
                  <a:pt x="7813" y="4291"/>
                </a:cubicBezTo>
              </a:path>
              <a:path w="4391" h="1167">
                <a:moveTo>
                  <a:pt x="7938" y="3944"/>
                </a:moveTo>
                <a:cubicBezTo>
                  <a:pt x="7971" y="4023"/>
                  <a:pt x="7941" y="4057"/>
                  <a:pt x="7938" y="4142"/>
                </a:cubicBezTo>
                <a:cubicBezTo>
                  <a:pt x="7936" y="4200"/>
                  <a:pt x="7938" y="4258"/>
                  <a:pt x="7938" y="4316"/>
                </a:cubicBezTo>
                <a:cubicBezTo>
                  <a:pt x="7981" y="4301"/>
                  <a:pt x="7990" y="4219"/>
                  <a:pt x="8012" y="4167"/>
                </a:cubicBezTo>
                <a:cubicBezTo>
                  <a:pt x="8040" y="4102"/>
                  <a:pt x="8065" y="4042"/>
                  <a:pt x="8136" y="4018"/>
                </a:cubicBezTo>
                <a:cubicBezTo>
                  <a:pt x="8144" y="4018"/>
                  <a:pt x="8153" y="4018"/>
                  <a:pt x="8161" y="4018"/>
                </a:cubicBezTo>
                <a:cubicBezTo>
                  <a:pt x="8201" y="4079"/>
                  <a:pt x="8231" y="4143"/>
                  <a:pt x="8235" y="4217"/>
                </a:cubicBezTo>
                <a:cubicBezTo>
                  <a:pt x="8238" y="4276"/>
                  <a:pt x="8220" y="4322"/>
                  <a:pt x="8260" y="4366"/>
                </a:cubicBezTo>
                <a:cubicBezTo>
                  <a:pt x="8299" y="4408"/>
                  <a:pt x="8310" y="4387"/>
                  <a:pt x="8359" y="4366"/>
                </a:cubicBezTo>
              </a:path>
              <a:path w="4391" h="1167">
                <a:moveTo>
                  <a:pt x="8781" y="3373"/>
                </a:moveTo>
                <a:cubicBezTo>
                  <a:pt x="8770" y="3429"/>
                  <a:pt x="8768" y="3490"/>
                  <a:pt x="8756" y="3547"/>
                </a:cubicBezTo>
                <a:cubicBezTo>
                  <a:pt x="8743" y="3608"/>
                  <a:pt x="8699" y="3741"/>
                  <a:pt x="8756" y="3795"/>
                </a:cubicBezTo>
                <a:cubicBezTo>
                  <a:pt x="8756" y="3762"/>
                  <a:pt x="8756" y="3746"/>
                  <a:pt x="8756" y="3721"/>
                </a:cubicBezTo>
              </a:path>
              <a:path w="4391" h="1167">
                <a:moveTo>
                  <a:pt x="8855" y="3324"/>
                </a:moveTo>
                <a:cubicBezTo>
                  <a:pt x="8781" y="3337"/>
                  <a:pt x="8821" y="3356"/>
                  <a:pt x="8756" y="3398"/>
                </a:cubicBezTo>
                <a:cubicBezTo>
                  <a:pt x="8698" y="3435"/>
                  <a:pt x="8664" y="3480"/>
                  <a:pt x="8607" y="3522"/>
                </a:cubicBezTo>
                <a:cubicBezTo>
                  <a:pt x="8561" y="3557"/>
                  <a:pt x="8604" y="3581"/>
                  <a:pt x="8558" y="3597"/>
                </a:cubicBezTo>
                <a:cubicBezTo>
                  <a:pt x="8601" y="3629"/>
                  <a:pt x="8625" y="3621"/>
                  <a:pt x="8682" y="3621"/>
                </a:cubicBezTo>
                <a:cubicBezTo>
                  <a:pt x="8772" y="3621"/>
                  <a:pt x="8846" y="3632"/>
                  <a:pt x="8930" y="3646"/>
                </a:cubicBezTo>
                <a:cubicBezTo>
                  <a:pt x="8946" y="3646"/>
                  <a:pt x="8963" y="3646"/>
                  <a:pt x="8979" y="3646"/>
                </a:cubicBezTo>
              </a:path>
              <a:path w="4391" h="1167">
                <a:moveTo>
                  <a:pt x="9203" y="3746"/>
                </a:moveTo>
                <a:cubicBezTo>
                  <a:pt x="9213" y="3787"/>
                  <a:pt x="9237" y="3829"/>
                  <a:pt x="9252" y="3870"/>
                </a:cubicBezTo>
                <a:cubicBezTo>
                  <a:pt x="9268" y="3915"/>
                  <a:pt x="9340" y="4035"/>
                  <a:pt x="9376" y="4068"/>
                </a:cubicBezTo>
                <a:cubicBezTo>
                  <a:pt x="9420" y="4109"/>
                  <a:pt x="9489" y="4141"/>
                  <a:pt x="9525" y="4192"/>
                </a:cubicBezTo>
                <a:cubicBezTo>
                  <a:pt x="9550" y="4228"/>
                  <a:pt x="9579" y="4296"/>
                  <a:pt x="9624" y="4316"/>
                </a:cubicBezTo>
                <a:cubicBezTo>
                  <a:pt x="9632" y="4316"/>
                  <a:pt x="9641" y="4316"/>
                  <a:pt x="9649" y="4316"/>
                </a:cubicBezTo>
              </a:path>
              <a:path w="4391" h="1167">
                <a:moveTo>
                  <a:pt x="9748" y="3696"/>
                </a:moveTo>
                <a:cubicBezTo>
                  <a:pt x="9633" y="3869"/>
                  <a:pt x="9507" y="4040"/>
                  <a:pt x="9401" y="4217"/>
                </a:cubicBezTo>
                <a:cubicBezTo>
                  <a:pt x="9380" y="4253"/>
                  <a:pt x="9241" y="4424"/>
                  <a:pt x="9252" y="4465"/>
                </a:cubicBezTo>
                <a:cubicBezTo>
                  <a:pt x="9260" y="4473"/>
                  <a:pt x="9269" y="4482"/>
                  <a:pt x="9277" y="44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49800" y="1374840"/>
            <a:ext cx="1117440" cy="430200"/>
          </a:xfrm>
          <a:custGeom>
            <a:avLst/>
            <a:gdLst/>
            <a:ahLst/>
            <a:rect l="l" t="t" r="r" b="b"/>
            <a:pathLst>
              <a:path w="3102" h="1192">
                <a:moveTo>
                  <a:pt x="12055" y="3820"/>
                </a:moveTo>
                <a:cubicBezTo>
                  <a:pt x="12055" y="3961"/>
                  <a:pt x="12034" y="4081"/>
                  <a:pt x="12030" y="4217"/>
                </a:cubicBezTo>
                <a:cubicBezTo>
                  <a:pt x="12027" y="4314"/>
                  <a:pt x="12005" y="4391"/>
                  <a:pt x="12005" y="4490"/>
                </a:cubicBezTo>
                <a:cubicBezTo>
                  <a:pt x="12005" y="4596"/>
                  <a:pt x="12003" y="4696"/>
                  <a:pt x="12030" y="4787"/>
                </a:cubicBezTo>
                <a:cubicBezTo>
                  <a:pt x="12030" y="4795"/>
                  <a:pt x="12030" y="4804"/>
                  <a:pt x="12030" y="4812"/>
                </a:cubicBezTo>
              </a:path>
              <a:path w="3102" h="1192">
                <a:moveTo>
                  <a:pt x="11807" y="4242"/>
                </a:moveTo>
                <a:cubicBezTo>
                  <a:pt x="11905" y="4242"/>
                  <a:pt x="11985" y="4253"/>
                  <a:pt x="12080" y="4266"/>
                </a:cubicBezTo>
                <a:cubicBezTo>
                  <a:pt x="12163" y="4278"/>
                  <a:pt x="12246" y="4287"/>
                  <a:pt x="12328" y="4291"/>
                </a:cubicBezTo>
                <a:cubicBezTo>
                  <a:pt x="12345" y="4291"/>
                  <a:pt x="12361" y="4291"/>
                  <a:pt x="12378" y="4291"/>
                </a:cubicBezTo>
              </a:path>
              <a:path w="3102" h="1192">
                <a:moveTo>
                  <a:pt x="12750" y="4366"/>
                </a:moveTo>
                <a:cubicBezTo>
                  <a:pt x="12718" y="4323"/>
                  <a:pt x="12731" y="4316"/>
                  <a:pt x="12675" y="4316"/>
                </a:cubicBezTo>
                <a:cubicBezTo>
                  <a:pt x="12615" y="4316"/>
                  <a:pt x="12618" y="4373"/>
                  <a:pt x="12601" y="4415"/>
                </a:cubicBezTo>
                <a:cubicBezTo>
                  <a:pt x="12570" y="4493"/>
                  <a:pt x="12524" y="4601"/>
                  <a:pt x="12551" y="4688"/>
                </a:cubicBezTo>
                <a:cubicBezTo>
                  <a:pt x="12559" y="4705"/>
                  <a:pt x="12568" y="4721"/>
                  <a:pt x="12576" y="4738"/>
                </a:cubicBezTo>
                <a:cubicBezTo>
                  <a:pt x="12641" y="4722"/>
                  <a:pt x="12624" y="4674"/>
                  <a:pt x="12650" y="4614"/>
                </a:cubicBezTo>
                <a:cubicBezTo>
                  <a:pt x="12677" y="4553"/>
                  <a:pt x="12705" y="4379"/>
                  <a:pt x="12750" y="4341"/>
                </a:cubicBezTo>
                <a:cubicBezTo>
                  <a:pt x="12758" y="4341"/>
                  <a:pt x="12766" y="4341"/>
                  <a:pt x="12774" y="4341"/>
                </a:cubicBezTo>
                <a:cubicBezTo>
                  <a:pt x="12813" y="4393"/>
                  <a:pt x="12805" y="4454"/>
                  <a:pt x="12824" y="4514"/>
                </a:cubicBezTo>
                <a:cubicBezTo>
                  <a:pt x="12840" y="4565"/>
                  <a:pt x="12863" y="4683"/>
                  <a:pt x="12898" y="4713"/>
                </a:cubicBezTo>
                <a:cubicBezTo>
                  <a:pt x="12923" y="4734"/>
                  <a:pt x="12959" y="4698"/>
                  <a:pt x="12973" y="4688"/>
                </a:cubicBezTo>
              </a:path>
              <a:path w="3102" h="1192">
                <a:moveTo>
                  <a:pt x="13146" y="4341"/>
                </a:moveTo>
                <a:cubicBezTo>
                  <a:pt x="13146" y="4438"/>
                  <a:pt x="13137" y="4523"/>
                  <a:pt x="13122" y="4614"/>
                </a:cubicBezTo>
                <a:cubicBezTo>
                  <a:pt x="13122" y="4655"/>
                  <a:pt x="13122" y="4663"/>
                  <a:pt x="13122" y="4688"/>
                </a:cubicBezTo>
                <a:cubicBezTo>
                  <a:pt x="13172" y="4671"/>
                  <a:pt x="13131" y="4622"/>
                  <a:pt x="13146" y="4564"/>
                </a:cubicBezTo>
                <a:cubicBezTo>
                  <a:pt x="13162" y="4502"/>
                  <a:pt x="13176" y="4439"/>
                  <a:pt x="13221" y="4390"/>
                </a:cubicBezTo>
                <a:cubicBezTo>
                  <a:pt x="13253" y="4356"/>
                  <a:pt x="13313" y="4349"/>
                  <a:pt x="13345" y="4390"/>
                </a:cubicBezTo>
                <a:cubicBezTo>
                  <a:pt x="13382" y="4438"/>
                  <a:pt x="13374" y="4511"/>
                  <a:pt x="13395" y="4564"/>
                </a:cubicBezTo>
                <a:cubicBezTo>
                  <a:pt x="13400" y="4578"/>
                  <a:pt x="13439" y="4709"/>
                  <a:pt x="13444" y="4713"/>
                </a:cubicBezTo>
                <a:cubicBezTo>
                  <a:pt x="13471" y="4734"/>
                  <a:pt x="13469" y="4712"/>
                  <a:pt x="13469" y="4762"/>
                </a:cubicBezTo>
              </a:path>
              <a:path w="3102" h="1192">
                <a:moveTo>
                  <a:pt x="13742" y="3994"/>
                </a:moveTo>
                <a:cubicBezTo>
                  <a:pt x="13789" y="3974"/>
                  <a:pt x="13840" y="3947"/>
                  <a:pt x="13891" y="3944"/>
                </a:cubicBezTo>
                <a:cubicBezTo>
                  <a:pt x="13936" y="3941"/>
                  <a:pt x="13982" y="3946"/>
                  <a:pt x="14015" y="3969"/>
                </a:cubicBezTo>
                <a:cubicBezTo>
                  <a:pt x="14042" y="3987"/>
                  <a:pt x="14055" y="4062"/>
                  <a:pt x="14039" y="4093"/>
                </a:cubicBezTo>
                <a:cubicBezTo>
                  <a:pt x="14019" y="4131"/>
                  <a:pt x="13998" y="4159"/>
                  <a:pt x="13965" y="4192"/>
                </a:cubicBezTo>
                <a:cubicBezTo>
                  <a:pt x="13940" y="4217"/>
                  <a:pt x="13917" y="4278"/>
                  <a:pt x="13891" y="4291"/>
                </a:cubicBezTo>
                <a:cubicBezTo>
                  <a:pt x="13866" y="4291"/>
                  <a:pt x="13858" y="4291"/>
                  <a:pt x="13866" y="4316"/>
                </a:cubicBezTo>
                <a:cubicBezTo>
                  <a:pt x="13873" y="4338"/>
                  <a:pt x="13908" y="4355"/>
                  <a:pt x="13940" y="4366"/>
                </a:cubicBezTo>
                <a:cubicBezTo>
                  <a:pt x="13950" y="4370"/>
                  <a:pt x="14070" y="4341"/>
                  <a:pt x="14089" y="4341"/>
                </a:cubicBezTo>
              </a:path>
              <a:path w="3102" h="1192">
                <a:moveTo>
                  <a:pt x="14436" y="4291"/>
                </a:moveTo>
                <a:cubicBezTo>
                  <a:pt x="14447" y="4333"/>
                  <a:pt x="14465" y="4371"/>
                  <a:pt x="14486" y="4415"/>
                </a:cubicBezTo>
                <a:cubicBezTo>
                  <a:pt x="14523" y="4494"/>
                  <a:pt x="14542" y="4531"/>
                  <a:pt x="14610" y="4589"/>
                </a:cubicBezTo>
                <a:cubicBezTo>
                  <a:pt x="14665" y="4636"/>
                  <a:pt x="14700" y="4636"/>
                  <a:pt x="14759" y="4663"/>
                </a:cubicBezTo>
                <a:cubicBezTo>
                  <a:pt x="14816" y="4689"/>
                  <a:pt x="14807" y="4713"/>
                  <a:pt x="14883" y="4713"/>
                </a:cubicBezTo>
              </a:path>
              <a:path w="3102" h="1192">
                <a:moveTo>
                  <a:pt x="14908" y="4316"/>
                </a:moveTo>
                <a:cubicBezTo>
                  <a:pt x="14866" y="4358"/>
                  <a:pt x="14835" y="4387"/>
                  <a:pt x="14808" y="4440"/>
                </a:cubicBezTo>
                <a:cubicBezTo>
                  <a:pt x="14765" y="4523"/>
                  <a:pt x="14678" y="4626"/>
                  <a:pt x="14610" y="4688"/>
                </a:cubicBezTo>
                <a:cubicBezTo>
                  <a:pt x="14527" y="4764"/>
                  <a:pt x="14450" y="4838"/>
                  <a:pt x="14387" y="4936"/>
                </a:cubicBezTo>
                <a:cubicBezTo>
                  <a:pt x="14355" y="4986"/>
                  <a:pt x="14347" y="4998"/>
                  <a:pt x="14387" y="50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4000" y="1285920"/>
            <a:ext cx="2403360" cy="733320"/>
          </a:xfrm>
          <a:custGeom>
            <a:avLst/>
            <a:gdLst/>
            <a:ahLst/>
            <a:rect l="l" t="t" r="r" b="b"/>
            <a:pathLst>
              <a:path w="6673" h="2035">
                <a:moveTo>
                  <a:pt x="16197" y="3770"/>
                </a:moveTo>
                <a:cubicBezTo>
                  <a:pt x="16136" y="3770"/>
                  <a:pt x="16071" y="3757"/>
                  <a:pt x="16024" y="3795"/>
                </a:cubicBezTo>
                <a:cubicBezTo>
                  <a:pt x="15983" y="3828"/>
                  <a:pt x="15938" y="3859"/>
                  <a:pt x="15900" y="3894"/>
                </a:cubicBezTo>
                <a:cubicBezTo>
                  <a:pt x="15830" y="3959"/>
                  <a:pt x="15791" y="4035"/>
                  <a:pt x="15751" y="4118"/>
                </a:cubicBezTo>
                <a:cubicBezTo>
                  <a:pt x="15686" y="4254"/>
                  <a:pt x="15657" y="4365"/>
                  <a:pt x="15652" y="4514"/>
                </a:cubicBezTo>
                <a:cubicBezTo>
                  <a:pt x="15649" y="4611"/>
                  <a:pt x="15668" y="4672"/>
                  <a:pt x="15701" y="4762"/>
                </a:cubicBezTo>
                <a:cubicBezTo>
                  <a:pt x="15731" y="4841"/>
                  <a:pt x="15796" y="4941"/>
                  <a:pt x="15875" y="4986"/>
                </a:cubicBezTo>
                <a:cubicBezTo>
                  <a:pt x="15948" y="5028"/>
                  <a:pt x="16041" y="5057"/>
                  <a:pt x="16123" y="5060"/>
                </a:cubicBezTo>
                <a:cubicBezTo>
                  <a:pt x="16148" y="5060"/>
                  <a:pt x="16172" y="5060"/>
                  <a:pt x="16197" y="5060"/>
                </a:cubicBezTo>
              </a:path>
              <a:path w="6673" h="2035">
                <a:moveTo>
                  <a:pt x="16768" y="4217"/>
                </a:moveTo>
                <a:cubicBezTo>
                  <a:pt x="16768" y="4209"/>
                  <a:pt x="16768" y="4200"/>
                  <a:pt x="16768" y="4192"/>
                </a:cubicBezTo>
                <a:cubicBezTo>
                  <a:pt x="16750" y="4198"/>
                  <a:pt x="16714" y="4203"/>
                  <a:pt x="16694" y="4217"/>
                </a:cubicBezTo>
                <a:cubicBezTo>
                  <a:pt x="16633" y="4260"/>
                  <a:pt x="16618" y="4286"/>
                  <a:pt x="16570" y="4341"/>
                </a:cubicBezTo>
                <a:cubicBezTo>
                  <a:pt x="16549" y="4365"/>
                  <a:pt x="16494" y="4368"/>
                  <a:pt x="16520" y="4415"/>
                </a:cubicBezTo>
                <a:cubicBezTo>
                  <a:pt x="16545" y="4461"/>
                  <a:pt x="16608" y="4447"/>
                  <a:pt x="16644" y="4465"/>
                </a:cubicBezTo>
                <a:cubicBezTo>
                  <a:pt x="16686" y="4486"/>
                  <a:pt x="16699" y="4535"/>
                  <a:pt x="16718" y="4564"/>
                </a:cubicBezTo>
                <a:cubicBezTo>
                  <a:pt x="16747" y="4608"/>
                  <a:pt x="16756" y="4619"/>
                  <a:pt x="16718" y="4663"/>
                </a:cubicBezTo>
                <a:cubicBezTo>
                  <a:pt x="16659" y="4730"/>
                  <a:pt x="16611" y="4752"/>
                  <a:pt x="16545" y="4787"/>
                </a:cubicBezTo>
                <a:cubicBezTo>
                  <a:pt x="16553" y="4787"/>
                  <a:pt x="16562" y="4787"/>
                  <a:pt x="16570" y="4787"/>
                </a:cubicBezTo>
              </a:path>
              <a:path w="6673" h="2035">
                <a:moveTo>
                  <a:pt x="16942" y="4490"/>
                </a:moveTo>
                <a:cubicBezTo>
                  <a:pt x="16990" y="4538"/>
                  <a:pt x="16997" y="4539"/>
                  <a:pt x="17066" y="4539"/>
                </a:cubicBezTo>
                <a:cubicBezTo>
                  <a:pt x="17128" y="4539"/>
                  <a:pt x="17163" y="4529"/>
                  <a:pt x="17214" y="4514"/>
                </a:cubicBezTo>
                <a:cubicBezTo>
                  <a:pt x="17287" y="4492"/>
                  <a:pt x="17260" y="4472"/>
                  <a:pt x="17289" y="4415"/>
                </a:cubicBezTo>
                <a:cubicBezTo>
                  <a:pt x="17311" y="4393"/>
                  <a:pt x="17320" y="4388"/>
                  <a:pt x="17314" y="4366"/>
                </a:cubicBezTo>
                <a:cubicBezTo>
                  <a:pt x="17260" y="4348"/>
                  <a:pt x="17271" y="4347"/>
                  <a:pt x="17190" y="4366"/>
                </a:cubicBezTo>
                <a:cubicBezTo>
                  <a:pt x="17118" y="4383"/>
                  <a:pt x="17084" y="4426"/>
                  <a:pt x="17041" y="4490"/>
                </a:cubicBezTo>
                <a:cubicBezTo>
                  <a:pt x="17008" y="4539"/>
                  <a:pt x="16952" y="4652"/>
                  <a:pt x="16966" y="4713"/>
                </a:cubicBezTo>
                <a:cubicBezTo>
                  <a:pt x="16979" y="4770"/>
                  <a:pt x="17037" y="4803"/>
                  <a:pt x="17090" y="4812"/>
                </a:cubicBezTo>
                <a:cubicBezTo>
                  <a:pt x="17153" y="4823"/>
                  <a:pt x="17256" y="4781"/>
                  <a:pt x="17314" y="4762"/>
                </a:cubicBezTo>
                <a:cubicBezTo>
                  <a:pt x="17379" y="4741"/>
                  <a:pt x="17449" y="4734"/>
                  <a:pt x="17512" y="4713"/>
                </a:cubicBezTo>
                <a:cubicBezTo>
                  <a:pt x="17565" y="4695"/>
                  <a:pt x="17608" y="4683"/>
                  <a:pt x="17661" y="4663"/>
                </a:cubicBezTo>
              </a:path>
              <a:path w="6673" h="2035">
                <a:moveTo>
                  <a:pt x="18058" y="4316"/>
                </a:moveTo>
                <a:cubicBezTo>
                  <a:pt x="18003" y="4292"/>
                  <a:pt x="17981" y="4284"/>
                  <a:pt x="17934" y="4316"/>
                </a:cubicBezTo>
                <a:cubicBezTo>
                  <a:pt x="17897" y="4341"/>
                  <a:pt x="17845" y="4397"/>
                  <a:pt x="17835" y="4440"/>
                </a:cubicBezTo>
                <a:cubicBezTo>
                  <a:pt x="17824" y="4486"/>
                  <a:pt x="17817" y="4627"/>
                  <a:pt x="17859" y="4663"/>
                </a:cubicBezTo>
                <a:cubicBezTo>
                  <a:pt x="17889" y="4690"/>
                  <a:pt x="17966" y="4688"/>
                  <a:pt x="18008" y="4688"/>
                </a:cubicBezTo>
                <a:cubicBezTo>
                  <a:pt x="18087" y="4688"/>
                  <a:pt x="18154" y="4669"/>
                  <a:pt x="18231" y="4663"/>
                </a:cubicBezTo>
                <a:cubicBezTo>
                  <a:pt x="18259" y="4663"/>
                  <a:pt x="18270" y="4661"/>
                  <a:pt x="18281" y="4638"/>
                </a:cubicBezTo>
              </a:path>
              <a:path w="6673" h="2035">
                <a:moveTo>
                  <a:pt x="18479" y="3944"/>
                </a:moveTo>
                <a:cubicBezTo>
                  <a:pt x="18513" y="3953"/>
                  <a:pt x="18574" y="3976"/>
                  <a:pt x="18604" y="3994"/>
                </a:cubicBezTo>
                <a:cubicBezTo>
                  <a:pt x="18647" y="4020"/>
                  <a:pt x="18643" y="4056"/>
                  <a:pt x="18678" y="4068"/>
                </a:cubicBezTo>
                <a:cubicBezTo>
                  <a:pt x="18647" y="4109"/>
                  <a:pt x="18643" y="4116"/>
                  <a:pt x="18604" y="4142"/>
                </a:cubicBezTo>
                <a:cubicBezTo>
                  <a:pt x="18567" y="4167"/>
                  <a:pt x="18509" y="4224"/>
                  <a:pt x="18504" y="4266"/>
                </a:cubicBezTo>
                <a:cubicBezTo>
                  <a:pt x="18496" y="4334"/>
                  <a:pt x="18548" y="4299"/>
                  <a:pt x="18579" y="4316"/>
                </a:cubicBezTo>
                <a:cubicBezTo>
                  <a:pt x="18621" y="4339"/>
                  <a:pt x="18627" y="4341"/>
                  <a:pt x="18678" y="4341"/>
                </a:cubicBezTo>
                <a:cubicBezTo>
                  <a:pt x="18686" y="4341"/>
                  <a:pt x="18695" y="4341"/>
                  <a:pt x="18703" y="4341"/>
                </a:cubicBezTo>
              </a:path>
              <a:path w="6673" h="2035">
                <a:moveTo>
                  <a:pt x="18976" y="4316"/>
                </a:moveTo>
                <a:cubicBezTo>
                  <a:pt x="18986" y="4356"/>
                  <a:pt x="19013" y="4379"/>
                  <a:pt x="19025" y="4415"/>
                </a:cubicBezTo>
                <a:cubicBezTo>
                  <a:pt x="19037" y="4451"/>
                  <a:pt x="19064" y="4480"/>
                  <a:pt x="19075" y="4514"/>
                </a:cubicBezTo>
                <a:cubicBezTo>
                  <a:pt x="19091" y="4560"/>
                  <a:pt x="19132" y="4587"/>
                  <a:pt x="19149" y="4638"/>
                </a:cubicBezTo>
                <a:cubicBezTo>
                  <a:pt x="19149" y="4646"/>
                  <a:pt x="19149" y="4655"/>
                  <a:pt x="19149" y="4663"/>
                </a:cubicBezTo>
                <a:cubicBezTo>
                  <a:pt x="19197" y="4675"/>
                  <a:pt x="19205" y="4719"/>
                  <a:pt x="19248" y="4738"/>
                </a:cubicBezTo>
                <a:cubicBezTo>
                  <a:pt x="19256" y="4738"/>
                  <a:pt x="19265" y="4738"/>
                  <a:pt x="19273" y="4738"/>
                </a:cubicBezTo>
              </a:path>
              <a:path w="6673" h="2035">
                <a:moveTo>
                  <a:pt x="19323" y="4341"/>
                </a:moveTo>
                <a:cubicBezTo>
                  <a:pt x="19260" y="4419"/>
                  <a:pt x="19213" y="4484"/>
                  <a:pt x="19149" y="4564"/>
                </a:cubicBezTo>
                <a:cubicBezTo>
                  <a:pt x="19097" y="4628"/>
                  <a:pt x="19054" y="4702"/>
                  <a:pt x="19000" y="4762"/>
                </a:cubicBezTo>
                <a:cubicBezTo>
                  <a:pt x="18959" y="4808"/>
                  <a:pt x="18974" y="4812"/>
                  <a:pt x="19025" y="4812"/>
                </a:cubicBezTo>
              </a:path>
              <a:path w="6673" h="2035">
                <a:moveTo>
                  <a:pt x="19745" y="4514"/>
                </a:moveTo>
                <a:cubicBezTo>
                  <a:pt x="19943" y="4514"/>
                  <a:pt x="20142" y="4514"/>
                  <a:pt x="20340" y="4514"/>
                </a:cubicBezTo>
              </a:path>
              <a:path w="6673" h="2035">
                <a:moveTo>
                  <a:pt x="21158" y="3919"/>
                </a:moveTo>
                <a:cubicBezTo>
                  <a:pt x="21080" y="3919"/>
                  <a:pt x="21048" y="3946"/>
                  <a:pt x="20985" y="3994"/>
                </a:cubicBezTo>
                <a:cubicBezTo>
                  <a:pt x="20943" y="4026"/>
                  <a:pt x="20900" y="4058"/>
                  <a:pt x="20861" y="4093"/>
                </a:cubicBezTo>
                <a:cubicBezTo>
                  <a:pt x="20825" y="4125"/>
                  <a:pt x="20823" y="4106"/>
                  <a:pt x="20811" y="4142"/>
                </a:cubicBezTo>
              </a:path>
              <a:path w="6673" h="2035">
                <a:moveTo>
                  <a:pt x="21109" y="3944"/>
                </a:moveTo>
                <a:cubicBezTo>
                  <a:pt x="21101" y="4001"/>
                  <a:pt x="21078" y="4062"/>
                  <a:pt x="21059" y="4118"/>
                </a:cubicBezTo>
                <a:cubicBezTo>
                  <a:pt x="21023" y="4223"/>
                  <a:pt x="21013" y="4326"/>
                  <a:pt x="21010" y="4440"/>
                </a:cubicBezTo>
                <a:cubicBezTo>
                  <a:pt x="21008" y="4507"/>
                  <a:pt x="20993" y="4550"/>
                  <a:pt x="20985" y="4614"/>
                </a:cubicBezTo>
              </a:path>
              <a:path w="6673" h="2035">
                <a:moveTo>
                  <a:pt x="20563" y="4663"/>
                </a:moveTo>
                <a:cubicBezTo>
                  <a:pt x="20624" y="4694"/>
                  <a:pt x="20696" y="4729"/>
                  <a:pt x="20762" y="4738"/>
                </a:cubicBezTo>
                <a:cubicBezTo>
                  <a:pt x="20856" y="4750"/>
                  <a:pt x="20920" y="4778"/>
                  <a:pt x="21010" y="4812"/>
                </a:cubicBezTo>
                <a:cubicBezTo>
                  <a:pt x="21119" y="4853"/>
                  <a:pt x="21267" y="4851"/>
                  <a:pt x="21382" y="4862"/>
                </a:cubicBezTo>
                <a:cubicBezTo>
                  <a:pt x="21447" y="4868"/>
                  <a:pt x="21515" y="4862"/>
                  <a:pt x="21580" y="4862"/>
                </a:cubicBezTo>
              </a:path>
              <a:path w="6673" h="2035">
                <a:moveTo>
                  <a:pt x="21630" y="3572"/>
                </a:moveTo>
                <a:cubicBezTo>
                  <a:pt x="21670" y="3619"/>
                  <a:pt x="21709" y="3637"/>
                  <a:pt x="21779" y="3671"/>
                </a:cubicBezTo>
                <a:cubicBezTo>
                  <a:pt x="21894" y="3726"/>
                  <a:pt x="21962" y="3772"/>
                  <a:pt x="22051" y="3845"/>
                </a:cubicBezTo>
                <a:cubicBezTo>
                  <a:pt x="22153" y="3929"/>
                  <a:pt x="22205" y="4013"/>
                  <a:pt x="22250" y="4142"/>
                </a:cubicBezTo>
                <a:cubicBezTo>
                  <a:pt x="22290" y="4258"/>
                  <a:pt x="22315" y="4393"/>
                  <a:pt x="22324" y="4514"/>
                </a:cubicBezTo>
                <a:cubicBezTo>
                  <a:pt x="22336" y="4677"/>
                  <a:pt x="22282" y="4836"/>
                  <a:pt x="22225" y="4986"/>
                </a:cubicBezTo>
                <a:cubicBezTo>
                  <a:pt x="22169" y="5133"/>
                  <a:pt x="22096" y="5307"/>
                  <a:pt x="22002" y="5432"/>
                </a:cubicBezTo>
                <a:cubicBezTo>
                  <a:pt x="21923" y="5511"/>
                  <a:pt x="21894" y="5541"/>
                  <a:pt x="21853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46200" y="1990800"/>
            <a:ext cx="992160" cy="438120"/>
          </a:xfrm>
          <a:custGeom>
            <a:avLst/>
            <a:gdLst/>
            <a:ahLst/>
            <a:rect l="l" t="t" r="r" b="b"/>
            <a:pathLst>
              <a:path w="2755" h="1217">
                <a:moveTo>
                  <a:pt x="7020" y="5531"/>
                </a:moveTo>
                <a:cubicBezTo>
                  <a:pt x="7020" y="5539"/>
                  <a:pt x="7020" y="5548"/>
                  <a:pt x="7020" y="5556"/>
                </a:cubicBezTo>
              </a:path>
              <a:path w="2755" h="1217">
                <a:moveTo>
                  <a:pt x="7045" y="5680"/>
                </a:moveTo>
                <a:cubicBezTo>
                  <a:pt x="7045" y="5825"/>
                  <a:pt x="7036" y="5962"/>
                  <a:pt x="7020" y="6102"/>
                </a:cubicBezTo>
                <a:cubicBezTo>
                  <a:pt x="7009" y="6198"/>
                  <a:pt x="6990" y="6362"/>
                  <a:pt x="6995" y="6449"/>
                </a:cubicBezTo>
                <a:cubicBezTo>
                  <a:pt x="6998" y="6498"/>
                  <a:pt x="7006" y="6622"/>
                  <a:pt x="7020" y="6672"/>
                </a:cubicBezTo>
                <a:cubicBezTo>
                  <a:pt x="7040" y="6713"/>
                  <a:pt x="7049" y="6719"/>
                  <a:pt x="7045" y="6747"/>
                </a:cubicBezTo>
              </a:path>
              <a:path w="2755" h="1217">
                <a:moveTo>
                  <a:pt x="6796" y="6102"/>
                </a:moveTo>
                <a:cubicBezTo>
                  <a:pt x="6859" y="6078"/>
                  <a:pt x="6901" y="6077"/>
                  <a:pt x="6970" y="6077"/>
                </a:cubicBezTo>
                <a:cubicBezTo>
                  <a:pt x="7055" y="6077"/>
                  <a:pt x="7115" y="6089"/>
                  <a:pt x="7193" y="6102"/>
                </a:cubicBezTo>
                <a:cubicBezTo>
                  <a:pt x="7210" y="6102"/>
                  <a:pt x="7226" y="6102"/>
                  <a:pt x="7243" y="6102"/>
                </a:cubicBezTo>
              </a:path>
              <a:path w="2755" h="1217">
                <a:moveTo>
                  <a:pt x="7789" y="6152"/>
                </a:moveTo>
                <a:lnTo>
                  <a:pt x="7789" y="6152"/>
                </a:lnTo>
              </a:path>
              <a:path w="2755" h="1217">
                <a:moveTo>
                  <a:pt x="7789" y="6152"/>
                </a:moveTo>
                <a:cubicBezTo>
                  <a:pt x="7756" y="6144"/>
                  <a:pt x="7722" y="6135"/>
                  <a:pt x="7689" y="6127"/>
                </a:cubicBezTo>
              </a:path>
              <a:path w="2755" h="1217">
                <a:moveTo>
                  <a:pt x="7689" y="6127"/>
                </a:moveTo>
                <a:cubicBezTo>
                  <a:pt x="7643" y="6127"/>
                  <a:pt x="7576" y="6114"/>
                  <a:pt x="7541" y="6152"/>
                </a:cubicBezTo>
                <a:cubicBezTo>
                  <a:pt x="7499" y="6197"/>
                  <a:pt x="7452" y="6316"/>
                  <a:pt x="7441" y="6375"/>
                </a:cubicBezTo>
                <a:cubicBezTo>
                  <a:pt x="7430" y="6433"/>
                  <a:pt x="7433" y="6505"/>
                  <a:pt x="7466" y="6548"/>
                </a:cubicBezTo>
                <a:cubicBezTo>
                  <a:pt x="7543" y="6533"/>
                  <a:pt x="7546" y="6528"/>
                  <a:pt x="7590" y="6474"/>
                </a:cubicBezTo>
                <a:cubicBezTo>
                  <a:pt x="7635" y="6419"/>
                  <a:pt x="7679" y="6362"/>
                  <a:pt x="7714" y="6300"/>
                </a:cubicBezTo>
                <a:cubicBezTo>
                  <a:pt x="7750" y="6236"/>
                  <a:pt x="7759" y="6176"/>
                  <a:pt x="7838" y="6176"/>
                </a:cubicBezTo>
                <a:cubicBezTo>
                  <a:pt x="7896" y="6205"/>
                  <a:pt x="7897" y="6240"/>
                  <a:pt x="7913" y="6300"/>
                </a:cubicBezTo>
                <a:cubicBezTo>
                  <a:pt x="7926" y="6348"/>
                  <a:pt x="7918" y="6457"/>
                  <a:pt x="7938" y="6499"/>
                </a:cubicBezTo>
                <a:cubicBezTo>
                  <a:pt x="7956" y="6536"/>
                  <a:pt x="7971" y="6570"/>
                  <a:pt x="7987" y="6524"/>
                </a:cubicBezTo>
              </a:path>
              <a:path w="2755" h="1217">
                <a:moveTo>
                  <a:pt x="8161" y="6176"/>
                </a:moveTo>
                <a:cubicBezTo>
                  <a:pt x="8152" y="6246"/>
                  <a:pt x="8136" y="6301"/>
                  <a:pt x="8136" y="6375"/>
                </a:cubicBezTo>
                <a:cubicBezTo>
                  <a:pt x="8136" y="6407"/>
                  <a:pt x="8111" y="6561"/>
                  <a:pt x="8111" y="6499"/>
                </a:cubicBezTo>
                <a:cubicBezTo>
                  <a:pt x="8145" y="6442"/>
                  <a:pt x="8154" y="6367"/>
                  <a:pt x="8186" y="6300"/>
                </a:cubicBezTo>
                <a:cubicBezTo>
                  <a:pt x="8216" y="6236"/>
                  <a:pt x="8240" y="6201"/>
                  <a:pt x="8310" y="6201"/>
                </a:cubicBezTo>
                <a:cubicBezTo>
                  <a:pt x="8357" y="6201"/>
                  <a:pt x="8346" y="6264"/>
                  <a:pt x="8359" y="6300"/>
                </a:cubicBezTo>
                <a:cubicBezTo>
                  <a:pt x="8388" y="6380"/>
                  <a:pt x="8348" y="6411"/>
                  <a:pt x="8359" y="6474"/>
                </a:cubicBezTo>
                <a:cubicBezTo>
                  <a:pt x="8384" y="6499"/>
                  <a:pt x="8392" y="6507"/>
                  <a:pt x="8409" y="6474"/>
                </a:cubicBezTo>
              </a:path>
              <a:path w="2755" h="1217">
                <a:moveTo>
                  <a:pt x="8781" y="5606"/>
                </a:moveTo>
                <a:cubicBezTo>
                  <a:pt x="8781" y="5734"/>
                  <a:pt x="8771" y="5850"/>
                  <a:pt x="8756" y="5978"/>
                </a:cubicBezTo>
                <a:cubicBezTo>
                  <a:pt x="8749" y="6043"/>
                  <a:pt x="8778" y="5966"/>
                  <a:pt x="8781" y="5953"/>
                </a:cubicBezTo>
              </a:path>
              <a:path w="2755" h="1217">
                <a:moveTo>
                  <a:pt x="8830" y="5581"/>
                </a:moveTo>
                <a:cubicBezTo>
                  <a:pt x="8767" y="5618"/>
                  <a:pt x="8772" y="5634"/>
                  <a:pt x="8731" y="5680"/>
                </a:cubicBezTo>
                <a:cubicBezTo>
                  <a:pt x="8695" y="5720"/>
                  <a:pt x="8682" y="5725"/>
                  <a:pt x="8682" y="5779"/>
                </a:cubicBezTo>
                <a:cubicBezTo>
                  <a:pt x="8682" y="5787"/>
                  <a:pt x="8682" y="5796"/>
                  <a:pt x="8682" y="5804"/>
                </a:cubicBezTo>
                <a:cubicBezTo>
                  <a:pt x="8765" y="5804"/>
                  <a:pt x="8847" y="5804"/>
                  <a:pt x="8930" y="5804"/>
                </a:cubicBezTo>
              </a:path>
              <a:path w="2755" h="1217">
                <a:moveTo>
                  <a:pt x="9153" y="6052"/>
                </a:moveTo>
                <a:cubicBezTo>
                  <a:pt x="9161" y="6052"/>
                  <a:pt x="9170" y="6052"/>
                  <a:pt x="9178" y="6052"/>
                </a:cubicBezTo>
                <a:cubicBezTo>
                  <a:pt x="9178" y="6120"/>
                  <a:pt x="9218" y="6160"/>
                  <a:pt x="9252" y="6226"/>
                </a:cubicBezTo>
                <a:cubicBezTo>
                  <a:pt x="9281" y="6282"/>
                  <a:pt x="9315" y="6348"/>
                  <a:pt x="9351" y="6400"/>
                </a:cubicBezTo>
                <a:cubicBezTo>
                  <a:pt x="9391" y="6457"/>
                  <a:pt x="9426" y="6449"/>
                  <a:pt x="9475" y="6474"/>
                </a:cubicBezTo>
                <a:cubicBezTo>
                  <a:pt x="9514" y="6494"/>
                  <a:pt x="9503" y="6499"/>
                  <a:pt x="9550" y="6499"/>
                </a:cubicBezTo>
              </a:path>
              <a:path w="2755" h="1217">
                <a:moveTo>
                  <a:pt x="9500" y="6127"/>
                </a:moveTo>
                <a:cubicBezTo>
                  <a:pt x="9407" y="6249"/>
                  <a:pt x="9376" y="6352"/>
                  <a:pt x="9302" y="6474"/>
                </a:cubicBezTo>
                <a:cubicBezTo>
                  <a:pt x="9269" y="6528"/>
                  <a:pt x="9188" y="6643"/>
                  <a:pt x="9128" y="6672"/>
                </a:cubicBezTo>
                <a:cubicBezTo>
                  <a:pt x="9120" y="6672"/>
                  <a:pt x="9111" y="6672"/>
                  <a:pt x="9103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60840" y="2089080"/>
            <a:ext cx="2779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10170" y="5804"/>
                </a:moveTo>
                <a:cubicBezTo>
                  <a:pt x="10225" y="5837"/>
                  <a:pt x="10276" y="5829"/>
                  <a:pt x="10344" y="5829"/>
                </a:cubicBezTo>
                <a:cubicBezTo>
                  <a:pt x="10427" y="5829"/>
                  <a:pt x="10491" y="5817"/>
                  <a:pt x="10567" y="5804"/>
                </a:cubicBezTo>
                <a:cubicBezTo>
                  <a:pt x="10641" y="5792"/>
                  <a:pt x="10699" y="5814"/>
                  <a:pt x="10765" y="5829"/>
                </a:cubicBezTo>
                <a:cubicBezTo>
                  <a:pt x="10792" y="5835"/>
                  <a:pt x="10839" y="5829"/>
                  <a:pt x="10864" y="5829"/>
                </a:cubicBezTo>
              </a:path>
              <a:path w="770" h="621">
                <a:moveTo>
                  <a:pt x="10170" y="6251"/>
                </a:moveTo>
                <a:cubicBezTo>
                  <a:pt x="10183" y="6304"/>
                  <a:pt x="10238" y="6316"/>
                  <a:pt x="10294" y="6325"/>
                </a:cubicBezTo>
                <a:cubicBezTo>
                  <a:pt x="10430" y="6348"/>
                  <a:pt x="10580" y="6331"/>
                  <a:pt x="10716" y="6350"/>
                </a:cubicBezTo>
                <a:cubicBezTo>
                  <a:pt x="10795" y="6361"/>
                  <a:pt x="10861" y="6397"/>
                  <a:pt x="10939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87880" y="1963800"/>
            <a:ext cx="1366920" cy="465120"/>
          </a:xfrm>
          <a:custGeom>
            <a:avLst/>
            <a:gdLst/>
            <a:ahLst/>
            <a:rect l="l" t="t" r="r" b="b"/>
            <a:pathLst>
              <a:path w="3797" h="1291">
                <a:moveTo>
                  <a:pt x="11931" y="5457"/>
                </a:moveTo>
                <a:cubicBezTo>
                  <a:pt x="11931" y="5545"/>
                  <a:pt x="11914" y="5621"/>
                  <a:pt x="11906" y="5705"/>
                </a:cubicBezTo>
                <a:cubicBezTo>
                  <a:pt x="11891" y="5860"/>
                  <a:pt x="11884" y="6021"/>
                  <a:pt x="11881" y="6176"/>
                </a:cubicBezTo>
                <a:cubicBezTo>
                  <a:pt x="11878" y="6322"/>
                  <a:pt x="11888" y="6457"/>
                  <a:pt x="11906" y="6598"/>
                </a:cubicBezTo>
                <a:cubicBezTo>
                  <a:pt x="11913" y="6651"/>
                  <a:pt x="11886" y="6682"/>
                  <a:pt x="11931" y="6697"/>
                </a:cubicBezTo>
              </a:path>
              <a:path w="3797" h="1291">
                <a:moveTo>
                  <a:pt x="11633" y="6077"/>
                </a:moveTo>
                <a:cubicBezTo>
                  <a:pt x="11778" y="6077"/>
                  <a:pt x="11913" y="6069"/>
                  <a:pt x="12055" y="6052"/>
                </a:cubicBezTo>
                <a:cubicBezTo>
                  <a:pt x="12183" y="6037"/>
                  <a:pt x="12323" y="6052"/>
                  <a:pt x="12452" y="6052"/>
                </a:cubicBezTo>
              </a:path>
              <a:path w="3797" h="1291">
                <a:moveTo>
                  <a:pt x="12824" y="6201"/>
                </a:moveTo>
                <a:cubicBezTo>
                  <a:pt x="12757" y="6201"/>
                  <a:pt x="12705" y="6196"/>
                  <a:pt x="12650" y="6226"/>
                </a:cubicBezTo>
                <a:cubicBezTo>
                  <a:pt x="12578" y="6265"/>
                  <a:pt x="12537" y="6323"/>
                  <a:pt x="12502" y="6400"/>
                </a:cubicBezTo>
                <a:cubicBezTo>
                  <a:pt x="12446" y="6521"/>
                  <a:pt x="12446" y="6622"/>
                  <a:pt x="12477" y="6747"/>
                </a:cubicBezTo>
                <a:cubicBezTo>
                  <a:pt x="12522" y="6747"/>
                  <a:pt x="12570" y="6762"/>
                  <a:pt x="12601" y="6722"/>
                </a:cubicBezTo>
                <a:cubicBezTo>
                  <a:pt x="12649" y="6660"/>
                  <a:pt x="12670" y="6569"/>
                  <a:pt x="12700" y="6499"/>
                </a:cubicBezTo>
                <a:cubicBezTo>
                  <a:pt x="12730" y="6431"/>
                  <a:pt x="12774" y="6354"/>
                  <a:pt x="12824" y="6300"/>
                </a:cubicBezTo>
                <a:cubicBezTo>
                  <a:pt x="12850" y="6271"/>
                  <a:pt x="12864" y="6260"/>
                  <a:pt x="12898" y="6251"/>
                </a:cubicBezTo>
                <a:cubicBezTo>
                  <a:pt x="12914" y="6314"/>
                  <a:pt x="12901" y="6350"/>
                  <a:pt x="12898" y="6424"/>
                </a:cubicBezTo>
                <a:cubicBezTo>
                  <a:pt x="12894" y="6512"/>
                  <a:pt x="12898" y="6622"/>
                  <a:pt x="12923" y="6672"/>
                </a:cubicBezTo>
                <a:cubicBezTo>
                  <a:pt x="12923" y="6707"/>
                  <a:pt x="12932" y="6711"/>
                  <a:pt x="12973" y="6672"/>
                </a:cubicBezTo>
              </a:path>
              <a:path w="3797" h="1291">
                <a:moveTo>
                  <a:pt x="13221" y="6226"/>
                </a:moveTo>
                <a:cubicBezTo>
                  <a:pt x="13221" y="6269"/>
                  <a:pt x="13210" y="6311"/>
                  <a:pt x="13196" y="6350"/>
                </a:cubicBezTo>
                <a:cubicBezTo>
                  <a:pt x="13176" y="6408"/>
                  <a:pt x="13161" y="6465"/>
                  <a:pt x="13146" y="6524"/>
                </a:cubicBezTo>
                <a:cubicBezTo>
                  <a:pt x="13137" y="6560"/>
                  <a:pt x="13146" y="6611"/>
                  <a:pt x="13146" y="6648"/>
                </a:cubicBezTo>
                <a:cubicBezTo>
                  <a:pt x="13174" y="6639"/>
                  <a:pt x="13193" y="6614"/>
                  <a:pt x="13196" y="6573"/>
                </a:cubicBezTo>
                <a:cubicBezTo>
                  <a:pt x="13201" y="6504"/>
                  <a:pt x="13231" y="6434"/>
                  <a:pt x="13271" y="6375"/>
                </a:cubicBezTo>
                <a:cubicBezTo>
                  <a:pt x="13308" y="6321"/>
                  <a:pt x="13362" y="6325"/>
                  <a:pt x="13419" y="6325"/>
                </a:cubicBezTo>
                <a:cubicBezTo>
                  <a:pt x="13467" y="6325"/>
                  <a:pt x="13497" y="6386"/>
                  <a:pt x="13519" y="6424"/>
                </a:cubicBezTo>
                <a:cubicBezTo>
                  <a:pt x="13563" y="6499"/>
                  <a:pt x="13547" y="6548"/>
                  <a:pt x="13568" y="6623"/>
                </a:cubicBezTo>
                <a:cubicBezTo>
                  <a:pt x="13590" y="6666"/>
                  <a:pt x="13594" y="6678"/>
                  <a:pt x="13618" y="6697"/>
                </a:cubicBezTo>
                <a:cubicBezTo>
                  <a:pt x="13654" y="6670"/>
                  <a:pt x="13682" y="6658"/>
                  <a:pt x="13717" y="6623"/>
                </a:cubicBezTo>
              </a:path>
              <a:path w="3797" h="1291">
                <a:moveTo>
                  <a:pt x="13866" y="5904"/>
                </a:moveTo>
                <a:cubicBezTo>
                  <a:pt x="13946" y="5904"/>
                  <a:pt x="14024" y="5891"/>
                  <a:pt x="14089" y="5928"/>
                </a:cubicBezTo>
                <a:cubicBezTo>
                  <a:pt x="14169" y="5973"/>
                  <a:pt x="14135" y="5966"/>
                  <a:pt x="14114" y="6028"/>
                </a:cubicBezTo>
                <a:cubicBezTo>
                  <a:pt x="14100" y="6070"/>
                  <a:pt x="14073" y="6092"/>
                  <a:pt x="14039" y="6127"/>
                </a:cubicBezTo>
                <a:cubicBezTo>
                  <a:pt x="14007" y="6159"/>
                  <a:pt x="13982" y="6179"/>
                  <a:pt x="13965" y="6201"/>
                </a:cubicBezTo>
                <a:cubicBezTo>
                  <a:pt x="13957" y="6209"/>
                  <a:pt x="13948" y="6218"/>
                  <a:pt x="13940" y="6226"/>
                </a:cubicBezTo>
                <a:cubicBezTo>
                  <a:pt x="13979" y="6265"/>
                  <a:pt x="14009" y="6287"/>
                  <a:pt x="14064" y="6300"/>
                </a:cubicBezTo>
                <a:cubicBezTo>
                  <a:pt x="14089" y="6300"/>
                  <a:pt x="14097" y="6300"/>
                  <a:pt x="14114" y="6300"/>
                </a:cubicBezTo>
              </a:path>
              <a:path w="3797" h="1291">
                <a:moveTo>
                  <a:pt x="14412" y="6201"/>
                </a:moveTo>
                <a:cubicBezTo>
                  <a:pt x="14454" y="6226"/>
                  <a:pt x="14508" y="6256"/>
                  <a:pt x="14536" y="6300"/>
                </a:cubicBezTo>
                <a:cubicBezTo>
                  <a:pt x="14581" y="6371"/>
                  <a:pt x="14558" y="6450"/>
                  <a:pt x="14610" y="6524"/>
                </a:cubicBezTo>
                <a:cubicBezTo>
                  <a:pt x="14637" y="6562"/>
                  <a:pt x="14666" y="6607"/>
                  <a:pt x="14684" y="6623"/>
                </a:cubicBezTo>
                <a:cubicBezTo>
                  <a:pt x="14727" y="6661"/>
                  <a:pt x="14776" y="6648"/>
                  <a:pt x="14833" y="6648"/>
                </a:cubicBezTo>
              </a:path>
              <a:path w="3797" h="1291">
                <a:moveTo>
                  <a:pt x="14982" y="6300"/>
                </a:moveTo>
                <a:cubicBezTo>
                  <a:pt x="14939" y="6334"/>
                  <a:pt x="14898" y="6361"/>
                  <a:pt x="14858" y="6400"/>
                </a:cubicBezTo>
                <a:cubicBezTo>
                  <a:pt x="14804" y="6453"/>
                  <a:pt x="14739" y="6492"/>
                  <a:pt x="14684" y="6548"/>
                </a:cubicBezTo>
                <a:cubicBezTo>
                  <a:pt x="14636" y="6596"/>
                  <a:pt x="14593" y="6649"/>
                  <a:pt x="14560" y="6697"/>
                </a:cubicBezTo>
                <a:cubicBezTo>
                  <a:pt x="14542" y="6723"/>
                  <a:pt x="14504" y="6761"/>
                  <a:pt x="14560" y="6722"/>
                </a:cubicBezTo>
              </a:path>
              <a:path w="3797" h="1291">
                <a:moveTo>
                  <a:pt x="15429" y="6524"/>
                </a:moveTo>
                <a:cubicBezTo>
                  <a:pt x="15429" y="6532"/>
                  <a:pt x="15429" y="6540"/>
                  <a:pt x="15429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86280" y="2089080"/>
            <a:ext cx="938520" cy="384120"/>
          </a:xfrm>
          <a:custGeom>
            <a:avLst/>
            <a:gdLst/>
            <a:ahLst/>
            <a:rect l="l" t="t" r="r" b="b"/>
            <a:pathLst>
              <a:path w="2606" h="1068">
                <a:moveTo>
                  <a:pt x="16396" y="5829"/>
                </a:moveTo>
                <a:cubicBezTo>
                  <a:pt x="16412" y="5892"/>
                  <a:pt x="16400" y="5881"/>
                  <a:pt x="16396" y="5953"/>
                </a:cubicBezTo>
                <a:cubicBezTo>
                  <a:pt x="16390" y="6053"/>
                  <a:pt x="16388" y="6153"/>
                  <a:pt x="16371" y="6251"/>
                </a:cubicBezTo>
                <a:cubicBezTo>
                  <a:pt x="16350" y="6370"/>
                  <a:pt x="16346" y="6477"/>
                  <a:pt x="16346" y="6598"/>
                </a:cubicBezTo>
                <a:cubicBezTo>
                  <a:pt x="16346" y="6665"/>
                  <a:pt x="16350" y="6735"/>
                  <a:pt x="16371" y="6796"/>
                </a:cubicBezTo>
                <a:cubicBezTo>
                  <a:pt x="16379" y="6813"/>
                  <a:pt x="16388" y="6829"/>
                  <a:pt x="16396" y="6846"/>
                </a:cubicBezTo>
              </a:path>
              <a:path w="2606" h="1068">
                <a:moveTo>
                  <a:pt x="16073" y="6251"/>
                </a:moveTo>
                <a:cubicBezTo>
                  <a:pt x="16124" y="6273"/>
                  <a:pt x="16193" y="6293"/>
                  <a:pt x="16247" y="6300"/>
                </a:cubicBezTo>
                <a:cubicBezTo>
                  <a:pt x="16341" y="6312"/>
                  <a:pt x="16429" y="6304"/>
                  <a:pt x="16520" y="6325"/>
                </a:cubicBezTo>
                <a:cubicBezTo>
                  <a:pt x="16604" y="6345"/>
                  <a:pt x="16682" y="6358"/>
                  <a:pt x="16768" y="6375"/>
                </a:cubicBezTo>
              </a:path>
              <a:path w="2606" h="1068">
                <a:moveTo>
                  <a:pt x="17289" y="6375"/>
                </a:moveTo>
                <a:cubicBezTo>
                  <a:pt x="17245" y="6356"/>
                  <a:pt x="17191" y="6335"/>
                  <a:pt x="17140" y="6350"/>
                </a:cubicBezTo>
                <a:cubicBezTo>
                  <a:pt x="17082" y="6367"/>
                  <a:pt x="17015" y="6422"/>
                  <a:pt x="16991" y="6474"/>
                </a:cubicBezTo>
                <a:cubicBezTo>
                  <a:pt x="16945" y="6574"/>
                  <a:pt x="16942" y="6665"/>
                  <a:pt x="16942" y="6772"/>
                </a:cubicBezTo>
                <a:cubicBezTo>
                  <a:pt x="16942" y="6839"/>
                  <a:pt x="16923" y="6856"/>
                  <a:pt x="16966" y="6871"/>
                </a:cubicBezTo>
                <a:cubicBezTo>
                  <a:pt x="17014" y="6855"/>
                  <a:pt x="17027" y="6775"/>
                  <a:pt x="17066" y="6722"/>
                </a:cubicBezTo>
                <a:cubicBezTo>
                  <a:pt x="17118" y="6651"/>
                  <a:pt x="17150" y="6580"/>
                  <a:pt x="17190" y="6499"/>
                </a:cubicBezTo>
                <a:cubicBezTo>
                  <a:pt x="17220" y="6439"/>
                  <a:pt x="17209" y="6449"/>
                  <a:pt x="17264" y="6449"/>
                </a:cubicBezTo>
                <a:cubicBezTo>
                  <a:pt x="17286" y="6464"/>
                  <a:pt x="17308" y="6552"/>
                  <a:pt x="17314" y="6598"/>
                </a:cubicBezTo>
                <a:cubicBezTo>
                  <a:pt x="17325" y="6678"/>
                  <a:pt x="17321" y="6744"/>
                  <a:pt x="17338" y="6821"/>
                </a:cubicBezTo>
                <a:cubicBezTo>
                  <a:pt x="17348" y="6866"/>
                  <a:pt x="17355" y="6846"/>
                  <a:pt x="17388" y="6821"/>
                </a:cubicBezTo>
              </a:path>
              <a:path w="2606" h="1068">
                <a:moveTo>
                  <a:pt x="17611" y="6424"/>
                </a:moveTo>
                <a:cubicBezTo>
                  <a:pt x="17611" y="6495"/>
                  <a:pt x="17590" y="6527"/>
                  <a:pt x="17587" y="6598"/>
                </a:cubicBezTo>
                <a:cubicBezTo>
                  <a:pt x="17583" y="6674"/>
                  <a:pt x="17562" y="6744"/>
                  <a:pt x="17562" y="6821"/>
                </a:cubicBezTo>
                <a:cubicBezTo>
                  <a:pt x="17562" y="6829"/>
                  <a:pt x="17562" y="6838"/>
                  <a:pt x="17562" y="6846"/>
                </a:cubicBezTo>
                <a:cubicBezTo>
                  <a:pt x="17588" y="6837"/>
                  <a:pt x="17604" y="6788"/>
                  <a:pt x="17611" y="6747"/>
                </a:cubicBezTo>
                <a:cubicBezTo>
                  <a:pt x="17623" y="6679"/>
                  <a:pt x="17646" y="6584"/>
                  <a:pt x="17686" y="6524"/>
                </a:cubicBezTo>
                <a:cubicBezTo>
                  <a:pt x="17720" y="6472"/>
                  <a:pt x="17777" y="6399"/>
                  <a:pt x="17835" y="6375"/>
                </a:cubicBezTo>
                <a:cubicBezTo>
                  <a:pt x="17891" y="6352"/>
                  <a:pt x="17914" y="6412"/>
                  <a:pt x="17934" y="6449"/>
                </a:cubicBezTo>
                <a:cubicBezTo>
                  <a:pt x="17968" y="6513"/>
                  <a:pt x="17979" y="6599"/>
                  <a:pt x="17983" y="6672"/>
                </a:cubicBezTo>
                <a:cubicBezTo>
                  <a:pt x="17986" y="6739"/>
                  <a:pt x="18014" y="6762"/>
                  <a:pt x="18058" y="6796"/>
                </a:cubicBezTo>
                <a:cubicBezTo>
                  <a:pt x="18066" y="6804"/>
                  <a:pt x="18075" y="6813"/>
                  <a:pt x="18083" y="6821"/>
                </a:cubicBezTo>
              </a:path>
              <a:path w="2606" h="1068">
                <a:moveTo>
                  <a:pt x="18281" y="5904"/>
                </a:moveTo>
                <a:cubicBezTo>
                  <a:pt x="18319" y="5888"/>
                  <a:pt x="18375" y="5874"/>
                  <a:pt x="18405" y="5854"/>
                </a:cubicBezTo>
                <a:cubicBezTo>
                  <a:pt x="18441" y="5830"/>
                  <a:pt x="18530" y="5789"/>
                  <a:pt x="18579" y="5804"/>
                </a:cubicBezTo>
                <a:cubicBezTo>
                  <a:pt x="18609" y="5813"/>
                  <a:pt x="18643" y="5850"/>
                  <a:pt x="18653" y="5879"/>
                </a:cubicBezTo>
                <a:cubicBezTo>
                  <a:pt x="18661" y="5904"/>
                  <a:pt x="18614" y="5955"/>
                  <a:pt x="18604" y="5978"/>
                </a:cubicBezTo>
                <a:cubicBezTo>
                  <a:pt x="18577" y="6041"/>
                  <a:pt x="18526" y="6079"/>
                  <a:pt x="18479" y="6127"/>
                </a:cubicBezTo>
                <a:cubicBezTo>
                  <a:pt x="18446" y="6161"/>
                  <a:pt x="18426" y="6194"/>
                  <a:pt x="18405" y="6226"/>
                </a:cubicBezTo>
                <a:cubicBezTo>
                  <a:pt x="18375" y="6272"/>
                  <a:pt x="18355" y="6267"/>
                  <a:pt x="18355" y="6325"/>
                </a:cubicBezTo>
                <a:cubicBezTo>
                  <a:pt x="18355" y="6366"/>
                  <a:pt x="18401" y="6356"/>
                  <a:pt x="18430" y="6375"/>
                </a:cubicBezTo>
                <a:cubicBezTo>
                  <a:pt x="18497" y="6420"/>
                  <a:pt x="18531" y="6392"/>
                  <a:pt x="18604" y="6375"/>
                </a:cubicBezTo>
                <a:cubicBezTo>
                  <a:pt x="18637" y="6375"/>
                  <a:pt x="18653" y="6375"/>
                  <a:pt x="18678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85000" y="2232000"/>
            <a:ext cx="250920" cy="31284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19174" y="6226"/>
                </a:moveTo>
                <a:cubicBezTo>
                  <a:pt x="19202" y="6263"/>
                  <a:pt x="19223" y="6308"/>
                  <a:pt x="19248" y="6350"/>
                </a:cubicBezTo>
                <a:cubicBezTo>
                  <a:pt x="19295" y="6430"/>
                  <a:pt x="19347" y="6498"/>
                  <a:pt x="19397" y="6573"/>
                </a:cubicBezTo>
                <a:cubicBezTo>
                  <a:pt x="19437" y="6633"/>
                  <a:pt x="19484" y="6703"/>
                  <a:pt x="19546" y="6747"/>
                </a:cubicBezTo>
                <a:cubicBezTo>
                  <a:pt x="19596" y="6782"/>
                  <a:pt x="19649" y="6805"/>
                  <a:pt x="19695" y="6846"/>
                </a:cubicBezTo>
                <a:cubicBezTo>
                  <a:pt x="19735" y="6882"/>
                  <a:pt x="19740" y="6896"/>
                  <a:pt x="19794" y="6896"/>
                </a:cubicBezTo>
                <a:cubicBezTo>
                  <a:pt x="19802" y="6896"/>
                  <a:pt x="19811" y="6896"/>
                  <a:pt x="19819" y="6896"/>
                </a:cubicBezTo>
              </a:path>
              <a:path w="696" h="869">
                <a:moveTo>
                  <a:pt x="19745" y="6201"/>
                </a:moveTo>
                <a:cubicBezTo>
                  <a:pt x="19716" y="6268"/>
                  <a:pt x="19686" y="6312"/>
                  <a:pt x="19645" y="6375"/>
                </a:cubicBezTo>
                <a:cubicBezTo>
                  <a:pt x="19565" y="6498"/>
                  <a:pt x="19463" y="6608"/>
                  <a:pt x="19372" y="6722"/>
                </a:cubicBezTo>
                <a:cubicBezTo>
                  <a:pt x="19283" y="6833"/>
                  <a:pt x="19204" y="6951"/>
                  <a:pt x="19124" y="70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81200" y="2670120"/>
            <a:ext cx="1249560" cy="473040"/>
          </a:xfrm>
          <a:custGeom>
            <a:avLst/>
            <a:gdLst/>
            <a:ahLst/>
            <a:rect l="l" t="t" r="r" b="b"/>
            <a:pathLst>
              <a:path w="3473" h="1315">
                <a:moveTo>
                  <a:pt x="10046" y="7938"/>
                </a:moveTo>
                <a:cubicBezTo>
                  <a:pt x="10089" y="7924"/>
                  <a:pt x="10102" y="7915"/>
                  <a:pt x="10145" y="7938"/>
                </a:cubicBezTo>
                <a:cubicBezTo>
                  <a:pt x="10195" y="7965"/>
                  <a:pt x="10231" y="7983"/>
                  <a:pt x="10294" y="7987"/>
                </a:cubicBezTo>
                <a:cubicBezTo>
                  <a:pt x="10366" y="7991"/>
                  <a:pt x="10423" y="8008"/>
                  <a:pt x="10492" y="8012"/>
                </a:cubicBezTo>
                <a:cubicBezTo>
                  <a:pt x="10555" y="8016"/>
                  <a:pt x="10593" y="8000"/>
                  <a:pt x="10641" y="8037"/>
                </a:cubicBezTo>
              </a:path>
              <a:path w="3473" h="1315">
                <a:moveTo>
                  <a:pt x="10120" y="8334"/>
                </a:moveTo>
                <a:cubicBezTo>
                  <a:pt x="10167" y="8369"/>
                  <a:pt x="10207" y="8359"/>
                  <a:pt x="10269" y="8359"/>
                </a:cubicBezTo>
                <a:cubicBezTo>
                  <a:pt x="10365" y="8359"/>
                  <a:pt x="10517" y="8327"/>
                  <a:pt x="10592" y="8384"/>
                </a:cubicBezTo>
              </a:path>
              <a:path w="3473" h="1315">
                <a:moveTo>
                  <a:pt x="7342" y="7491"/>
                </a:moveTo>
                <a:cubicBezTo>
                  <a:pt x="7352" y="7529"/>
                  <a:pt x="7354" y="7575"/>
                  <a:pt x="7367" y="7615"/>
                </a:cubicBezTo>
                <a:cubicBezTo>
                  <a:pt x="7395" y="7699"/>
                  <a:pt x="7392" y="7771"/>
                  <a:pt x="7392" y="7863"/>
                </a:cubicBezTo>
                <a:cubicBezTo>
                  <a:pt x="7392" y="7966"/>
                  <a:pt x="7351" y="8723"/>
                  <a:pt x="7417" y="8731"/>
                </a:cubicBezTo>
                <a:cubicBezTo>
                  <a:pt x="7425" y="8731"/>
                  <a:pt x="7433" y="8731"/>
                  <a:pt x="7441" y="8731"/>
                </a:cubicBezTo>
              </a:path>
              <a:path w="3473" h="1315">
                <a:moveTo>
                  <a:pt x="7169" y="8037"/>
                </a:moveTo>
                <a:cubicBezTo>
                  <a:pt x="7214" y="8037"/>
                  <a:pt x="7228" y="8059"/>
                  <a:pt x="7268" y="8062"/>
                </a:cubicBezTo>
                <a:cubicBezTo>
                  <a:pt x="7521" y="8080"/>
                  <a:pt x="7783" y="8062"/>
                  <a:pt x="8037" y="8062"/>
                </a:cubicBezTo>
              </a:path>
              <a:path w="3473" h="1315">
                <a:moveTo>
                  <a:pt x="8310" y="8136"/>
                </a:moveTo>
                <a:cubicBezTo>
                  <a:pt x="8264" y="8136"/>
                  <a:pt x="8245" y="8129"/>
                  <a:pt x="8210" y="8161"/>
                </a:cubicBezTo>
                <a:cubicBezTo>
                  <a:pt x="8140" y="8225"/>
                  <a:pt x="8120" y="8235"/>
                  <a:pt x="8086" y="8334"/>
                </a:cubicBezTo>
                <a:cubicBezTo>
                  <a:pt x="8060" y="8412"/>
                  <a:pt x="8018" y="8478"/>
                  <a:pt x="8012" y="8558"/>
                </a:cubicBezTo>
                <a:cubicBezTo>
                  <a:pt x="8012" y="8566"/>
                  <a:pt x="8012" y="8574"/>
                  <a:pt x="8012" y="8582"/>
                </a:cubicBezTo>
                <a:cubicBezTo>
                  <a:pt x="8114" y="8582"/>
                  <a:pt x="8082" y="8570"/>
                  <a:pt x="8136" y="8458"/>
                </a:cubicBezTo>
                <a:cubicBezTo>
                  <a:pt x="8171" y="8385"/>
                  <a:pt x="8220" y="8306"/>
                  <a:pt x="8260" y="8235"/>
                </a:cubicBezTo>
                <a:cubicBezTo>
                  <a:pt x="8278" y="8203"/>
                  <a:pt x="8305" y="8193"/>
                  <a:pt x="8334" y="8186"/>
                </a:cubicBezTo>
                <a:cubicBezTo>
                  <a:pt x="8334" y="8254"/>
                  <a:pt x="8293" y="8525"/>
                  <a:pt x="8359" y="8558"/>
                </a:cubicBezTo>
                <a:cubicBezTo>
                  <a:pt x="8384" y="8558"/>
                  <a:pt x="8392" y="8558"/>
                  <a:pt x="8409" y="8558"/>
                </a:cubicBezTo>
              </a:path>
              <a:path w="3473" h="1315">
                <a:moveTo>
                  <a:pt x="8706" y="8161"/>
                </a:moveTo>
                <a:cubicBezTo>
                  <a:pt x="8744" y="8174"/>
                  <a:pt x="8731" y="8190"/>
                  <a:pt x="8731" y="8235"/>
                </a:cubicBezTo>
                <a:cubicBezTo>
                  <a:pt x="8731" y="8333"/>
                  <a:pt x="8724" y="8424"/>
                  <a:pt x="8706" y="8508"/>
                </a:cubicBezTo>
                <a:cubicBezTo>
                  <a:pt x="8702" y="8525"/>
                  <a:pt x="8731" y="8643"/>
                  <a:pt x="8731" y="8582"/>
                </a:cubicBezTo>
                <a:cubicBezTo>
                  <a:pt x="8731" y="8543"/>
                  <a:pt x="8756" y="8528"/>
                  <a:pt x="8756" y="8483"/>
                </a:cubicBezTo>
                <a:cubicBezTo>
                  <a:pt x="8756" y="8438"/>
                  <a:pt x="8776" y="8425"/>
                  <a:pt x="8781" y="8384"/>
                </a:cubicBezTo>
                <a:cubicBezTo>
                  <a:pt x="8787" y="8329"/>
                  <a:pt x="8769" y="8302"/>
                  <a:pt x="8806" y="8260"/>
                </a:cubicBezTo>
                <a:cubicBezTo>
                  <a:pt x="8823" y="8241"/>
                  <a:pt x="8842" y="8170"/>
                  <a:pt x="8855" y="8161"/>
                </a:cubicBezTo>
                <a:cubicBezTo>
                  <a:pt x="8882" y="8143"/>
                  <a:pt x="8918" y="8136"/>
                  <a:pt x="8954" y="8136"/>
                </a:cubicBezTo>
                <a:cubicBezTo>
                  <a:pt x="9005" y="8136"/>
                  <a:pt x="9008" y="8150"/>
                  <a:pt x="9029" y="8161"/>
                </a:cubicBezTo>
                <a:cubicBezTo>
                  <a:pt x="9058" y="8175"/>
                  <a:pt x="9091" y="8161"/>
                  <a:pt x="9103" y="8186"/>
                </a:cubicBezTo>
                <a:cubicBezTo>
                  <a:pt x="9121" y="8222"/>
                  <a:pt x="9082" y="8253"/>
                  <a:pt x="9079" y="8285"/>
                </a:cubicBezTo>
                <a:cubicBezTo>
                  <a:pt x="9068" y="8392"/>
                  <a:pt x="9073" y="8515"/>
                  <a:pt x="9103" y="8607"/>
                </a:cubicBezTo>
                <a:cubicBezTo>
                  <a:pt x="9109" y="8626"/>
                  <a:pt x="9103" y="8661"/>
                  <a:pt x="9103" y="8682"/>
                </a:cubicBezTo>
              </a:path>
              <a:path w="3473" h="1315">
                <a:moveTo>
                  <a:pt x="9599" y="7417"/>
                </a:moveTo>
                <a:cubicBezTo>
                  <a:pt x="9586" y="7456"/>
                  <a:pt x="9588" y="7426"/>
                  <a:pt x="9575" y="7466"/>
                </a:cubicBezTo>
                <a:cubicBezTo>
                  <a:pt x="9594" y="7514"/>
                  <a:pt x="9575" y="7573"/>
                  <a:pt x="9575" y="7640"/>
                </a:cubicBezTo>
                <a:cubicBezTo>
                  <a:pt x="9575" y="7716"/>
                  <a:pt x="9566" y="7768"/>
                  <a:pt x="9550" y="7838"/>
                </a:cubicBezTo>
                <a:cubicBezTo>
                  <a:pt x="9541" y="7875"/>
                  <a:pt x="9550" y="7923"/>
                  <a:pt x="9550" y="7962"/>
                </a:cubicBezTo>
              </a:path>
              <a:path w="3473" h="1315">
                <a:moveTo>
                  <a:pt x="9624" y="7441"/>
                </a:moveTo>
                <a:cubicBezTo>
                  <a:pt x="9573" y="7471"/>
                  <a:pt x="9542" y="7500"/>
                  <a:pt x="9500" y="7541"/>
                </a:cubicBezTo>
                <a:cubicBezTo>
                  <a:pt x="9451" y="7589"/>
                  <a:pt x="9421" y="7600"/>
                  <a:pt x="9401" y="7665"/>
                </a:cubicBezTo>
                <a:cubicBezTo>
                  <a:pt x="9388" y="7708"/>
                  <a:pt x="9401" y="7727"/>
                  <a:pt x="9426" y="7739"/>
                </a:cubicBezTo>
                <a:cubicBezTo>
                  <a:pt x="9511" y="7779"/>
                  <a:pt x="9492" y="7754"/>
                  <a:pt x="9575" y="7739"/>
                </a:cubicBezTo>
                <a:cubicBezTo>
                  <a:pt x="9637" y="7728"/>
                  <a:pt x="9709" y="7739"/>
                  <a:pt x="9773" y="7739"/>
                </a:cubicBezTo>
              </a:path>
              <a:path w="3473" h="1315">
                <a:moveTo>
                  <a:pt x="9699" y="8210"/>
                </a:moveTo>
                <a:cubicBezTo>
                  <a:pt x="9699" y="8202"/>
                  <a:pt x="9699" y="8194"/>
                  <a:pt x="9699" y="8186"/>
                </a:cubicBezTo>
                <a:cubicBezTo>
                  <a:pt x="9727" y="8195"/>
                  <a:pt x="9739" y="8248"/>
                  <a:pt x="9773" y="8285"/>
                </a:cubicBezTo>
                <a:cubicBezTo>
                  <a:pt x="9805" y="8319"/>
                  <a:pt x="9826" y="8352"/>
                  <a:pt x="9847" y="8384"/>
                </a:cubicBezTo>
                <a:cubicBezTo>
                  <a:pt x="9871" y="8420"/>
                  <a:pt x="9930" y="8444"/>
                  <a:pt x="9947" y="8483"/>
                </a:cubicBezTo>
                <a:cubicBezTo>
                  <a:pt x="9947" y="8491"/>
                  <a:pt x="9947" y="8500"/>
                  <a:pt x="9947" y="8508"/>
                </a:cubicBezTo>
              </a:path>
              <a:path w="3473" h="1315">
                <a:moveTo>
                  <a:pt x="9971" y="8161"/>
                </a:moveTo>
                <a:cubicBezTo>
                  <a:pt x="9971" y="8216"/>
                  <a:pt x="9949" y="8234"/>
                  <a:pt x="9922" y="8285"/>
                </a:cubicBezTo>
                <a:cubicBezTo>
                  <a:pt x="9876" y="8371"/>
                  <a:pt x="9849" y="8453"/>
                  <a:pt x="9798" y="8533"/>
                </a:cubicBezTo>
                <a:cubicBezTo>
                  <a:pt x="9773" y="8573"/>
                  <a:pt x="9757" y="8613"/>
                  <a:pt x="9748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59160" y="2751120"/>
            <a:ext cx="2268720" cy="598680"/>
          </a:xfrm>
          <a:custGeom>
            <a:avLst/>
            <a:gdLst/>
            <a:ahLst/>
            <a:rect l="l" t="t" r="r" b="b"/>
            <a:pathLst>
              <a:path w="6301" h="1663">
                <a:moveTo>
                  <a:pt x="12154" y="7640"/>
                </a:moveTo>
                <a:cubicBezTo>
                  <a:pt x="12151" y="7641"/>
                  <a:pt x="12135" y="7717"/>
                  <a:pt x="12129" y="7764"/>
                </a:cubicBezTo>
                <a:cubicBezTo>
                  <a:pt x="12109" y="7916"/>
                  <a:pt x="12117" y="8083"/>
                  <a:pt x="12105" y="8235"/>
                </a:cubicBezTo>
                <a:cubicBezTo>
                  <a:pt x="12094" y="8377"/>
                  <a:pt x="12094" y="8515"/>
                  <a:pt x="12080" y="8657"/>
                </a:cubicBezTo>
                <a:cubicBezTo>
                  <a:pt x="12075" y="8705"/>
                  <a:pt x="12080" y="8757"/>
                  <a:pt x="12080" y="8806"/>
                </a:cubicBezTo>
              </a:path>
              <a:path w="6301" h="1663">
                <a:moveTo>
                  <a:pt x="11832" y="8037"/>
                </a:moveTo>
                <a:cubicBezTo>
                  <a:pt x="11879" y="8037"/>
                  <a:pt x="11895" y="8054"/>
                  <a:pt x="11931" y="8062"/>
                </a:cubicBezTo>
                <a:cubicBezTo>
                  <a:pt x="12007" y="8078"/>
                  <a:pt x="12073" y="8086"/>
                  <a:pt x="12154" y="8086"/>
                </a:cubicBezTo>
                <a:cubicBezTo>
                  <a:pt x="12355" y="8086"/>
                  <a:pt x="12552" y="8096"/>
                  <a:pt x="12750" y="8062"/>
                </a:cubicBezTo>
              </a:path>
              <a:path w="6301" h="1663">
                <a:moveTo>
                  <a:pt x="13097" y="8210"/>
                </a:moveTo>
                <a:cubicBezTo>
                  <a:pt x="13059" y="8189"/>
                  <a:pt x="13014" y="8139"/>
                  <a:pt x="12973" y="8136"/>
                </a:cubicBezTo>
                <a:cubicBezTo>
                  <a:pt x="12892" y="8130"/>
                  <a:pt x="12836" y="8277"/>
                  <a:pt x="12799" y="8334"/>
                </a:cubicBezTo>
                <a:cubicBezTo>
                  <a:pt x="12730" y="8441"/>
                  <a:pt x="12725" y="8507"/>
                  <a:pt x="12725" y="8632"/>
                </a:cubicBezTo>
                <a:cubicBezTo>
                  <a:pt x="12725" y="8649"/>
                  <a:pt x="12725" y="8665"/>
                  <a:pt x="12725" y="8682"/>
                </a:cubicBezTo>
                <a:cubicBezTo>
                  <a:pt x="12779" y="8722"/>
                  <a:pt x="12820" y="8702"/>
                  <a:pt x="12874" y="8657"/>
                </a:cubicBezTo>
                <a:cubicBezTo>
                  <a:pt x="12925" y="8614"/>
                  <a:pt x="12928" y="8541"/>
                  <a:pt x="12948" y="8483"/>
                </a:cubicBezTo>
                <a:cubicBezTo>
                  <a:pt x="12980" y="8393"/>
                  <a:pt x="13007" y="8330"/>
                  <a:pt x="13072" y="8260"/>
                </a:cubicBezTo>
                <a:cubicBezTo>
                  <a:pt x="13095" y="8237"/>
                  <a:pt x="13099" y="8229"/>
                  <a:pt x="13122" y="8235"/>
                </a:cubicBezTo>
                <a:cubicBezTo>
                  <a:pt x="13162" y="8304"/>
                  <a:pt x="13125" y="8354"/>
                  <a:pt x="13122" y="8434"/>
                </a:cubicBezTo>
                <a:cubicBezTo>
                  <a:pt x="13120" y="8488"/>
                  <a:pt x="13092" y="8673"/>
                  <a:pt x="13146" y="8706"/>
                </a:cubicBezTo>
                <a:cubicBezTo>
                  <a:pt x="13174" y="8706"/>
                  <a:pt x="13185" y="8704"/>
                  <a:pt x="13196" y="8682"/>
                </a:cubicBezTo>
              </a:path>
              <a:path w="6301" h="1663">
                <a:moveTo>
                  <a:pt x="13494" y="8310"/>
                </a:moveTo>
                <a:cubicBezTo>
                  <a:pt x="13442" y="8361"/>
                  <a:pt x="13465" y="8372"/>
                  <a:pt x="13444" y="8434"/>
                </a:cubicBezTo>
                <a:cubicBezTo>
                  <a:pt x="13424" y="8492"/>
                  <a:pt x="13437" y="8551"/>
                  <a:pt x="13419" y="8607"/>
                </a:cubicBezTo>
                <a:cubicBezTo>
                  <a:pt x="13399" y="8648"/>
                  <a:pt x="13391" y="8654"/>
                  <a:pt x="13395" y="8682"/>
                </a:cubicBezTo>
                <a:cubicBezTo>
                  <a:pt x="13423" y="8613"/>
                  <a:pt x="13415" y="8552"/>
                  <a:pt x="13444" y="8483"/>
                </a:cubicBezTo>
                <a:cubicBezTo>
                  <a:pt x="13479" y="8401"/>
                  <a:pt x="13477" y="8393"/>
                  <a:pt x="13543" y="8334"/>
                </a:cubicBezTo>
                <a:cubicBezTo>
                  <a:pt x="13577" y="8303"/>
                  <a:pt x="13598" y="8310"/>
                  <a:pt x="13643" y="8310"/>
                </a:cubicBezTo>
                <a:cubicBezTo>
                  <a:pt x="13684" y="8310"/>
                  <a:pt x="13721" y="8316"/>
                  <a:pt x="13742" y="8359"/>
                </a:cubicBezTo>
                <a:cubicBezTo>
                  <a:pt x="13789" y="8459"/>
                  <a:pt x="13761" y="8534"/>
                  <a:pt x="13742" y="8632"/>
                </a:cubicBezTo>
                <a:cubicBezTo>
                  <a:pt x="13733" y="8678"/>
                  <a:pt x="13708" y="8665"/>
                  <a:pt x="13742" y="8682"/>
                </a:cubicBezTo>
              </a:path>
              <a:path w="6301" h="1663">
                <a:moveTo>
                  <a:pt x="14263" y="7714"/>
                </a:moveTo>
                <a:cubicBezTo>
                  <a:pt x="14254" y="7784"/>
                  <a:pt x="14238" y="7839"/>
                  <a:pt x="14238" y="7913"/>
                </a:cubicBezTo>
                <a:cubicBezTo>
                  <a:pt x="14238" y="8007"/>
                  <a:pt x="14213" y="8090"/>
                  <a:pt x="14213" y="8186"/>
                </a:cubicBezTo>
                <a:cubicBezTo>
                  <a:pt x="14213" y="8209"/>
                  <a:pt x="14213" y="8344"/>
                  <a:pt x="14213" y="8285"/>
                </a:cubicBezTo>
              </a:path>
              <a:path w="6301" h="1663">
                <a:moveTo>
                  <a:pt x="14362" y="7739"/>
                </a:moveTo>
                <a:cubicBezTo>
                  <a:pt x="14290" y="7708"/>
                  <a:pt x="14278" y="7715"/>
                  <a:pt x="14213" y="7764"/>
                </a:cubicBezTo>
                <a:cubicBezTo>
                  <a:pt x="14149" y="7812"/>
                  <a:pt x="14112" y="7850"/>
                  <a:pt x="14064" y="7913"/>
                </a:cubicBezTo>
                <a:cubicBezTo>
                  <a:pt x="14043" y="7941"/>
                  <a:pt x="14013" y="7987"/>
                  <a:pt x="14064" y="8012"/>
                </a:cubicBezTo>
                <a:cubicBezTo>
                  <a:pt x="14135" y="8048"/>
                  <a:pt x="14211" y="8037"/>
                  <a:pt x="14288" y="8037"/>
                </a:cubicBezTo>
                <a:cubicBezTo>
                  <a:pt x="14379" y="8037"/>
                  <a:pt x="14469" y="8037"/>
                  <a:pt x="14560" y="8037"/>
                </a:cubicBezTo>
              </a:path>
              <a:path w="6301" h="1663">
                <a:moveTo>
                  <a:pt x="14759" y="8235"/>
                </a:moveTo>
                <a:cubicBezTo>
                  <a:pt x="14793" y="8314"/>
                  <a:pt x="14834" y="8363"/>
                  <a:pt x="14883" y="8434"/>
                </a:cubicBezTo>
                <a:cubicBezTo>
                  <a:pt x="14923" y="8492"/>
                  <a:pt x="14968" y="8549"/>
                  <a:pt x="15007" y="8607"/>
                </a:cubicBezTo>
                <a:cubicBezTo>
                  <a:pt x="15043" y="8661"/>
                  <a:pt x="15098" y="8717"/>
                  <a:pt x="15156" y="8756"/>
                </a:cubicBezTo>
                <a:cubicBezTo>
                  <a:pt x="15195" y="8782"/>
                  <a:pt x="15247" y="8808"/>
                  <a:pt x="15280" y="8830"/>
                </a:cubicBezTo>
                <a:cubicBezTo>
                  <a:pt x="15302" y="8853"/>
                  <a:pt x="15307" y="8861"/>
                  <a:pt x="15329" y="8855"/>
                </a:cubicBezTo>
              </a:path>
              <a:path w="6301" h="1663">
                <a:moveTo>
                  <a:pt x="15453" y="8260"/>
                </a:moveTo>
                <a:cubicBezTo>
                  <a:pt x="15323" y="8391"/>
                  <a:pt x="15179" y="8523"/>
                  <a:pt x="15056" y="8657"/>
                </a:cubicBezTo>
                <a:cubicBezTo>
                  <a:pt x="14927" y="8797"/>
                  <a:pt x="14785" y="8934"/>
                  <a:pt x="14660" y="9079"/>
                </a:cubicBezTo>
                <a:cubicBezTo>
                  <a:pt x="14585" y="9178"/>
                  <a:pt x="14560" y="9211"/>
                  <a:pt x="14511" y="9277"/>
                </a:cubicBezTo>
              </a:path>
              <a:path w="6301" h="1663">
                <a:moveTo>
                  <a:pt x="15999" y="8359"/>
                </a:moveTo>
                <a:cubicBezTo>
                  <a:pt x="16011" y="8396"/>
                  <a:pt x="16020" y="8416"/>
                  <a:pt x="16024" y="8458"/>
                </a:cubicBezTo>
                <a:cubicBezTo>
                  <a:pt x="16036" y="8580"/>
                  <a:pt x="16039" y="8709"/>
                  <a:pt x="16049" y="8830"/>
                </a:cubicBezTo>
                <a:cubicBezTo>
                  <a:pt x="16063" y="8992"/>
                  <a:pt x="16046" y="9109"/>
                  <a:pt x="16148" y="9252"/>
                </a:cubicBezTo>
                <a:cubicBezTo>
                  <a:pt x="16176" y="9291"/>
                  <a:pt x="16220" y="9322"/>
                  <a:pt x="16272" y="9302"/>
                </a:cubicBezTo>
                <a:cubicBezTo>
                  <a:pt x="16370" y="9264"/>
                  <a:pt x="16414" y="9105"/>
                  <a:pt x="16470" y="9029"/>
                </a:cubicBezTo>
                <a:cubicBezTo>
                  <a:pt x="16595" y="8860"/>
                  <a:pt x="16734" y="8699"/>
                  <a:pt x="16892" y="8558"/>
                </a:cubicBezTo>
                <a:cubicBezTo>
                  <a:pt x="17060" y="8408"/>
                  <a:pt x="17258" y="8303"/>
                  <a:pt x="17462" y="8210"/>
                </a:cubicBezTo>
                <a:cubicBezTo>
                  <a:pt x="17684" y="8108"/>
                  <a:pt x="17909" y="8012"/>
                  <a:pt x="18132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0760" y="3697200"/>
            <a:ext cx="2349360" cy="490680"/>
          </a:xfrm>
          <a:custGeom>
            <a:avLst/>
            <a:gdLst/>
            <a:ahLst/>
            <a:rect l="l" t="t" r="r" b="b"/>
            <a:pathLst>
              <a:path w="6524" h="1365">
                <a:moveTo>
                  <a:pt x="13965" y="10393"/>
                </a:moveTo>
                <a:cubicBezTo>
                  <a:pt x="13944" y="10452"/>
                  <a:pt x="13931" y="10508"/>
                  <a:pt x="13915" y="10567"/>
                </a:cubicBezTo>
                <a:cubicBezTo>
                  <a:pt x="13896" y="10635"/>
                  <a:pt x="13893" y="10687"/>
                  <a:pt x="13891" y="10765"/>
                </a:cubicBezTo>
                <a:cubicBezTo>
                  <a:pt x="13890" y="10806"/>
                  <a:pt x="13891" y="10848"/>
                  <a:pt x="13891" y="10889"/>
                </a:cubicBezTo>
                <a:cubicBezTo>
                  <a:pt x="13934" y="10881"/>
                  <a:pt x="13983" y="10920"/>
                  <a:pt x="14039" y="10889"/>
                </a:cubicBezTo>
                <a:cubicBezTo>
                  <a:pt x="14144" y="10831"/>
                  <a:pt x="14192" y="10699"/>
                  <a:pt x="14263" y="10616"/>
                </a:cubicBezTo>
                <a:cubicBezTo>
                  <a:pt x="14323" y="10545"/>
                  <a:pt x="14375" y="10475"/>
                  <a:pt x="14436" y="10418"/>
                </a:cubicBezTo>
                <a:cubicBezTo>
                  <a:pt x="14466" y="10390"/>
                  <a:pt x="14513" y="10364"/>
                  <a:pt x="14536" y="10344"/>
                </a:cubicBezTo>
                <a:cubicBezTo>
                  <a:pt x="14529" y="10376"/>
                  <a:pt x="14517" y="10386"/>
                  <a:pt x="14511" y="10418"/>
                </a:cubicBezTo>
                <a:cubicBezTo>
                  <a:pt x="14500" y="10475"/>
                  <a:pt x="14495" y="10534"/>
                  <a:pt x="14486" y="10592"/>
                </a:cubicBezTo>
                <a:cubicBezTo>
                  <a:pt x="14467" y="10708"/>
                  <a:pt x="14449" y="10821"/>
                  <a:pt x="14436" y="10939"/>
                </a:cubicBezTo>
                <a:cubicBezTo>
                  <a:pt x="14418" y="11099"/>
                  <a:pt x="14407" y="11253"/>
                  <a:pt x="14387" y="11410"/>
                </a:cubicBezTo>
                <a:cubicBezTo>
                  <a:pt x="14378" y="11478"/>
                  <a:pt x="14350" y="11544"/>
                  <a:pt x="14337" y="11609"/>
                </a:cubicBezTo>
                <a:cubicBezTo>
                  <a:pt x="14339" y="11576"/>
                  <a:pt x="14332" y="11591"/>
                  <a:pt x="14337" y="11559"/>
                </a:cubicBezTo>
                <a:cubicBezTo>
                  <a:pt x="14349" y="11487"/>
                  <a:pt x="14358" y="11431"/>
                  <a:pt x="14362" y="11361"/>
                </a:cubicBezTo>
                <a:cubicBezTo>
                  <a:pt x="14369" y="11245"/>
                  <a:pt x="14358" y="11125"/>
                  <a:pt x="14387" y="11013"/>
                </a:cubicBezTo>
                <a:cubicBezTo>
                  <a:pt x="14414" y="10912"/>
                  <a:pt x="14464" y="10808"/>
                  <a:pt x="14511" y="10716"/>
                </a:cubicBezTo>
                <a:cubicBezTo>
                  <a:pt x="14579" y="10582"/>
                  <a:pt x="14672" y="10468"/>
                  <a:pt x="14784" y="10368"/>
                </a:cubicBezTo>
                <a:cubicBezTo>
                  <a:pt x="14838" y="10320"/>
                  <a:pt x="14884" y="10280"/>
                  <a:pt x="14957" y="10269"/>
                </a:cubicBezTo>
                <a:cubicBezTo>
                  <a:pt x="15032" y="10258"/>
                  <a:pt x="15070" y="10281"/>
                  <a:pt x="15131" y="10319"/>
                </a:cubicBezTo>
                <a:cubicBezTo>
                  <a:pt x="15176" y="10347"/>
                  <a:pt x="15227" y="10425"/>
                  <a:pt x="15255" y="10468"/>
                </a:cubicBezTo>
                <a:cubicBezTo>
                  <a:pt x="15304" y="10544"/>
                  <a:pt x="15318" y="10606"/>
                  <a:pt x="15329" y="10691"/>
                </a:cubicBezTo>
                <a:cubicBezTo>
                  <a:pt x="15340" y="10775"/>
                  <a:pt x="15316" y="10839"/>
                  <a:pt x="15304" y="10914"/>
                </a:cubicBezTo>
                <a:cubicBezTo>
                  <a:pt x="15291" y="10998"/>
                  <a:pt x="15281" y="11063"/>
                  <a:pt x="15230" y="11137"/>
                </a:cubicBezTo>
                <a:cubicBezTo>
                  <a:pt x="15198" y="11184"/>
                  <a:pt x="15157" y="11229"/>
                  <a:pt x="15106" y="11261"/>
                </a:cubicBezTo>
                <a:cubicBezTo>
                  <a:pt x="15042" y="11301"/>
                  <a:pt x="14972" y="11317"/>
                  <a:pt x="14908" y="11336"/>
                </a:cubicBezTo>
                <a:cubicBezTo>
                  <a:pt x="14858" y="11351"/>
                  <a:pt x="14811" y="11351"/>
                  <a:pt x="14759" y="11361"/>
                </a:cubicBezTo>
                <a:cubicBezTo>
                  <a:pt x="14704" y="11371"/>
                  <a:pt x="14639" y="11370"/>
                  <a:pt x="14585" y="11385"/>
                </a:cubicBezTo>
                <a:cubicBezTo>
                  <a:pt x="14544" y="11397"/>
                  <a:pt x="14495" y="11418"/>
                  <a:pt x="14461" y="11435"/>
                </a:cubicBezTo>
                <a:cubicBezTo>
                  <a:pt x="14437" y="11447"/>
                  <a:pt x="14394" y="11482"/>
                  <a:pt x="14387" y="11485"/>
                </a:cubicBezTo>
                <a:cubicBezTo>
                  <a:pt x="14435" y="11495"/>
                  <a:pt x="14424" y="11499"/>
                  <a:pt x="14461" y="11509"/>
                </a:cubicBezTo>
                <a:cubicBezTo>
                  <a:pt x="14505" y="11521"/>
                  <a:pt x="14533" y="11529"/>
                  <a:pt x="14585" y="11534"/>
                </a:cubicBezTo>
                <a:cubicBezTo>
                  <a:pt x="14667" y="11542"/>
                  <a:pt x="14731" y="11514"/>
                  <a:pt x="14808" y="11509"/>
                </a:cubicBezTo>
                <a:cubicBezTo>
                  <a:pt x="14906" y="11503"/>
                  <a:pt x="14962" y="11483"/>
                  <a:pt x="15056" y="11460"/>
                </a:cubicBezTo>
                <a:cubicBezTo>
                  <a:pt x="15158" y="11435"/>
                  <a:pt x="15257" y="11411"/>
                  <a:pt x="15354" y="11361"/>
                </a:cubicBezTo>
                <a:cubicBezTo>
                  <a:pt x="15443" y="11316"/>
                  <a:pt x="15543" y="11249"/>
                  <a:pt x="15627" y="11187"/>
                </a:cubicBezTo>
                <a:cubicBezTo>
                  <a:pt x="15721" y="11117"/>
                  <a:pt x="15814" y="11043"/>
                  <a:pt x="15900" y="10964"/>
                </a:cubicBezTo>
                <a:cubicBezTo>
                  <a:pt x="15943" y="10924"/>
                  <a:pt x="15985" y="10889"/>
                  <a:pt x="16024" y="10840"/>
                </a:cubicBezTo>
                <a:cubicBezTo>
                  <a:pt x="16055" y="10801"/>
                  <a:pt x="16097" y="10758"/>
                  <a:pt x="16123" y="10716"/>
                </a:cubicBezTo>
                <a:cubicBezTo>
                  <a:pt x="16149" y="10675"/>
                  <a:pt x="16158" y="10674"/>
                  <a:pt x="16173" y="10641"/>
                </a:cubicBezTo>
                <a:cubicBezTo>
                  <a:pt x="16173" y="10616"/>
                  <a:pt x="16173" y="10608"/>
                  <a:pt x="16173" y="10592"/>
                </a:cubicBezTo>
                <a:cubicBezTo>
                  <a:pt x="16126" y="10607"/>
                  <a:pt x="16065" y="10590"/>
                  <a:pt x="16024" y="10616"/>
                </a:cubicBezTo>
                <a:cubicBezTo>
                  <a:pt x="15907" y="10691"/>
                  <a:pt x="15795" y="10859"/>
                  <a:pt x="15751" y="10988"/>
                </a:cubicBezTo>
                <a:cubicBezTo>
                  <a:pt x="15727" y="11059"/>
                  <a:pt x="15741" y="11103"/>
                  <a:pt x="15751" y="11162"/>
                </a:cubicBezTo>
                <a:cubicBezTo>
                  <a:pt x="15764" y="11234"/>
                  <a:pt x="15746" y="11232"/>
                  <a:pt x="15801" y="11286"/>
                </a:cubicBezTo>
                <a:cubicBezTo>
                  <a:pt x="15866" y="11350"/>
                  <a:pt x="15857" y="11342"/>
                  <a:pt x="15949" y="11361"/>
                </a:cubicBezTo>
                <a:cubicBezTo>
                  <a:pt x="16030" y="11378"/>
                  <a:pt x="16150" y="11365"/>
                  <a:pt x="16222" y="11336"/>
                </a:cubicBezTo>
                <a:cubicBezTo>
                  <a:pt x="16263" y="11319"/>
                  <a:pt x="16303" y="11285"/>
                  <a:pt x="16346" y="11261"/>
                </a:cubicBezTo>
                <a:cubicBezTo>
                  <a:pt x="16381" y="11241"/>
                  <a:pt x="16435" y="11217"/>
                  <a:pt x="16470" y="11187"/>
                </a:cubicBezTo>
                <a:cubicBezTo>
                  <a:pt x="16534" y="11132"/>
                  <a:pt x="16582" y="11042"/>
                  <a:pt x="16644" y="10988"/>
                </a:cubicBezTo>
                <a:cubicBezTo>
                  <a:pt x="16697" y="10942"/>
                  <a:pt x="16759" y="10878"/>
                  <a:pt x="16818" y="10840"/>
                </a:cubicBezTo>
                <a:cubicBezTo>
                  <a:pt x="16870" y="10807"/>
                  <a:pt x="16918" y="10792"/>
                  <a:pt x="16966" y="10765"/>
                </a:cubicBezTo>
                <a:cubicBezTo>
                  <a:pt x="17025" y="10732"/>
                  <a:pt x="17068" y="10686"/>
                  <a:pt x="17140" y="10666"/>
                </a:cubicBezTo>
                <a:cubicBezTo>
                  <a:pt x="17206" y="10648"/>
                  <a:pt x="17269" y="10647"/>
                  <a:pt x="17338" y="10641"/>
                </a:cubicBezTo>
                <a:cubicBezTo>
                  <a:pt x="17402" y="10635"/>
                  <a:pt x="17415" y="10630"/>
                  <a:pt x="17487" y="10641"/>
                </a:cubicBezTo>
                <a:cubicBezTo>
                  <a:pt x="17537" y="10649"/>
                  <a:pt x="17568" y="10649"/>
                  <a:pt x="17611" y="10666"/>
                </a:cubicBezTo>
                <a:cubicBezTo>
                  <a:pt x="17645" y="10680"/>
                  <a:pt x="17642" y="10696"/>
                  <a:pt x="17686" y="10716"/>
                </a:cubicBezTo>
                <a:cubicBezTo>
                  <a:pt x="17653" y="10704"/>
                  <a:pt x="17621" y="10702"/>
                  <a:pt x="17587" y="10691"/>
                </a:cubicBezTo>
                <a:cubicBezTo>
                  <a:pt x="17540" y="10675"/>
                  <a:pt x="17488" y="10647"/>
                  <a:pt x="17438" y="10641"/>
                </a:cubicBezTo>
                <a:cubicBezTo>
                  <a:pt x="17320" y="10627"/>
                  <a:pt x="17219" y="10665"/>
                  <a:pt x="17115" y="10716"/>
                </a:cubicBezTo>
                <a:cubicBezTo>
                  <a:pt x="17038" y="10753"/>
                  <a:pt x="16995" y="10808"/>
                  <a:pt x="16942" y="10864"/>
                </a:cubicBezTo>
                <a:cubicBezTo>
                  <a:pt x="16887" y="10922"/>
                  <a:pt x="16858" y="10960"/>
                  <a:pt x="16818" y="11038"/>
                </a:cubicBezTo>
                <a:cubicBezTo>
                  <a:pt x="16795" y="11082"/>
                  <a:pt x="16756" y="11154"/>
                  <a:pt x="16768" y="11212"/>
                </a:cubicBezTo>
                <a:cubicBezTo>
                  <a:pt x="16773" y="11237"/>
                  <a:pt x="16818" y="11296"/>
                  <a:pt x="16842" y="11311"/>
                </a:cubicBezTo>
                <a:cubicBezTo>
                  <a:pt x="16933" y="11366"/>
                  <a:pt x="17001" y="11326"/>
                  <a:pt x="17090" y="11311"/>
                </a:cubicBezTo>
                <a:cubicBezTo>
                  <a:pt x="17166" y="11298"/>
                  <a:pt x="17257" y="11235"/>
                  <a:pt x="17314" y="11187"/>
                </a:cubicBezTo>
                <a:cubicBezTo>
                  <a:pt x="17400" y="11115"/>
                  <a:pt x="17469" y="11025"/>
                  <a:pt x="17537" y="10939"/>
                </a:cubicBezTo>
                <a:cubicBezTo>
                  <a:pt x="17583" y="10880"/>
                  <a:pt x="17626" y="10832"/>
                  <a:pt x="17661" y="10765"/>
                </a:cubicBezTo>
                <a:cubicBezTo>
                  <a:pt x="17684" y="10722"/>
                  <a:pt x="17698" y="10682"/>
                  <a:pt x="17711" y="10641"/>
                </a:cubicBezTo>
                <a:cubicBezTo>
                  <a:pt x="17711" y="10616"/>
                  <a:pt x="17711" y="10608"/>
                  <a:pt x="17711" y="10592"/>
                </a:cubicBezTo>
                <a:cubicBezTo>
                  <a:pt x="17696" y="10635"/>
                  <a:pt x="17648" y="10696"/>
                  <a:pt x="17636" y="10740"/>
                </a:cubicBezTo>
                <a:cubicBezTo>
                  <a:pt x="17620" y="10802"/>
                  <a:pt x="17622" y="10876"/>
                  <a:pt x="17611" y="10939"/>
                </a:cubicBezTo>
                <a:cubicBezTo>
                  <a:pt x="17598" y="11014"/>
                  <a:pt x="17581" y="11082"/>
                  <a:pt x="17587" y="11162"/>
                </a:cubicBezTo>
                <a:cubicBezTo>
                  <a:pt x="17592" y="11229"/>
                  <a:pt x="17615" y="11280"/>
                  <a:pt x="17636" y="11336"/>
                </a:cubicBezTo>
                <a:cubicBezTo>
                  <a:pt x="17656" y="11390"/>
                  <a:pt x="17654" y="11420"/>
                  <a:pt x="17711" y="11460"/>
                </a:cubicBezTo>
                <a:cubicBezTo>
                  <a:pt x="17779" y="11507"/>
                  <a:pt x="17848" y="11483"/>
                  <a:pt x="17909" y="11460"/>
                </a:cubicBezTo>
                <a:cubicBezTo>
                  <a:pt x="17967" y="11438"/>
                  <a:pt x="18048" y="11361"/>
                  <a:pt x="18083" y="11311"/>
                </a:cubicBezTo>
                <a:cubicBezTo>
                  <a:pt x="18135" y="11236"/>
                  <a:pt x="18172" y="11134"/>
                  <a:pt x="18207" y="11063"/>
                </a:cubicBezTo>
                <a:cubicBezTo>
                  <a:pt x="18254" y="10968"/>
                  <a:pt x="18288" y="10853"/>
                  <a:pt x="18331" y="10765"/>
                </a:cubicBezTo>
                <a:cubicBezTo>
                  <a:pt x="18365" y="10696"/>
                  <a:pt x="18410" y="10628"/>
                  <a:pt x="18455" y="10567"/>
                </a:cubicBezTo>
                <a:cubicBezTo>
                  <a:pt x="18465" y="10553"/>
                  <a:pt x="18496" y="10494"/>
                  <a:pt x="18504" y="10492"/>
                </a:cubicBezTo>
                <a:cubicBezTo>
                  <a:pt x="18540" y="10485"/>
                  <a:pt x="18578" y="10502"/>
                  <a:pt x="18604" y="10517"/>
                </a:cubicBezTo>
                <a:cubicBezTo>
                  <a:pt x="18622" y="10527"/>
                  <a:pt x="18666" y="10596"/>
                  <a:pt x="18678" y="10616"/>
                </a:cubicBezTo>
                <a:cubicBezTo>
                  <a:pt x="18698" y="10648"/>
                  <a:pt x="18717" y="10700"/>
                  <a:pt x="18728" y="10740"/>
                </a:cubicBezTo>
                <a:cubicBezTo>
                  <a:pt x="18751" y="10822"/>
                  <a:pt x="18769" y="10903"/>
                  <a:pt x="18777" y="10988"/>
                </a:cubicBezTo>
                <a:cubicBezTo>
                  <a:pt x="18786" y="11085"/>
                  <a:pt x="18758" y="11174"/>
                  <a:pt x="18752" y="11261"/>
                </a:cubicBezTo>
                <a:cubicBezTo>
                  <a:pt x="18748" y="11326"/>
                  <a:pt x="18735" y="11380"/>
                  <a:pt x="18728" y="11435"/>
                </a:cubicBezTo>
                <a:cubicBezTo>
                  <a:pt x="18728" y="11460"/>
                  <a:pt x="18728" y="11468"/>
                  <a:pt x="18728" y="11485"/>
                </a:cubicBezTo>
                <a:cubicBezTo>
                  <a:pt x="18736" y="11439"/>
                  <a:pt x="18745" y="11402"/>
                  <a:pt x="18752" y="11361"/>
                </a:cubicBezTo>
                <a:cubicBezTo>
                  <a:pt x="18764" y="11293"/>
                  <a:pt x="18759" y="11228"/>
                  <a:pt x="18777" y="11162"/>
                </a:cubicBezTo>
                <a:cubicBezTo>
                  <a:pt x="18794" y="11099"/>
                  <a:pt x="18825" y="11022"/>
                  <a:pt x="18852" y="10964"/>
                </a:cubicBezTo>
                <a:cubicBezTo>
                  <a:pt x="18891" y="10881"/>
                  <a:pt x="18948" y="10830"/>
                  <a:pt x="19000" y="10765"/>
                </a:cubicBezTo>
                <a:cubicBezTo>
                  <a:pt x="19065" y="10684"/>
                  <a:pt x="19136" y="10597"/>
                  <a:pt x="19224" y="10542"/>
                </a:cubicBezTo>
                <a:cubicBezTo>
                  <a:pt x="19285" y="10504"/>
                  <a:pt x="19377" y="10450"/>
                  <a:pt x="19447" y="10443"/>
                </a:cubicBezTo>
                <a:cubicBezTo>
                  <a:pt x="19538" y="10434"/>
                  <a:pt x="19559" y="10457"/>
                  <a:pt x="19596" y="10517"/>
                </a:cubicBezTo>
                <a:cubicBezTo>
                  <a:pt x="19647" y="10600"/>
                  <a:pt x="19612" y="10662"/>
                  <a:pt x="19596" y="10740"/>
                </a:cubicBezTo>
                <a:cubicBezTo>
                  <a:pt x="19580" y="10815"/>
                  <a:pt x="19554" y="10886"/>
                  <a:pt x="19546" y="10964"/>
                </a:cubicBezTo>
                <a:cubicBezTo>
                  <a:pt x="19538" y="11047"/>
                  <a:pt x="19533" y="11160"/>
                  <a:pt x="19571" y="11237"/>
                </a:cubicBezTo>
                <a:cubicBezTo>
                  <a:pt x="19610" y="11315"/>
                  <a:pt x="19689" y="11398"/>
                  <a:pt x="19769" y="11435"/>
                </a:cubicBezTo>
                <a:cubicBezTo>
                  <a:pt x="19867" y="11481"/>
                  <a:pt x="20039" y="11469"/>
                  <a:pt x="20141" y="11460"/>
                </a:cubicBezTo>
                <a:cubicBezTo>
                  <a:pt x="20236" y="11452"/>
                  <a:pt x="20324" y="11415"/>
                  <a:pt x="20414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2200" y="4348080"/>
            <a:ext cx="2394000" cy="644760"/>
          </a:xfrm>
          <a:custGeom>
            <a:avLst/>
            <a:gdLst/>
            <a:ahLst/>
            <a:rect l="l" t="t" r="r" b="b"/>
            <a:pathLst>
              <a:path w="6649" h="1787">
                <a:moveTo>
                  <a:pt x="17090" y="13097"/>
                </a:moveTo>
                <a:cubicBezTo>
                  <a:pt x="17048" y="13109"/>
                  <a:pt x="16988" y="13147"/>
                  <a:pt x="16942" y="13146"/>
                </a:cubicBezTo>
                <a:cubicBezTo>
                  <a:pt x="16869" y="13145"/>
                  <a:pt x="16812" y="13145"/>
                  <a:pt x="16743" y="13122"/>
                </a:cubicBezTo>
                <a:cubicBezTo>
                  <a:pt x="16702" y="13108"/>
                  <a:pt x="16631" y="13082"/>
                  <a:pt x="16594" y="13047"/>
                </a:cubicBezTo>
                <a:cubicBezTo>
                  <a:pt x="16550" y="13005"/>
                  <a:pt x="16529" y="12947"/>
                  <a:pt x="16495" y="12898"/>
                </a:cubicBezTo>
                <a:cubicBezTo>
                  <a:pt x="16454" y="12839"/>
                  <a:pt x="16410" y="12775"/>
                  <a:pt x="16396" y="12700"/>
                </a:cubicBezTo>
                <a:cubicBezTo>
                  <a:pt x="16378" y="12599"/>
                  <a:pt x="16395" y="12471"/>
                  <a:pt x="16421" y="12378"/>
                </a:cubicBezTo>
                <a:cubicBezTo>
                  <a:pt x="16439" y="12314"/>
                  <a:pt x="16449" y="12260"/>
                  <a:pt x="16495" y="12204"/>
                </a:cubicBezTo>
                <a:cubicBezTo>
                  <a:pt x="16527" y="12165"/>
                  <a:pt x="16576" y="12127"/>
                  <a:pt x="16619" y="12105"/>
                </a:cubicBezTo>
                <a:cubicBezTo>
                  <a:pt x="16666" y="12081"/>
                  <a:pt x="16683" y="12082"/>
                  <a:pt x="16743" y="12080"/>
                </a:cubicBezTo>
                <a:cubicBezTo>
                  <a:pt x="16862" y="12076"/>
                  <a:pt x="16944" y="12116"/>
                  <a:pt x="17041" y="12179"/>
                </a:cubicBezTo>
                <a:cubicBezTo>
                  <a:pt x="17090" y="12211"/>
                  <a:pt x="17178" y="12260"/>
                  <a:pt x="17214" y="12303"/>
                </a:cubicBezTo>
                <a:cubicBezTo>
                  <a:pt x="17268" y="12368"/>
                  <a:pt x="17323" y="12477"/>
                  <a:pt x="17363" y="12551"/>
                </a:cubicBezTo>
                <a:cubicBezTo>
                  <a:pt x="17397" y="12613"/>
                  <a:pt x="17424" y="12707"/>
                  <a:pt x="17438" y="12774"/>
                </a:cubicBezTo>
                <a:cubicBezTo>
                  <a:pt x="17455" y="12857"/>
                  <a:pt x="17456" y="12962"/>
                  <a:pt x="17462" y="13047"/>
                </a:cubicBezTo>
                <a:cubicBezTo>
                  <a:pt x="17468" y="13141"/>
                  <a:pt x="17458" y="13232"/>
                  <a:pt x="17438" y="13320"/>
                </a:cubicBezTo>
                <a:cubicBezTo>
                  <a:pt x="17419" y="13404"/>
                  <a:pt x="17385" y="13492"/>
                  <a:pt x="17338" y="13568"/>
                </a:cubicBezTo>
                <a:cubicBezTo>
                  <a:pt x="17289" y="13648"/>
                  <a:pt x="17229" y="13707"/>
                  <a:pt x="17165" y="13767"/>
                </a:cubicBezTo>
                <a:cubicBezTo>
                  <a:pt x="17119" y="13810"/>
                  <a:pt x="17090" y="13857"/>
                  <a:pt x="17016" y="13866"/>
                </a:cubicBezTo>
                <a:cubicBezTo>
                  <a:pt x="16964" y="13872"/>
                  <a:pt x="16877" y="13873"/>
                  <a:pt x="16842" y="13841"/>
                </a:cubicBezTo>
                <a:cubicBezTo>
                  <a:pt x="16801" y="13804"/>
                  <a:pt x="16809" y="13764"/>
                  <a:pt x="16793" y="13717"/>
                </a:cubicBezTo>
                <a:cubicBezTo>
                  <a:pt x="16775" y="13666"/>
                  <a:pt x="16762" y="13635"/>
                  <a:pt x="16768" y="13568"/>
                </a:cubicBezTo>
                <a:cubicBezTo>
                  <a:pt x="16773" y="13520"/>
                  <a:pt x="16795" y="13408"/>
                  <a:pt x="16818" y="13370"/>
                </a:cubicBezTo>
                <a:cubicBezTo>
                  <a:pt x="16860" y="13300"/>
                  <a:pt x="16938" y="13248"/>
                  <a:pt x="16991" y="13196"/>
                </a:cubicBezTo>
                <a:cubicBezTo>
                  <a:pt x="17048" y="13140"/>
                  <a:pt x="17089" y="13114"/>
                  <a:pt x="17165" y="13072"/>
                </a:cubicBezTo>
                <a:cubicBezTo>
                  <a:pt x="17289" y="13003"/>
                  <a:pt x="17412" y="12966"/>
                  <a:pt x="17537" y="12923"/>
                </a:cubicBezTo>
                <a:cubicBezTo>
                  <a:pt x="17630" y="12891"/>
                  <a:pt x="17692" y="12890"/>
                  <a:pt x="17785" y="12874"/>
                </a:cubicBezTo>
                <a:cubicBezTo>
                  <a:pt x="17870" y="12859"/>
                  <a:pt x="17949" y="12839"/>
                  <a:pt x="18033" y="12824"/>
                </a:cubicBezTo>
                <a:cubicBezTo>
                  <a:pt x="18121" y="12808"/>
                  <a:pt x="18194" y="12779"/>
                  <a:pt x="18281" y="12750"/>
                </a:cubicBezTo>
                <a:cubicBezTo>
                  <a:pt x="18332" y="12733"/>
                  <a:pt x="18392" y="12719"/>
                  <a:pt x="18430" y="12675"/>
                </a:cubicBezTo>
                <a:cubicBezTo>
                  <a:pt x="18430" y="12650"/>
                  <a:pt x="18430" y="12642"/>
                  <a:pt x="18430" y="12626"/>
                </a:cubicBezTo>
                <a:cubicBezTo>
                  <a:pt x="18396" y="12624"/>
                  <a:pt x="18356" y="12594"/>
                  <a:pt x="18306" y="12601"/>
                </a:cubicBezTo>
                <a:cubicBezTo>
                  <a:pt x="18233" y="12611"/>
                  <a:pt x="18202" y="12610"/>
                  <a:pt x="18132" y="12650"/>
                </a:cubicBezTo>
                <a:cubicBezTo>
                  <a:pt x="18062" y="12690"/>
                  <a:pt x="18023" y="12730"/>
                  <a:pt x="17983" y="12799"/>
                </a:cubicBezTo>
                <a:cubicBezTo>
                  <a:pt x="17954" y="12849"/>
                  <a:pt x="17942" y="12890"/>
                  <a:pt x="17934" y="12948"/>
                </a:cubicBezTo>
                <a:cubicBezTo>
                  <a:pt x="17925" y="13015"/>
                  <a:pt x="17925" y="13095"/>
                  <a:pt x="17959" y="13146"/>
                </a:cubicBezTo>
                <a:cubicBezTo>
                  <a:pt x="17988" y="13190"/>
                  <a:pt x="17993" y="13196"/>
                  <a:pt x="18033" y="13221"/>
                </a:cubicBezTo>
                <a:cubicBezTo>
                  <a:pt x="18084" y="13253"/>
                  <a:pt x="18148" y="13254"/>
                  <a:pt x="18207" y="13246"/>
                </a:cubicBezTo>
                <a:cubicBezTo>
                  <a:pt x="18274" y="13237"/>
                  <a:pt x="18323" y="13209"/>
                  <a:pt x="18380" y="13171"/>
                </a:cubicBezTo>
                <a:cubicBezTo>
                  <a:pt x="18435" y="13135"/>
                  <a:pt x="18501" y="13054"/>
                  <a:pt x="18529" y="12998"/>
                </a:cubicBezTo>
                <a:cubicBezTo>
                  <a:pt x="18548" y="12961"/>
                  <a:pt x="18547" y="12894"/>
                  <a:pt x="18554" y="12849"/>
                </a:cubicBezTo>
                <a:cubicBezTo>
                  <a:pt x="18564" y="12779"/>
                  <a:pt x="18587" y="12788"/>
                  <a:pt x="18554" y="12725"/>
                </a:cubicBezTo>
                <a:cubicBezTo>
                  <a:pt x="18532" y="12683"/>
                  <a:pt x="18523" y="12678"/>
                  <a:pt x="18479" y="12650"/>
                </a:cubicBezTo>
                <a:cubicBezTo>
                  <a:pt x="18451" y="12650"/>
                  <a:pt x="18441" y="12653"/>
                  <a:pt x="18430" y="12675"/>
                </a:cubicBezTo>
                <a:cubicBezTo>
                  <a:pt x="18465" y="12701"/>
                  <a:pt x="18392" y="12736"/>
                  <a:pt x="18455" y="12750"/>
                </a:cubicBezTo>
                <a:cubicBezTo>
                  <a:pt x="18490" y="12758"/>
                  <a:pt x="18494" y="12756"/>
                  <a:pt x="18529" y="12750"/>
                </a:cubicBezTo>
                <a:cubicBezTo>
                  <a:pt x="18562" y="12744"/>
                  <a:pt x="18593" y="12735"/>
                  <a:pt x="18628" y="12725"/>
                </a:cubicBezTo>
                <a:cubicBezTo>
                  <a:pt x="18690" y="12708"/>
                  <a:pt x="18738" y="12687"/>
                  <a:pt x="18802" y="12675"/>
                </a:cubicBezTo>
                <a:cubicBezTo>
                  <a:pt x="18879" y="12661"/>
                  <a:pt x="18972" y="12647"/>
                  <a:pt x="19050" y="12650"/>
                </a:cubicBezTo>
                <a:cubicBezTo>
                  <a:pt x="19129" y="12653"/>
                  <a:pt x="19179" y="12666"/>
                  <a:pt x="19248" y="12675"/>
                </a:cubicBezTo>
                <a:cubicBezTo>
                  <a:pt x="19302" y="12682"/>
                  <a:pt x="19328" y="12685"/>
                  <a:pt x="19372" y="12700"/>
                </a:cubicBezTo>
                <a:cubicBezTo>
                  <a:pt x="19393" y="12707"/>
                  <a:pt x="19463" y="12705"/>
                  <a:pt x="19472" y="12725"/>
                </a:cubicBezTo>
                <a:cubicBezTo>
                  <a:pt x="19495" y="12778"/>
                  <a:pt x="19459" y="12856"/>
                  <a:pt x="19447" y="12898"/>
                </a:cubicBezTo>
                <a:cubicBezTo>
                  <a:pt x="19423" y="12981"/>
                  <a:pt x="19388" y="13043"/>
                  <a:pt x="19348" y="13122"/>
                </a:cubicBezTo>
                <a:cubicBezTo>
                  <a:pt x="19315" y="13188"/>
                  <a:pt x="19273" y="13258"/>
                  <a:pt x="19248" y="13320"/>
                </a:cubicBezTo>
                <a:cubicBezTo>
                  <a:pt x="19230" y="13366"/>
                  <a:pt x="19236" y="13379"/>
                  <a:pt x="19224" y="13419"/>
                </a:cubicBezTo>
                <a:cubicBezTo>
                  <a:pt x="19243" y="13385"/>
                  <a:pt x="19256" y="13353"/>
                  <a:pt x="19273" y="13320"/>
                </a:cubicBezTo>
                <a:cubicBezTo>
                  <a:pt x="19298" y="13270"/>
                  <a:pt x="19323" y="13223"/>
                  <a:pt x="19348" y="13171"/>
                </a:cubicBezTo>
                <a:cubicBezTo>
                  <a:pt x="19372" y="13121"/>
                  <a:pt x="19398" y="13073"/>
                  <a:pt x="19422" y="13022"/>
                </a:cubicBezTo>
                <a:cubicBezTo>
                  <a:pt x="19444" y="12975"/>
                  <a:pt x="19458" y="12921"/>
                  <a:pt x="19496" y="12874"/>
                </a:cubicBezTo>
                <a:cubicBezTo>
                  <a:pt x="19533" y="12828"/>
                  <a:pt x="19602" y="12819"/>
                  <a:pt x="19645" y="12799"/>
                </a:cubicBezTo>
                <a:cubicBezTo>
                  <a:pt x="19715" y="12765"/>
                  <a:pt x="19690" y="12729"/>
                  <a:pt x="19794" y="12750"/>
                </a:cubicBezTo>
                <a:cubicBezTo>
                  <a:pt x="19836" y="12758"/>
                  <a:pt x="19885" y="12796"/>
                  <a:pt x="19918" y="12824"/>
                </a:cubicBezTo>
                <a:cubicBezTo>
                  <a:pt x="19955" y="12856"/>
                  <a:pt x="19973" y="12888"/>
                  <a:pt x="19993" y="12923"/>
                </a:cubicBezTo>
                <a:cubicBezTo>
                  <a:pt x="20021" y="12971"/>
                  <a:pt x="20037" y="12987"/>
                  <a:pt x="20042" y="13047"/>
                </a:cubicBezTo>
                <a:cubicBezTo>
                  <a:pt x="20048" y="13119"/>
                  <a:pt x="20013" y="13161"/>
                  <a:pt x="19993" y="13221"/>
                </a:cubicBezTo>
                <a:cubicBezTo>
                  <a:pt x="19975" y="13276"/>
                  <a:pt x="19955" y="13292"/>
                  <a:pt x="19943" y="13345"/>
                </a:cubicBezTo>
                <a:cubicBezTo>
                  <a:pt x="19938" y="13368"/>
                  <a:pt x="19949" y="13396"/>
                  <a:pt x="19943" y="13419"/>
                </a:cubicBezTo>
                <a:cubicBezTo>
                  <a:pt x="20088" y="13414"/>
                  <a:pt x="20206" y="13421"/>
                  <a:pt x="20340" y="13370"/>
                </a:cubicBezTo>
                <a:cubicBezTo>
                  <a:pt x="20562" y="13285"/>
                  <a:pt x="20798" y="13157"/>
                  <a:pt x="20886" y="12948"/>
                </a:cubicBezTo>
                <a:cubicBezTo>
                  <a:pt x="20906" y="12901"/>
                  <a:pt x="20937" y="12814"/>
                  <a:pt x="20886" y="12774"/>
                </a:cubicBezTo>
                <a:cubicBezTo>
                  <a:pt x="20840" y="12739"/>
                  <a:pt x="20806" y="12763"/>
                  <a:pt x="20762" y="12774"/>
                </a:cubicBezTo>
                <a:cubicBezTo>
                  <a:pt x="20682" y="12794"/>
                  <a:pt x="20609" y="12859"/>
                  <a:pt x="20563" y="12923"/>
                </a:cubicBezTo>
                <a:cubicBezTo>
                  <a:pt x="20491" y="13025"/>
                  <a:pt x="20428" y="13175"/>
                  <a:pt x="20414" y="13295"/>
                </a:cubicBezTo>
                <a:cubicBezTo>
                  <a:pt x="20406" y="13363"/>
                  <a:pt x="20417" y="13414"/>
                  <a:pt x="20439" y="13469"/>
                </a:cubicBezTo>
                <a:cubicBezTo>
                  <a:pt x="20468" y="13541"/>
                  <a:pt x="20503" y="13579"/>
                  <a:pt x="20588" y="13593"/>
                </a:cubicBezTo>
                <a:cubicBezTo>
                  <a:pt x="20652" y="13604"/>
                  <a:pt x="20777" y="13569"/>
                  <a:pt x="20836" y="13543"/>
                </a:cubicBezTo>
                <a:cubicBezTo>
                  <a:pt x="20913" y="13510"/>
                  <a:pt x="20983" y="13459"/>
                  <a:pt x="21059" y="13419"/>
                </a:cubicBezTo>
                <a:cubicBezTo>
                  <a:pt x="21136" y="13378"/>
                  <a:pt x="21205" y="13317"/>
                  <a:pt x="21282" y="13271"/>
                </a:cubicBezTo>
                <a:cubicBezTo>
                  <a:pt x="21392" y="13205"/>
                  <a:pt x="21499" y="13135"/>
                  <a:pt x="21605" y="13072"/>
                </a:cubicBezTo>
                <a:cubicBezTo>
                  <a:pt x="21667" y="13035"/>
                  <a:pt x="21716" y="13014"/>
                  <a:pt x="21779" y="12998"/>
                </a:cubicBezTo>
                <a:cubicBezTo>
                  <a:pt x="21831" y="12984"/>
                  <a:pt x="21950" y="12936"/>
                  <a:pt x="22002" y="12948"/>
                </a:cubicBezTo>
                <a:cubicBezTo>
                  <a:pt x="22032" y="12955"/>
                  <a:pt x="22115" y="12985"/>
                  <a:pt x="22126" y="13022"/>
                </a:cubicBezTo>
                <a:cubicBezTo>
                  <a:pt x="22140" y="13068"/>
                  <a:pt x="22104" y="13087"/>
                  <a:pt x="22101" y="13097"/>
                </a:cubicBezTo>
                <a:cubicBezTo>
                  <a:pt x="22090" y="13135"/>
                  <a:pt x="22063" y="13168"/>
                  <a:pt x="22027" y="13196"/>
                </a:cubicBezTo>
                <a:cubicBezTo>
                  <a:pt x="21987" y="13226"/>
                  <a:pt x="21902" y="13251"/>
                  <a:pt x="21853" y="13271"/>
                </a:cubicBezTo>
                <a:cubicBezTo>
                  <a:pt x="21799" y="13292"/>
                  <a:pt x="21734" y="13322"/>
                  <a:pt x="21679" y="13345"/>
                </a:cubicBezTo>
                <a:cubicBezTo>
                  <a:pt x="21593" y="13381"/>
                  <a:pt x="21518" y="13413"/>
                  <a:pt x="21431" y="13444"/>
                </a:cubicBezTo>
                <a:cubicBezTo>
                  <a:pt x="21350" y="13473"/>
                  <a:pt x="21268" y="13478"/>
                  <a:pt x="21183" y="13494"/>
                </a:cubicBezTo>
                <a:cubicBezTo>
                  <a:pt x="21108" y="13508"/>
                  <a:pt x="21042" y="13528"/>
                  <a:pt x="20960" y="13519"/>
                </a:cubicBezTo>
                <a:cubicBezTo>
                  <a:pt x="20909" y="13514"/>
                  <a:pt x="20923" y="13497"/>
                  <a:pt x="20886" y="13494"/>
                </a:cubicBezTo>
                <a:cubicBezTo>
                  <a:pt x="20923" y="13494"/>
                  <a:pt x="20873" y="13492"/>
                  <a:pt x="20910" y="13494"/>
                </a:cubicBezTo>
                <a:cubicBezTo>
                  <a:pt x="21046" y="13501"/>
                  <a:pt x="21177" y="13495"/>
                  <a:pt x="21307" y="13469"/>
                </a:cubicBezTo>
                <a:cubicBezTo>
                  <a:pt x="21454" y="13439"/>
                  <a:pt x="21590" y="13394"/>
                  <a:pt x="21729" y="13345"/>
                </a:cubicBezTo>
                <a:cubicBezTo>
                  <a:pt x="21986" y="13255"/>
                  <a:pt x="22235" y="13126"/>
                  <a:pt x="22473" y="12998"/>
                </a:cubicBezTo>
                <a:cubicBezTo>
                  <a:pt x="22633" y="12912"/>
                  <a:pt x="22770" y="12800"/>
                  <a:pt x="22920" y="12700"/>
                </a:cubicBezTo>
                <a:cubicBezTo>
                  <a:pt x="22961" y="12675"/>
                  <a:pt x="23003" y="12651"/>
                  <a:pt x="23044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 si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+ sin x cos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sin 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25760" y="1411200"/>
            <a:ext cx="2374920" cy="741600"/>
          </a:xfrm>
          <a:custGeom>
            <a:avLst/>
            <a:gdLst/>
            <a:ahLst/>
            <a:rect l="l" t="t" r="r" b="b"/>
            <a:pathLst>
              <a:path w="6599" h="2060">
                <a:moveTo>
                  <a:pt x="4812" y="4638"/>
                </a:moveTo>
                <a:cubicBezTo>
                  <a:pt x="4812" y="4721"/>
                  <a:pt x="4812" y="4804"/>
                  <a:pt x="4812" y="4887"/>
                </a:cubicBezTo>
                <a:cubicBezTo>
                  <a:pt x="4812" y="4819"/>
                  <a:pt x="4798" y="4768"/>
                  <a:pt x="4787" y="4713"/>
                </a:cubicBezTo>
                <a:cubicBezTo>
                  <a:pt x="4787" y="4668"/>
                  <a:pt x="4790" y="4655"/>
                  <a:pt x="4762" y="4638"/>
                </a:cubicBezTo>
                <a:cubicBezTo>
                  <a:pt x="4725" y="4675"/>
                  <a:pt x="4669" y="4728"/>
                  <a:pt x="4638" y="4787"/>
                </a:cubicBezTo>
                <a:cubicBezTo>
                  <a:pt x="4610" y="4841"/>
                  <a:pt x="4592" y="4901"/>
                  <a:pt x="4589" y="4961"/>
                </a:cubicBezTo>
                <a:cubicBezTo>
                  <a:pt x="4586" y="5033"/>
                  <a:pt x="4604" y="5032"/>
                  <a:pt x="4638" y="5085"/>
                </a:cubicBezTo>
                <a:cubicBezTo>
                  <a:pt x="4674" y="5142"/>
                  <a:pt x="4731" y="5214"/>
                  <a:pt x="4787" y="5259"/>
                </a:cubicBezTo>
                <a:cubicBezTo>
                  <a:pt x="4873" y="5329"/>
                  <a:pt x="4939" y="5391"/>
                  <a:pt x="4961" y="5507"/>
                </a:cubicBezTo>
                <a:cubicBezTo>
                  <a:pt x="4978" y="5595"/>
                  <a:pt x="4944" y="5676"/>
                  <a:pt x="4911" y="5755"/>
                </a:cubicBezTo>
                <a:cubicBezTo>
                  <a:pt x="4870" y="5852"/>
                  <a:pt x="4821" y="5851"/>
                  <a:pt x="4738" y="5879"/>
                </a:cubicBezTo>
                <a:cubicBezTo>
                  <a:pt x="4677" y="5900"/>
                  <a:pt x="4617" y="5897"/>
                  <a:pt x="4564" y="5854"/>
                </a:cubicBezTo>
                <a:cubicBezTo>
                  <a:pt x="4492" y="5796"/>
                  <a:pt x="4523" y="5791"/>
                  <a:pt x="4539" y="5705"/>
                </a:cubicBezTo>
              </a:path>
              <a:path w="6599" h="2060">
                <a:moveTo>
                  <a:pt x="5060" y="4911"/>
                </a:moveTo>
                <a:cubicBezTo>
                  <a:pt x="5074" y="5066"/>
                  <a:pt x="5104" y="5230"/>
                  <a:pt x="5110" y="5383"/>
                </a:cubicBezTo>
                <a:cubicBezTo>
                  <a:pt x="5113" y="5462"/>
                  <a:pt x="5140" y="5490"/>
                  <a:pt x="5159" y="5556"/>
                </a:cubicBezTo>
                <a:cubicBezTo>
                  <a:pt x="5175" y="5612"/>
                  <a:pt x="5159" y="5527"/>
                  <a:pt x="5159" y="5507"/>
                </a:cubicBezTo>
              </a:path>
              <a:path w="6599" h="2060">
                <a:moveTo>
                  <a:pt x="5085" y="4589"/>
                </a:moveTo>
                <a:cubicBezTo>
                  <a:pt x="5085" y="4614"/>
                  <a:pt x="5085" y="4638"/>
                  <a:pt x="5085" y="4663"/>
                </a:cubicBezTo>
              </a:path>
              <a:path w="6599" h="2060">
                <a:moveTo>
                  <a:pt x="5283" y="4862"/>
                </a:moveTo>
                <a:cubicBezTo>
                  <a:pt x="5283" y="4997"/>
                  <a:pt x="5301" y="5127"/>
                  <a:pt x="5308" y="5259"/>
                </a:cubicBezTo>
                <a:cubicBezTo>
                  <a:pt x="5308" y="5399"/>
                  <a:pt x="5308" y="5408"/>
                  <a:pt x="5308" y="5482"/>
                </a:cubicBezTo>
                <a:cubicBezTo>
                  <a:pt x="5337" y="5568"/>
                  <a:pt x="5310" y="5446"/>
                  <a:pt x="5308" y="5432"/>
                </a:cubicBezTo>
                <a:cubicBezTo>
                  <a:pt x="5289" y="5291"/>
                  <a:pt x="5318" y="5146"/>
                  <a:pt x="5333" y="5011"/>
                </a:cubicBezTo>
                <a:cubicBezTo>
                  <a:pt x="5344" y="4916"/>
                  <a:pt x="5326" y="4858"/>
                  <a:pt x="5432" y="4837"/>
                </a:cubicBezTo>
                <a:cubicBezTo>
                  <a:pt x="5474" y="4851"/>
                  <a:pt x="5489" y="4933"/>
                  <a:pt x="5507" y="4986"/>
                </a:cubicBezTo>
                <a:cubicBezTo>
                  <a:pt x="5546" y="5099"/>
                  <a:pt x="5560" y="5243"/>
                  <a:pt x="5581" y="5358"/>
                </a:cubicBezTo>
                <a:cubicBezTo>
                  <a:pt x="5589" y="5403"/>
                  <a:pt x="5586" y="5492"/>
                  <a:pt x="5606" y="5531"/>
                </a:cubicBezTo>
                <a:cubicBezTo>
                  <a:pt x="5633" y="5584"/>
                  <a:pt x="5631" y="5587"/>
                  <a:pt x="5631" y="5531"/>
                </a:cubicBezTo>
              </a:path>
              <a:path w="6599" h="2060">
                <a:moveTo>
                  <a:pt x="6028" y="4762"/>
                </a:moveTo>
                <a:cubicBezTo>
                  <a:pt x="6072" y="4853"/>
                  <a:pt x="6113" y="4942"/>
                  <a:pt x="6152" y="5035"/>
                </a:cubicBezTo>
                <a:cubicBezTo>
                  <a:pt x="6206" y="5164"/>
                  <a:pt x="6270" y="5228"/>
                  <a:pt x="6375" y="5333"/>
                </a:cubicBezTo>
                <a:cubicBezTo>
                  <a:pt x="6407" y="5365"/>
                  <a:pt x="6432" y="5375"/>
                  <a:pt x="6474" y="5383"/>
                </a:cubicBezTo>
              </a:path>
              <a:path w="6599" h="2060">
                <a:moveTo>
                  <a:pt x="6598" y="4663"/>
                </a:moveTo>
                <a:cubicBezTo>
                  <a:pt x="6485" y="4663"/>
                  <a:pt x="6477" y="4773"/>
                  <a:pt x="6424" y="4862"/>
                </a:cubicBezTo>
                <a:cubicBezTo>
                  <a:pt x="6354" y="4979"/>
                  <a:pt x="6313" y="5110"/>
                  <a:pt x="6251" y="5234"/>
                </a:cubicBezTo>
                <a:cubicBezTo>
                  <a:pt x="6220" y="5297"/>
                  <a:pt x="6194" y="5373"/>
                  <a:pt x="6176" y="5432"/>
                </a:cubicBezTo>
                <a:cubicBezTo>
                  <a:pt x="6176" y="5457"/>
                  <a:pt x="6176" y="5465"/>
                  <a:pt x="6201" y="5457"/>
                </a:cubicBezTo>
              </a:path>
              <a:path w="6599" h="2060">
                <a:moveTo>
                  <a:pt x="7193" y="4043"/>
                </a:moveTo>
                <a:cubicBezTo>
                  <a:pt x="7171" y="4065"/>
                  <a:pt x="7163" y="4064"/>
                  <a:pt x="7144" y="4093"/>
                </a:cubicBezTo>
                <a:cubicBezTo>
                  <a:pt x="7093" y="4171"/>
                  <a:pt x="7068" y="4278"/>
                  <a:pt x="7045" y="4366"/>
                </a:cubicBezTo>
                <a:cubicBezTo>
                  <a:pt x="7006" y="4513"/>
                  <a:pt x="6937" y="4662"/>
                  <a:pt x="6921" y="4812"/>
                </a:cubicBezTo>
                <a:cubicBezTo>
                  <a:pt x="6900" y="5001"/>
                  <a:pt x="6896" y="5192"/>
                  <a:pt x="6896" y="5383"/>
                </a:cubicBezTo>
                <a:cubicBezTo>
                  <a:pt x="6896" y="5501"/>
                  <a:pt x="6905" y="5673"/>
                  <a:pt x="6970" y="5779"/>
                </a:cubicBezTo>
                <a:cubicBezTo>
                  <a:pt x="7004" y="5835"/>
                  <a:pt x="7105" y="5935"/>
                  <a:pt x="7169" y="5953"/>
                </a:cubicBezTo>
                <a:cubicBezTo>
                  <a:pt x="7241" y="5973"/>
                  <a:pt x="7284" y="5959"/>
                  <a:pt x="7342" y="5953"/>
                </a:cubicBezTo>
                <a:cubicBezTo>
                  <a:pt x="7387" y="5953"/>
                  <a:pt x="7407" y="5956"/>
                  <a:pt x="7367" y="5928"/>
                </a:cubicBezTo>
              </a:path>
              <a:path w="6599" h="2060">
                <a:moveTo>
                  <a:pt x="8062" y="4837"/>
                </a:moveTo>
                <a:cubicBezTo>
                  <a:pt x="8062" y="4769"/>
                  <a:pt x="8076" y="4715"/>
                  <a:pt x="8037" y="4663"/>
                </a:cubicBezTo>
                <a:cubicBezTo>
                  <a:pt x="7983" y="4663"/>
                  <a:pt x="7976" y="4675"/>
                  <a:pt x="7938" y="4713"/>
                </a:cubicBezTo>
                <a:cubicBezTo>
                  <a:pt x="7872" y="4779"/>
                  <a:pt x="7830" y="4828"/>
                  <a:pt x="7789" y="4911"/>
                </a:cubicBezTo>
                <a:cubicBezTo>
                  <a:pt x="7771" y="4947"/>
                  <a:pt x="7746" y="5017"/>
                  <a:pt x="7764" y="5060"/>
                </a:cubicBezTo>
                <a:cubicBezTo>
                  <a:pt x="7786" y="5112"/>
                  <a:pt x="7868" y="5137"/>
                  <a:pt x="7913" y="5159"/>
                </a:cubicBezTo>
                <a:cubicBezTo>
                  <a:pt x="7989" y="5197"/>
                  <a:pt x="8060" y="5237"/>
                  <a:pt x="8111" y="5308"/>
                </a:cubicBezTo>
                <a:cubicBezTo>
                  <a:pt x="8166" y="5384"/>
                  <a:pt x="8168" y="5453"/>
                  <a:pt x="8111" y="5531"/>
                </a:cubicBezTo>
                <a:cubicBezTo>
                  <a:pt x="8050" y="5615"/>
                  <a:pt x="7917" y="5683"/>
                  <a:pt x="7813" y="5680"/>
                </a:cubicBezTo>
                <a:cubicBezTo>
                  <a:pt x="7774" y="5679"/>
                  <a:pt x="7661" y="5619"/>
                  <a:pt x="7640" y="5581"/>
                </a:cubicBezTo>
                <a:cubicBezTo>
                  <a:pt x="7622" y="5548"/>
                  <a:pt x="7699" y="5459"/>
                  <a:pt x="7714" y="5432"/>
                </a:cubicBezTo>
              </a:path>
              <a:path w="6599" h="2060">
                <a:moveTo>
                  <a:pt x="8409" y="4787"/>
                </a:moveTo>
                <a:cubicBezTo>
                  <a:pt x="8409" y="4956"/>
                  <a:pt x="8421" y="5116"/>
                  <a:pt x="8434" y="5283"/>
                </a:cubicBezTo>
                <a:cubicBezTo>
                  <a:pt x="8443" y="5399"/>
                  <a:pt x="8452" y="5517"/>
                  <a:pt x="8458" y="5631"/>
                </a:cubicBezTo>
                <a:cubicBezTo>
                  <a:pt x="8462" y="5708"/>
                  <a:pt x="8477" y="5709"/>
                  <a:pt x="8458" y="5655"/>
                </a:cubicBezTo>
                <a:cubicBezTo>
                  <a:pt x="8434" y="5606"/>
                  <a:pt x="8426" y="5589"/>
                  <a:pt x="8409" y="5556"/>
                </a:cubicBezTo>
              </a:path>
              <a:path w="6599" h="2060">
                <a:moveTo>
                  <a:pt x="8409" y="4415"/>
                </a:moveTo>
                <a:cubicBezTo>
                  <a:pt x="8409" y="4440"/>
                  <a:pt x="8409" y="4448"/>
                  <a:pt x="8409" y="4465"/>
                </a:cubicBezTo>
              </a:path>
              <a:path w="6599" h="2060">
                <a:moveTo>
                  <a:pt x="8731" y="4713"/>
                </a:moveTo>
                <a:cubicBezTo>
                  <a:pt x="8709" y="4842"/>
                  <a:pt x="8706" y="4954"/>
                  <a:pt x="8706" y="5085"/>
                </a:cubicBezTo>
                <a:cubicBezTo>
                  <a:pt x="8706" y="5259"/>
                  <a:pt x="8706" y="5730"/>
                  <a:pt x="8706" y="5556"/>
                </a:cubicBezTo>
                <a:cubicBezTo>
                  <a:pt x="8706" y="5483"/>
                  <a:pt x="8690" y="5428"/>
                  <a:pt x="8682" y="5358"/>
                </a:cubicBezTo>
                <a:cubicBezTo>
                  <a:pt x="8671" y="5258"/>
                  <a:pt x="8668" y="5126"/>
                  <a:pt x="8706" y="5035"/>
                </a:cubicBezTo>
                <a:cubicBezTo>
                  <a:pt x="8739" y="4957"/>
                  <a:pt x="8770" y="4913"/>
                  <a:pt x="8830" y="4862"/>
                </a:cubicBezTo>
                <a:cubicBezTo>
                  <a:pt x="8885" y="4816"/>
                  <a:pt x="8957" y="4835"/>
                  <a:pt x="8979" y="4911"/>
                </a:cubicBezTo>
                <a:cubicBezTo>
                  <a:pt x="9005" y="4998"/>
                  <a:pt x="9020" y="5118"/>
                  <a:pt x="9029" y="5209"/>
                </a:cubicBezTo>
                <a:cubicBezTo>
                  <a:pt x="9038" y="5302"/>
                  <a:pt x="9033" y="5417"/>
                  <a:pt x="9054" y="5507"/>
                </a:cubicBezTo>
                <a:cubicBezTo>
                  <a:pt x="9069" y="5573"/>
                  <a:pt x="9086" y="5646"/>
                  <a:pt x="9103" y="5705"/>
                </a:cubicBezTo>
                <a:cubicBezTo>
                  <a:pt x="9108" y="5724"/>
                  <a:pt x="9122" y="5803"/>
                  <a:pt x="9128" y="5730"/>
                </a:cubicBezTo>
                <a:cubicBezTo>
                  <a:pt x="9128" y="5713"/>
                  <a:pt x="9128" y="5697"/>
                  <a:pt x="9128" y="5680"/>
                </a:cubicBezTo>
              </a:path>
              <a:path w="6599" h="2060">
                <a:moveTo>
                  <a:pt x="9153" y="4018"/>
                </a:moveTo>
                <a:cubicBezTo>
                  <a:pt x="9184" y="3978"/>
                  <a:pt x="9189" y="3970"/>
                  <a:pt x="9227" y="3944"/>
                </a:cubicBezTo>
                <a:cubicBezTo>
                  <a:pt x="9267" y="3917"/>
                  <a:pt x="9277" y="3919"/>
                  <a:pt x="9327" y="3919"/>
                </a:cubicBezTo>
                <a:cubicBezTo>
                  <a:pt x="9351" y="3919"/>
                  <a:pt x="9360" y="3919"/>
                  <a:pt x="9376" y="3919"/>
                </a:cubicBezTo>
                <a:cubicBezTo>
                  <a:pt x="9376" y="4000"/>
                  <a:pt x="9364" y="4066"/>
                  <a:pt x="9351" y="4142"/>
                </a:cubicBezTo>
                <a:cubicBezTo>
                  <a:pt x="9336" y="4227"/>
                  <a:pt x="9316" y="4252"/>
                  <a:pt x="9252" y="4316"/>
                </a:cubicBezTo>
                <a:cubicBezTo>
                  <a:pt x="9225" y="4342"/>
                  <a:pt x="9187" y="4400"/>
                  <a:pt x="9153" y="4415"/>
                </a:cubicBezTo>
                <a:cubicBezTo>
                  <a:pt x="9128" y="4415"/>
                  <a:pt x="9120" y="4415"/>
                  <a:pt x="9128" y="4440"/>
                </a:cubicBezTo>
                <a:cubicBezTo>
                  <a:pt x="9203" y="4440"/>
                  <a:pt x="9257" y="4448"/>
                  <a:pt x="9327" y="4465"/>
                </a:cubicBezTo>
                <a:cubicBezTo>
                  <a:pt x="9374" y="4476"/>
                  <a:pt x="9431" y="4488"/>
                  <a:pt x="9475" y="4514"/>
                </a:cubicBezTo>
                <a:cubicBezTo>
                  <a:pt x="9535" y="4554"/>
                  <a:pt x="9547" y="4558"/>
                  <a:pt x="9575" y="4589"/>
                </a:cubicBezTo>
              </a:path>
              <a:path w="6599" h="2060">
                <a:moveTo>
                  <a:pt x="9550" y="4663"/>
                </a:moveTo>
                <a:cubicBezTo>
                  <a:pt x="9588" y="4740"/>
                  <a:pt x="9602" y="4804"/>
                  <a:pt x="9624" y="4887"/>
                </a:cubicBezTo>
                <a:cubicBezTo>
                  <a:pt x="9652" y="4993"/>
                  <a:pt x="9686" y="5118"/>
                  <a:pt x="9748" y="5209"/>
                </a:cubicBezTo>
                <a:cubicBezTo>
                  <a:pt x="9801" y="5286"/>
                  <a:pt x="9873" y="5329"/>
                  <a:pt x="9947" y="5358"/>
                </a:cubicBezTo>
                <a:cubicBezTo>
                  <a:pt x="9980" y="5371"/>
                  <a:pt x="10073" y="5386"/>
                  <a:pt x="10096" y="5333"/>
                </a:cubicBezTo>
                <a:cubicBezTo>
                  <a:pt x="10104" y="5300"/>
                  <a:pt x="10112" y="5267"/>
                  <a:pt x="10120" y="5234"/>
                </a:cubicBezTo>
              </a:path>
              <a:path w="6599" h="2060">
                <a:moveTo>
                  <a:pt x="10021" y="4688"/>
                </a:moveTo>
                <a:cubicBezTo>
                  <a:pt x="9936" y="4804"/>
                  <a:pt x="9853" y="4915"/>
                  <a:pt x="9773" y="5035"/>
                </a:cubicBezTo>
                <a:cubicBezTo>
                  <a:pt x="9715" y="5122"/>
                  <a:pt x="9644" y="5228"/>
                  <a:pt x="9624" y="5333"/>
                </a:cubicBezTo>
                <a:cubicBezTo>
                  <a:pt x="9616" y="5376"/>
                  <a:pt x="9607" y="5477"/>
                  <a:pt x="9649" y="5482"/>
                </a:cubicBezTo>
                <a:cubicBezTo>
                  <a:pt x="9657" y="5482"/>
                  <a:pt x="9666" y="5482"/>
                  <a:pt x="9674" y="5482"/>
                </a:cubicBezTo>
              </a:path>
              <a:path w="6599" h="2060">
                <a:moveTo>
                  <a:pt x="10468" y="5035"/>
                </a:moveTo>
                <a:cubicBezTo>
                  <a:pt x="10537" y="5065"/>
                  <a:pt x="10589" y="5060"/>
                  <a:pt x="10666" y="5060"/>
                </a:cubicBezTo>
                <a:cubicBezTo>
                  <a:pt x="10762" y="5060"/>
                  <a:pt x="10844" y="5021"/>
                  <a:pt x="10939" y="5011"/>
                </a:cubicBezTo>
                <a:cubicBezTo>
                  <a:pt x="10999" y="5005"/>
                  <a:pt x="11081" y="5007"/>
                  <a:pt x="11112" y="4936"/>
                </a:cubicBezTo>
                <a:cubicBezTo>
                  <a:pt x="11126" y="4904"/>
                  <a:pt x="11057" y="4835"/>
                  <a:pt x="11038" y="4812"/>
                </a:cubicBezTo>
              </a:path>
              <a:path w="6599" h="2060">
                <a:moveTo>
                  <a:pt x="10840" y="4638"/>
                </a:moveTo>
                <a:cubicBezTo>
                  <a:pt x="10840" y="4734"/>
                  <a:pt x="10853" y="4822"/>
                  <a:pt x="10864" y="4911"/>
                </a:cubicBezTo>
                <a:cubicBezTo>
                  <a:pt x="10874" y="4995"/>
                  <a:pt x="10851" y="5064"/>
                  <a:pt x="10889" y="5135"/>
                </a:cubicBezTo>
                <a:cubicBezTo>
                  <a:pt x="10901" y="5158"/>
                  <a:pt x="10925" y="5243"/>
                  <a:pt x="10964" y="5234"/>
                </a:cubicBezTo>
                <a:cubicBezTo>
                  <a:pt x="10972" y="5226"/>
                  <a:pt x="10980" y="5217"/>
                  <a:pt x="10988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87880" y="1347840"/>
            <a:ext cx="955800" cy="635040"/>
          </a:xfrm>
          <a:custGeom>
            <a:avLst/>
            <a:gdLst/>
            <a:ahLst/>
            <a:rect l="l" t="t" r="r" b="b"/>
            <a:pathLst>
              <a:path w="2656" h="1762">
                <a:moveTo>
                  <a:pt x="11906" y="4465"/>
                </a:moveTo>
                <a:cubicBezTo>
                  <a:pt x="11851" y="4423"/>
                  <a:pt x="11861" y="4447"/>
                  <a:pt x="11807" y="4465"/>
                </a:cubicBezTo>
                <a:cubicBezTo>
                  <a:pt x="11735" y="4489"/>
                  <a:pt x="11738" y="4543"/>
                  <a:pt x="11708" y="4614"/>
                </a:cubicBezTo>
                <a:cubicBezTo>
                  <a:pt x="11665" y="4714"/>
                  <a:pt x="11637" y="4801"/>
                  <a:pt x="11633" y="4911"/>
                </a:cubicBezTo>
                <a:cubicBezTo>
                  <a:pt x="11631" y="4956"/>
                  <a:pt x="11621" y="5063"/>
                  <a:pt x="11683" y="5085"/>
                </a:cubicBezTo>
                <a:cubicBezTo>
                  <a:pt x="11761" y="5113"/>
                  <a:pt x="11806" y="5098"/>
                  <a:pt x="11881" y="5085"/>
                </a:cubicBezTo>
                <a:cubicBezTo>
                  <a:pt x="11912" y="5080"/>
                  <a:pt x="12010" y="5059"/>
                  <a:pt x="12030" y="5035"/>
                </a:cubicBezTo>
                <a:cubicBezTo>
                  <a:pt x="12030" y="5027"/>
                  <a:pt x="12030" y="5019"/>
                  <a:pt x="12030" y="5011"/>
                </a:cubicBezTo>
              </a:path>
              <a:path w="2656" h="1762">
                <a:moveTo>
                  <a:pt x="12278" y="4390"/>
                </a:moveTo>
                <a:cubicBezTo>
                  <a:pt x="12229" y="4453"/>
                  <a:pt x="12213" y="4534"/>
                  <a:pt x="12204" y="4614"/>
                </a:cubicBezTo>
                <a:cubicBezTo>
                  <a:pt x="12193" y="4714"/>
                  <a:pt x="12201" y="4842"/>
                  <a:pt x="12229" y="4936"/>
                </a:cubicBezTo>
                <a:cubicBezTo>
                  <a:pt x="12248" y="4999"/>
                  <a:pt x="12271" y="5011"/>
                  <a:pt x="12328" y="5011"/>
                </a:cubicBezTo>
                <a:cubicBezTo>
                  <a:pt x="12378" y="5011"/>
                  <a:pt x="12410" y="4953"/>
                  <a:pt x="12427" y="4911"/>
                </a:cubicBezTo>
                <a:cubicBezTo>
                  <a:pt x="12468" y="4812"/>
                  <a:pt x="12459" y="4736"/>
                  <a:pt x="12452" y="4638"/>
                </a:cubicBezTo>
                <a:cubicBezTo>
                  <a:pt x="12445" y="4550"/>
                  <a:pt x="12438" y="4483"/>
                  <a:pt x="12378" y="4415"/>
                </a:cubicBezTo>
                <a:cubicBezTo>
                  <a:pt x="12370" y="4407"/>
                  <a:pt x="12361" y="4398"/>
                  <a:pt x="12353" y="4390"/>
                </a:cubicBezTo>
                <a:cubicBezTo>
                  <a:pt x="12349" y="4401"/>
                  <a:pt x="12300" y="4450"/>
                  <a:pt x="12303" y="4465"/>
                </a:cubicBezTo>
                <a:cubicBezTo>
                  <a:pt x="12311" y="4473"/>
                  <a:pt x="12320" y="4482"/>
                  <a:pt x="12328" y="4490"/>
                </a:cubicBezTo>
              </a:path>
              <a:path w="2656" h="1762">
                <a:moveTo>
                  <a:pt x="12799" y="4316"/>
                </a:moveTo>
                <a:cubicBezTo>
                  <a:pt x="12735" y="4349"/>
                  <a:pt x="12668" y="4377"/>
                  <a:pt x="12626" y="4440"/>
                </a:cubicBezTo>
                <a:cubicBezTo>
                  <a:pt x="12594" y="4488"/>
                  <a:pt x="12576" y="4533"/>
                  <a:pt x="12576" y="4589"/>
                </a:cubicBezTo>
                <a:cubicBezTo>
                  <a:pt x="12576" y="4617"/>
                  <a:pt x="12641" y="4652"/>
                  <a:pt x="12675" y="4663"/>
                </a:cubicBezTo>
                <a:cubicBezTo>
                  <a:pt x="12730" y="4681"/>
                  <a:pt x="12790" y="4732"/>
                  <a:pt x="12849" y="4762"/>
                </a:cubicBezTo>
                <a:cubicBezTo>
                  <a:pt x="12900" y="4787"/>
                  <a:pt x="12966" y="4801"/>
                  <a:pt x="12973" y="4862"/>
                </a:cubicBezTo>
                <a:cubicBezTo>
                  <a:pt x="12979" y="4919"/>
                  <a:pt x="12943" y="4933"/>
                  <a:pt x="12898" y="4961"/>
                </a:cubicBezTo>
                <a:cubicBezTo>
                  <a:pt x="12812" y="5013"/>
                  <a:pt x="12729" y="5027"/>
                  <a:pt x="12626" y="5011"/>
                </a:cubicBezTo>
                <a:cubicBezTo>
                  <a:pt x="12621" y="5010"/>
                  <a:pt x="12496" y="4958"/>
                  <a:pt x="12526" y="4936"/>
                </a:cubicBezTo>
                <a:cubicBezTo>
                  <a:pt x="12534" y="4936"/>
                  <a:pt x="12543" y="4936"/>
                  <a:pt x="12551" y="4936"/>
                </a:cubicBezTo>
              </a:path>
              <a:path w="2656" h="1762">
                <a:moveTo>
                  <a:pt x="12898" y="4018"/>
                </a:moveTo>
                <a:cubicBezTo>
                  <a:pt x="12876" y="3996"/>
                  <a:pt x="12868" y="3991"/>
                  <a:pt x="12874" y="3969"/>
                </a:cubicBezTo>
                <a:cubicBezTo>
                  <a:pt x="12913" y="3959"/>
                  <a:pt x="12928" y="3944"/>
                  <a:pt x="12973" y="3944"/>
                </a:cubicBezTo>
                <a:cubicBezTo>
                  <a:pt x="13040" y="3944"/>
                  <a:pt x="13046" y="3980"/>
                  <a:pt x="13072" y="4018"/>
                </a:cubicBezTo>
                <a:cubicBezTo>
                  <a:pt x="13097" y="4055"/>
                  <a:pt x="13116" y="4117"/>
                  <a:pt x="13097" y="4167"/>
                </a:cubicBezTo>
                <a:cubicBezTo>
                  <a:pt x="13091" y="4184"/>
                  <a:pt x="13031" y="4285"/>
                  <a:pt x="13022" y="4291"/>
                </a:cubicBezTo>
                <a:cubicBezTo>
                  <a:pt x="13000" y="4306"/>
                  <a:pt x="12974" y="4333"/>
                  <a:pt x="13022" y="4366"/>
                </a:cubicBezTo>
                <a:cubicBezTo>
                  <a:pt x="13084" y="4408"/>
                  <a:pt x="13152" y="4381"/>
                  <a:pt x="13221" y="4415"/>
                </a:cubicBezTo>
                <a:cubicBezTo>
                  <a:pt x="13257" y="4433"/>
                  <a:pt x="13277" y="4456"/>
                  <a:pt x="13320" y="4465"/>
                </a:cubicBezTo>
              </a:path>
              <a:path w="2656" h="1762">
                <a:moveTo>
                  <a:pt x="13221" y="4490"/>
                </a:moveTo>
                <a:cubicBezTo>
                  <a:pt x="13269" y="4626"/>
                  <a:pt x="13277" y="4670"/>
                  <a:pt x="13370" y="4762"/>
                </a:cubicBezTo>
                <a:cubicBezTo>
                  <a:pt x="13420" y="4811"/>
                  <a:pt x="13457" y="4855"/>
                  <a:pt x="13519" y="4887"/>
                </a:cubicBezTo>
                <a:cubicBezTo>
                  <a:pt x="13573" y="4915"/>
                  <a:pt x="13584" y="4911"/>
                  <a:pt x="13643" y="4911"/>
                </a:cubicBezTo>
              </a:path>
              <a:path w="2656" h="1762">
                <a:moveTo>
                  <a:pt x="13618" y="4465"/>
                </a:moveTo>
                <a:cubicBezTo>
                  <a:pt x="13548" y="4598"/>
                  <a:pt x="13495" y="4736"/>
                  <a:pt x="13419" y="4862"/>
                </a:cubicBezTo>
                <a:cubicBezTo>
                  <a:pt x="13377" y="4931"/>
                  <a:pt x="13358" y="5021"/>
                  <a:pt x="13320" y="5085"/>
                </a:cubicBezTo>
                <a:cubicBezTo>
                  <a:pt x="13278" y="5154"/>
                  <a:pt x="13329" y="5081"/>
                  <a:pt x="13345" y="5060"/>
                </a:cubicBezTo>
              </a:path>
              <a:path w="2656" h="1762">
                <a:moveTo>
                  <a:pt x="13866" y="3746"/>
                </a:moveTo>
                <a:cubicBezTo>
                  <a:pt x="13918" y="3805"/>
                  <a:pt x="13928" y="3850"/>
                  <a:pt x="13965" y="3919"/>
                </a:cubicBezTo>
                <a:cubicBezTo>
                  <a:pt x="14022" y="4024"/>
                  <a:pt x="14055" y="4137"/>
                  <a:pt x="14114" y="4242"/>
                </a:cubicBezTo>
                <a:cubicBezTo>
                  <a:pt x="14203" y="4400"/>
                  <a:pt x="14269" y="4578"/>
                  <a:pt x="14288" y="4762"/>
                </a:cubicBezTo>
                <a:cubicBezTo>
                  <a:pt x="14301" y="4889"/>
                  <a:pt x="14297" y="5054"/>
                  <a:pt x="14213" y="5159"/>
                </a:cubicBezTo>
                <a:cubicBezTo>
                  <a:pt x="14124" y="5270"/>
                  <a:pt x="14016" y="5366"/>
                  <a:pt x="13891" y="5432"/>
                </a:cubicBezTo>
                <a:cubicBezTo>
                  <a:pt x="13858" y="5449"/>
                  <a:pt x="13744" y="5512"/>
                  <a:pt x="13717" y="5507"/>
                </a:cubicBezTo>
                <a:cubicBezTo>
                  <a:pt x="13692" y="5507"/>
                  <a:pt x="13684" y="5507"/>
                  <a:pt x="13692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22960" y="1704960"/>
            <a:ext cx="204840" cy="117360"/>
          </a:xfrm>
          <a:custGeom>
            <a:avLst/>
            <a:gdLst/>
            <a:ahLst/>
            <a:rect l="l" t="t" r="r" b="b"/>
            <a:pathLst>
              <a:path w="571" h="323">
                <a:moveTo>
                  <a:pt x="14784" y="4787"/>
                </a:moveTo>
                <a:cubicBezTo>
                  <a:pt x="14883" y="4774"/>
                  <a:pt x="14977" y="4749"/>
                  <a:pt x="15081" y="4738"/>
                </a:cubicBezTo>
                <a:cubicBezTo>
                  <a:pt x="15108" y="4735"/>
                  <a:pt x="15294" y="4724"/>
                  <a:pt x="15280" y="4762"/>
                </a:cubicBezTo>
                <a:cubicBezTo>
                  <a:pt x="15272" y="4770"/>
                  <a:pt x="15263" y="4779"/>
                  <a:pt x="15255" y="4787"/>
                </a:cubicBezTo>
              </a:path>
              <a:path w="571" h="323">
                <a:moveTo>
                  <a:pt x="14908" y="5060"/>
                </a:moveTo>
                <a:cubicBezTo>
                  <a:pt x="14965" y="5048"/>
                  <a:pt x="15024" y="5047"/>
                  <a:pt x="15081" y="5035"/>
                </a:cubicBezTo>
                <a:cubicBezTo>
                  <a:pt x="15192" y="5012"/>
                  <a:pt x="15227" y="5011"/>
                  <a:pt x="15354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49920" y="1589040"/>
            <a:ext cx="911160" cy="40320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16321" y="4514"/>
                </a:moveTo>
                <a:cubicBezTo>
                  <a:pt x="16186" y="4522"/>
                  <a:pt x="16100" y="4522"/>
                  <a:pt x="15999" y="4614"/>
                </a:cubicBezTo>
                <a:cubicBezTo>
                  <a:pt x="15960" y="4649"/>
                  <a:pt x="15967" y="4677"/>
                  <a:pt x="15999" y="4713"/>
                </a:cubicBezTo>
                <a:cubicBezTo>
                  <a:pt x="16042" y="4762"/>
                  <a:pt x="16137" y="4782"/>
                  <a:pt x="16197" y="4812"/>
                </a:cubicBezTo>
                <a:cubicBezTo>
                  <a:pt x="16282" y="4855"/>
                  <a:pt x="16350" y="4871"/>
                  <a:pt x="16421" y="4936"/>
                </a:cubicBezTo>
                <a:cubicBezTo>
                  <a:pt x="16485" y="4995"/>
                  <a:pt x="16451" y="5054"/>
                  <a:pt x="16396" y="5085"/>
                </a:cubicBezTo>
                <a:cubicBezTo>
                  <a:pt x="16354" y="5109"/>
                  <a:pt x="16222" y="5150"/>
                  <a:pt x="16173" y="5135"/>
                </a:cubicBezTo>
                <a:cubicBezTo>
                  <a:pt x="16151" y="5128"/>
                  <a:pt x="16117" y="5099"/>
                  <a:pt x="16098" y="5085"/>
                </a:cubicBezTo>
                <a:cubicBezTo>
                  <a:pt x="16109" y="5008"/>
                  <a:pt x="16133" y="4983"/>
                  <a:pt x="16197" y="4936"/>
                </a:cubicBezTo>
              </a:path>
              <a:path w="2531" h="1117">
                <a:moveTo>
                  <a:pt x="16619" y="4663"/>
                </a:moveTo>
                <a:cubicBezTo>
                  <a:pt x="16619" y="4785"/>
                  <a:pt x="16630" y="4893"/>
                  <a:pt x="16644" y="5011"/>
                </a:cubicBezTo>
                <a:cubicBezTo>
                  <a:pt x="16654" y="5099"/>
                  <a:pt x="16632" y="5138"/>
                  <a:pt x="16694" y="5209"/>
                </a:cubicBezTo>
                <a:cubicBezTo>
                  <a:pt x="16719" y="5238"/>
                  <a:pt x="16780" y="5275"/>
                  <a:pt x="16743" y="5209"/>
                </a:cubicBezTo>
                <a:cubicBezTo>
                  <a:pt x="16735" y="5201"/>
                  <a:pt x="16726" y="5192"/>
                  <a:pt x="16718" y="5184"/>
                </a:cubicBezTo>
              </a:path>
              <a:path w="2531" h="1117">
                <a:moveTo>
                  <a:pt x="16718" y="4415"/>
                </a:moveTo>
                <a:cubicBezTo>
                  <a:pt x="16748" y="4430"/>
                  <a:pt x="16733" y="4445"/>
                  <a:pt x="16718" y="4415"/>
                </a:cubicBezTo>
              </a:path>
              <a:path w="2531" h="1117">
                <a:moveTo>
                  <a:pt x="17066" y="4638"/>
                </a:moveTo>
                <a:cubicBezTo>
                  <a:pt x="17030" y="4739"/>
                  <a:pt x="16997" y="4829"/>
                  <a:pt x="16991" y="4936"/>
                </a:cubicBezTo>
                <a:cubicBezTo>
                  <a:pt x="16988" y="4989"/>
                  <a:pt x="16972" y="5095"/>
                  <a:pt x="17016" y="5110"/>
                </a:cubicBezTo>
                <a:cubicBezTo>
                  <a:pt x="17016" y="5030"/>
                  <a:pt x="17012" y="4963"/>
                  <a:pt x="17041" y="4887"/>
                </a:cubicBezTo>
                <a:cubicBezTo>
                  <a:pt x="17074" y="4800"/>
                  <a:pt x="17097" y="4760"/>
                  <a:pt x="17165" y="4713"/>
                </a:cubicBezTo>
                <a:cubicBezTo>
                  <a:pt x="17214" y="4679"/>
                  <a:pt x="17283" y="4751"/>
                  <a:pt x="17314" y="4812"/>
                </a:cubicBezTo>
                <a:cubicBezTo>
                  <a:pt x="17354" y="4891"/>
                  <a:pt x="17363" y="4980"/>
                  <a:pt x="17388" y="5060"/>
                </a:cubicBezTo>
                <a:cubicBezTo>
                  <a:pt x="17407" y="5121"/>
                  <a:pt x="17406" y="5205"/>
                  <a:pt x="17438" y="5259"/>
                </a:cubicBezTo>
                <a:cubicBezTo>
                  <a:pt x="17460" y="5295"/>
                  <a:pt x="17456" y="5323"/>
                  <a:pt x="17487" y="5333"/>
                </a:cubicBezTo>
                <a:cubicBezTo>
                  <a:pt x="17499" y="5286"/>
                  <a:pt x="17523" y="5259"/>
                  <a:pt x="17537" y="5209"/>
                </a:cubicBezTo>
                <a:cubicBezTo>
                  <a:pt x="17545" y="5184"/>
                  <a:pt x="17554" y="5160"/>
                  <a:pt x="17562" y="5135"/>
                </a:cubicBezTo>
              </a:path>
              <a:path w="2531" h="1117">
                <a:moveTo>
                  <a:pt x="17785" y="4638"/>
                </a:moveTo>
                <a:cubicBezTo>
                  <a:pt x="17755" y="4776"/>
                  <a:pt x="17757" y="4796"/>
                  <a:pt x="17810" y="4911"/>
                </a:cubicBezTo>
                <a:cubicBezTo>
                  <a:pt x="17862" y="5023"/>
                  <a:pt x="17907" y="5083"/>
                  <a:pt x="18008" y="5159"/>
                </a:cubicBezTo>
                <a:cubicBezTo>
                  <a:pt x="18098" y="5226"/>
                  <a:pt x="18242" y="5286"/>
                  <a:pt x="18355" y="5283"/>
                </a:cubicBezTo>
                <a:cubicBezTo>
                  <a:pt x="18395" y="5282"/>
                  <a:pt x="18468" y="5227"/>
                  <a:pt x="18504" y="5209"/>
                </a:cubicBezTo>
              </a:path>
              <a:path w="2531" h="1117">
                <a:moveTo>
                  <a:pt x="18455" y="4490"/>
                </a:moveTo>
                <a:cubicBezTo>
                  <a:pt x="18381" y="4577"/>
                  <a:pt x="18277" y="4652"/>
                  <a:pt x="18207" y="4738"/>
                </a:cubicBezTo>
                <a:cubicBezTo>
                  <a:pt x="18088" y="4884"/>
                  <a:pt x="18005" y="5061"/>
                  <a:pt x="17934" y="5234"/>
                </a:cubicBezTo>
                <a:cubicBezTo>
                  <a:pt x="17895" y="5327"/>
                  <a:pt x="17838" y="5414"/>
                  <a:pt x="17810" y="5507"/>
                </a:cubicBezTo>
                <a:cubicBezTo>
                  <a:pt x="17810" y="5515"/>
                  <a:pt x="17810" y="5523"/>
                  <a:pt x="17810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25800" y="2633760"/>
            <a:ext cx="955440" cy="304560"/>
          </a:xfrm>
          <a:custGeom>
            <a:avLst/>
            <a:gdLst/>
            <a:ahLst/>
            <a:rect l="l" t="t" r="r" b="b"/>
            <a:pathLst>
              <a:path w="2655" h="845">
                <a:moveTo>
                  <a:pt x="6176" y="7317"/>
                </a:moveTo>
                <a:cubicBezTo>
                  <a:pt x="6062" y="7359"/>
                  <a:pt x="6015" y="7404"/>
                  <a:pt x="5928" y="7491"/>
                </a:cubicBezTo>
                <a:cubicBezTo>
                  <a:pt x="5908" y="7511"/>
                  <a:pt x="5888" y="7559"/>
                  <a:pt x="5904" y="7590"/>
                </a:cubicBezTo>
                <a:cubicBezTo>
                  <a:pt x="5938" y="7654"/>
                  <a:pt x="6016" y="7642"/>
                  <a:pt x="6077" y="7665"/>
                </a:cubicBezTo>
                <a:cubicBezTo>
                  <a:pt x="6171" y="7700"/>
                  <a:pt x="6244" y="7739"/>
                  <a:pt x="6325" y="7789"/>
                </a:cubicBezTo>
                <a:cubicBezTo>
                  <a:pt x="6387" y="7828"/>
                  <a:pt x="6443" y="7856"/>
                  <a:pt x="6449" y="7938"/>
                </a:cubicBezTo>
                <a:cubicBezTo>
                  <a:pt x="6454" y="8018"/>
                  <a:pt x="6387" y="8053"/>
                  <a:pt x="6325" y="8086"/>
                </a:cubicBezTo>
                <a:cubicBezTo>
                  <a:pt x="6258" y="8121"/>
                  <a:pt x="6202" y="8155"/>
                  <a:pt x="6127" y="8161"/>
                </a:cubicBezTo>
                <a:cubicBezTo>
                  <a:pt x="6057" y="8166"/>
                  <a:pt x="6071" y="8098"/>
                  <a:pt x="6102" y="8062"/>
                </a:cubicBezTo>
                <a:cubicBezTo>
                  <a:pt x="6119" y="8045"/>
                  <a:pt x="6135" y="8029"/>
                  <a:pt x="6152" y="8012"/>
                </a:cubicBezTo>
              </a:path>
              <a:path w="2655" h="845">
                <a:moveTo>
                  <a:pt x="6871" y="7466"/>
                </a:moveTo>
                <a:cubicBezTo>
                  <a:pt x="6851" y="7587"/>
                  <a:pt x="6846" y="7691"/>
                  <a:pt x="6846" y="7813"/>
                </a:cubicBezTo>
                <a:cubicBezTo>
                  <a:pt x="6846" y="7893"/>
                  <a:pt x="6826" y="8036"/>
                  <a:pt x="6871" y="8111"/>
                </a:cubicBezTo>
                <a:cubicBezTo>
                  <a:pt x="6892" y="8146"/>
                  <a:pt x="6892" y="8151"/>
                  <a:pt x="6921" y="8161"/>
                </a:cubicBezTo>
                <a:cubicBezTo>
                  <a:pt x="6912" y="8117"/>
                  <a:pt x="6902" y="8083"/>
                  <a:pt x="6896" y="8037"/>
                </a:cubicBezTo>
              </a:path>
              <a:path w="2655" h="845">
                <a:moveTo>
                  <a:pt x="6796" y="7342"/>
                </a:moveTo>
                <a:cubicBezTo>
                  <a:pt x="6816" y="7389"/>
                  <a:pt x="6818" y="7405"/>
                  <a:pt x="6846" y="7441"/>
                </a:cubicBezTo>
              </a:path>
              <a:path w="2655" h="845">
                <a:moveTo>
                  <a:pt x="7144" y="7590"/>
                </a:moveTo>
                <a:cubicBezTo>
                  <a:pt x="7144" y="7712"/>
                  <a:pt x="7136" y="7820"/>
                  <a:pt x="7119" y="7938"/>
                </a:cubicBezTo>
                <a:cubicBezTo>
                  <a:pt x="7111" y="7994"/>
                  <a:pt x="7140" y="8052"/>
                  <a:pt x="7144" y="8111"/>
                </a:cubicBezTo>
                <a:cubicBezTo>
                  <a:pt x="7144" y="8119"/>
                  <a:pt x="7144" y="8128"/>
                  <a:pt x="7144" y="8136"/>
                </a:cubicBezTo>
                <a:cubicBezTo>
                  <a:pt x="7161" y="8110"/>
                  <a:pt x="7193" y="8039"/>
                  <a:pt x="7218" y="7987"/>
                </a:cubicBezTo>
                <a:cubicBezTo>
                  <a:pt x="7256" y="7907"/>
                  <a:pt x="7276" y="7843"/>
                  <a:pt x="7317" y="7764"/>
                </a:cubicBezTo>
                <a:cubicBezTo>
                  <a:pt x="7369" y="7663"/>
                  <a:pt x="7409" y="7598"/>
                  <a:pt x="7491" y="7516"/>
                </a:cubicBezTo>
                <a:cubicBezTo>
                  <a:pt x="7563" y="7444"/>
                  <a:pt x="7618" y="7441"/>
                  <a:pt x="7714" y="7441"/>
                </a:cubicBezTo>
                <a:cubicBezTo>
                  <a:pt x="7795" y="7441"/>
                  <a:pt x="7814" y="7487"/>
                  <a:pt x="7863" y="7541"/>
                </a:cubicBezTo>
                <a:cubicBezTo>
                  <a:pt x="7932" y="7618"/>
                  <a:pt x="7940" y="7690"/>
                  <a:pt x="7962" y="7789"/>
                </a:cubicBezTo>
                <a:cubicBezTo>
                  <a:pt x="7983" y="7884"/>
                  <a:pt x="7972" y="7965"/>
                  <a:pt x="8037" y="8037"/>
                </a:cubicBezTo>
                <a:cubicBezTo>
                  <a:pt x="8079" y="8084"/>
                  <a:pt x="8086" y="8097"/>
                  <a:pt x="8136" y="8062"/>
                </a:cubicBezTo>
                <a:cubicBezTo>
                  <a:pt x="8161" y="8037"/>
                  <a:pt x="8169" y="8029"/>
                  <a:pt x="8186" y="8012"/>
                </a:cubicBezTo>
              </a:path>
              <a:path w="2655" h="845">
                <a:moveTo>
                  <a:pt x="8508" y="7789"/>
                </a:moveTo>
                <a:cubicBezTo>
                  <a:pt x="8549" y="7789"/>
                  <a:pt x="8520" y="7801"/>
                  <a:pt x="8558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46640" y="2509920"/>
            <a:ext cx="63360" cy="392040"/>
          </a:xfrm>
          <a:custGeom>
            <a:avLst/>
            <a:gdLst/>
            <a:ahLst/>
            <a:rect l="l" t="t" r="r" b="b"/>
            <a:pathLst>
              <a:path w="174" h="1093">
                <a:moveTo>
                  <a:pt x="9699" y="7045"/>
                </a:moveTo>
                <a:cubicBezTo>
                  <a:pt x="9720" y="6993"/>
                  <a:pt x="9712" y="6982"/>
                  <a:pt x="9748" y="6970"/>
                </a:cubicBezTo>
                <a:cubicBezTo>
                  <a:pt x="9737" y="7027"/>
                  <a:pt x="9735" y="7087"/>
                  <a:pt x="9723" y="7144"/>
                </a:cubicBezTo>
                <a:cubicBezTo>
                  <a:pt x="9700" y="7251"/>
                  <a:pt x="9678" y="7356"/>
                  <a:pt x="9674" y="7466"/>
                </a:cubicBezTo>
                <a:cubicBezTo>
                  <a:pt x="9670" y="7568"/>
                  <a:pt x="9649" y="7661"/>
                  <a:pt x="9649" y="7764"/>
                </a:cubicBezTo>
                <a:cubicBezTo>
                  <a:pt x="9649" y="7821"/>
                  <a:pt x="9644" y="7965"/>
                  <a:pt x="9624" y="8012"/>
                </a:cubicBezTo>
                <a:cubicBezTo>
                  <a:pt x="9599" y="8037"/>
                  <a:pt x="9591" y="8045"/>
                  <a:pt x="9575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21040" y="2768760"/>
            <a:ext cx="287280" cy="133200"/>
          </a:xfrm>
          <a:custGeom>
            <a:avLst/>
            <a:gdLst/>
            <a:ahLst/>
            <a:rect l="l" t="t" r="r" b="b"/>
            <a:pathLst>
              <a:path w="795" h="374">
                <a:moveTo>
                  <a:pt x="10616" y="7739"/>
                </a:moveTo>
                <a:cubicBezTo>
                  <a:pt x="10733" y="7739"/>
                  <a:pt x="10827" y="7727"/>
                  <a:pt x="10939" y="7714"/>
                </a:cubicBezTo>
                <a:cubicBezTo>
                  <a:pt x="11021" y="7705"/>
                  <a:pt x="11106" y="7696"/>
                  <a:pt x="11187" y="7689"/>
                </a:cubicBezTo>
                <a:cubicBezTo>
                  <a:pt x="11195" y="7689"/>
                  <a:pt x="11204" y="7689"/>
                  <a:pt x="11212" y="7689"/>
                </a:cubicBezTo>
              </a:path>
              <a:path w="795" h="374">
                <a:moveTo>
                  <a:pt x="10815" y="8037"/>
                </a:moveTo>
                <a:cubicBezTo>
                  <a:pt x="10900" y="8061"/>
                  <a:pt x="10998" y="8079"/>
                  <a:pt x="11088" y="8062"/>
                </a:cubicBezTo>
                <a:cubicBezTo>
                  <a:pt x="11196" y="8042"/>
                  <a:pt x="11299" y="8021"/>
                  <a:pt x="11410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678040"/>
            <a:ext cx="901800" cy="331920"/>
          </a:xfrm>
          <a:custGeom>
            <a:avLst/>
            <a:gdLst/>
            <a:ahLst/>
            <a:rect l="l" t="t" r="r" b="b"/>
            <a:pathLst>
              <a:path w="2506" h="919">
                <a:moveTo>
                  <a:pt x="12750" y="7466"/>
                </a:moveTo>
                <a:cubicBezTo>
                  <a:pt x="12597" y="7444"/>
                  <a:pt x="12520" y="7433"/>
                  <a:pt x="12378" y="7491"/>
                </a:cubicBezTo>
                <a:cubicBezTo>
                  <a:pt x="12315" y="7517"/>
                  <a:pt x="12223" y="7570"/>
                  <a:pt x="12204" y="7640"/>
                </a:cubicBezTo>
                <a:cubicBezTo>
                  <a:pt x="12182" y="7723"/>
                  <a:pt x="12344" y="7826"/>
                  <a:pt x="12402" y="7863"/>
                </a:cubicBezTo>
                <a:cubicBezTo>
                  <a:pt x="12508" y="7930"/>
                  <a:pt x="12626" y="7981"/>
                  <a:pt x="12725" y="8062"/>
                </a:cubicBezTo>
                <a:cubicBezTo>
                  <a:pt x="12782" y="8108"/>
                  <a:pt x="12868" y="8198"/>
                  <a:pt x="12824" y="8260"/>
                </a:cubicBezTo>
                <a:cubicBezTo>
                  <a:pt x="12773" y="8332"/>
                  <a:pt x="12725" y="8317"/>
                  <a:pt x="12650" y="8334"/>
                </a:cubicBezTo>
                <a:cubicBezTo>
                  <a:pt x="12562" y="8354"/>
                  <a:pt x="12488" y="8383"/>
                  <a:pt x="12402" y="8334"/>
                </a:cubicBezTo>
                <a:cubicBezTo>
                  <a:pt x="12347" y="8303"/>
                  <a:pt x="12373" y="8250"/>
                  <a:pt x="12378" y="8210"/>
                </a:cubicBezTo>
                <a:cubicBezTo>
                  <a:pt x="12378" y="8194"/>
                  <a:pt x="12378" y="8177"/>
                  <a:pt x="12378" y="8161"/>
                </a:cubicBezTo>
              </a:path>
              <a:path w="2506" h="919">
                <a:moveTo>
                  <a:pt x="13246" y="7665"/>
                </a:moveTo>
                <a:cubicBezTo>
                  <a:pt x="13306" y="7746"/>
                  <a:pt x="13295" y="7783"/>
                  <a:pt x="13295" y="7888"/>
                </a:cubicBezTo>
                <a:cubicBezTo>
                  <a:pt x="13295" y="7978"/>
                  <a:pt x="13284" y="8052"/>
                  <a:pt x="13271" y="8136"/>
                </a:cubicBezTo>
                <a:cubicBezTo>
                  <a:pt x="13263" y="8189"/>
                  <a:pt x="13268" y="8198"/>
                  <a:pt x="13295" y="8235"/>
                </a:cubicBezTo>
                <a:cubicBezTo>
                  <a:pt x="13336" y="8221"/>
                  <a:pt x="13325" y="8201"/>
                  <a:pt x="13345" y="8136"/>
                </a:cubicBezTo>
              </a:path>
              <a:path w="2506" h="919">
                <a:moveTo>
                  <a:pt x="13271" y="7541"/>
                </a:moveTo>
                <a:cubicBezTo>
                  <a:pt x="13271" y="7513"/>
                  <a:pt x="13273" y="7507"/>
                  <a:pt x="13295" y="7541"/>
                </a:cubicBezTo>
              </a:path>
              <a:path w="2506" h="919">
                <a:moveTo>
                  <a:pt x="13618" y="7838"/>
                </a:moveTo>
                <a:cubicBezTo>
                  <a:pt x="13618" y="7932"/>
                  <a:pt x="13598" y="7981"/>
                  <a:pt x="13593" y="8062"/>
                </a:cubicBezTo>
                <a:cubicBezTo>
                  <a:pt x="13592" y="8086"/>
                  <a:pt x="13593" y="8112"/>
                  <a:pt x="13593" y="8136"/>
                </a:cubicBezTo>
                <a:cubicBezTo>
                  <a:pt x="13632" y="8068"/>
                  <a:pt x="13660" y="8012"/>
                  <a:pt x="13692" y="7938"/>
                </a:cubicBezTo>
                <a:cubicBezTo>
                  <a:pt x="13733" y="7843"/>
                  <a:pt x="13781" y="7743"/>
                  <a:pt x="13841" y="7665"/>
                </a:cubicBezTo>
                <a:cubicBezTo>
                  <a:pt x="13920" y="7563"/>
                  <a:pt x="13981" y="7467"/>
                  <a:pt x="14114" y="7441"/>
                </a:cubicBezTo>
                <a:cubicBezTo>
                  <a:pt x="14185" y="7427"/>
                  <a:pt x="14242" y="7475"/>
                  <a:pt x="14288" y="7516"/>
                </a:cubicBezTo>
                <a:cubicBezTo>
                  <a:pt x="14367" y="7586"/>
                  <a:pt x="14403" y="7667"/>
                  <a:pt x="14436" y="7764"/>
                </a:cubicBezTo>
                <a:cubicBezTo>
                  <a:pt x="14468" y="7856"/>
                  <a:pt x="14502" y="7946"/>
                  <a:pt x="14536" y="8037"/>
                </a:cubicBezTo>
                <a:cubicBezTo>
                  <a:pt x="14570" y="8129"/>
                  <a:pt x="14600" y="8167"/>
                  <a:pt x="14660" y="8235"/>
                </a:cubicBezTo>
                <a:cubicBezTo>
                  <a:pt x="14676" y="8252"/>
                  <a:pt x="14693" y="8268"/>
                  <a:pt x="14709" y="82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63840" y="3357720"/>
            <a:ext cx="1484280" cy="482400"/>
          </a:xfrm>
          <a:custGeom>
            <a:avLst/>
            <a:gdLst/>
            <a:ahLst/>
            <a:rect l="l" t="t" r="r" b="b"/>
            <a:pathLst>
              <a:path w="4119" h="1340">
                <a:moveTo>
                  <a:pt x="7293" y="9624"/>
                </a:moveTo>
                <a:cubicBezTo>
                  <a:pt x="7284" y="9597"/>
                  <a:pt x="7257" y="9585"/>
                  <a:pt x="7218" y="9599"/>
                </a:cubicBezTo>
                <a:cubicBezTo>
                  <a:pt x="7139" y="9628"/>
                  <a:pt x="7086" y="9679"/>
                  <a:pt x="7020" y="9723"/>
                </a:cubicBezTo>
                <a:cubicBezTo>
                  <a:pt x="6956" y="9765"/>
                  <a:pt x="6869" y="9816"/>
                  <a:pt x="6846" y="9897"/>
                </a:cubicBezTo>
                <a:cubicBezTo>
                  <a:pt x="6833" y="9943"/>
                  <a:pt x="6851" y="9999"/>
                  <a:pt x="6896" y="10021"/>
                </a:cubicBezTo>
                <a:cubicBezTo>
                  <a:pt x="6984" y="10063"/>
                  <a:pt x="7080" y="10106"/>
                  <a:pt x="7169" y="10145"/>
                </a:cubicBezTo>
                <a:cubicBezTo>
                  <a:pt x="7222" y="10168"/>
                  <a:pt x="7392" y="10215"/>
                  <a:pt x="7392" y="10294"/>
                </a:cubicBezTo>
                <a:cubicBezTo>
                  <a:pt x="7392" y="10408"/>
                  <a:pt x="7308" y="10532"/>
                  <a:pt x="7218" y="10592"/>
                </a:cubicBezTo>
                <a:cubicBezTo>
                  <a:pt x="7142" y="10642"/>
                  <a:pt x="7060" y="10666"/>
                  <a:pt x="6970" y="10666"/>
                </a:cubicBezTo>
                <a:cubicBezTo>
                  <a:pt x="6942" y="10666"/>
                  <a:pt x="6931" y="10664"/>
                  <a:pt x="6921" y="10641"/>
                </a:cubicBezTo>
                <a:cubicBezTo>
                  <a:pt x="6934" y="10524"/>
                  <a:pt x="7000" y="10390"/>
                  <a:pt x="7069" y="10294"/>
                </a:cubicBezTo>
                <a:cubicBezTo>
                  <a:pt x="7094" y="10269"/>
                  <a:pt x="7119" y="10245"/>
                  <a:pt x="7144" y="10220"/>
                </a:cubicBezTo>
              </a:path>
              <a:path w="4119" h="1340">
                <a:moveTo>
                  <a:pt x="7813" y="9723"/>
                </a:moveTo>
                <a:cubicBezTo>
                  <a:pt x="7889" y="9865"/>
                  <a:pt x="7888" y="9892"/>
                  <a:pt x="7888" y="10046"/>
                </a:cubicBezTo>
                <a:cubicBezTo>
                  <a:pt x="7888" y="10137"/>
                  <a:pt x="7863" y="10188"/>
                  <a:pt x="7863" y="10269"/>
                </a:cubicBezTo>
                <a:cubicBezTo>
                  <a:pt x="7892" y="10250"/>
                  <a:pt x="7894" y="10220"/>
                  <a:pt x="7913" y="10170"/>
                </a:cubicBezTo>
              </a:path>
              <a:path w="4119" h="1340">
                <a:moveTo>
                  <a:pt x="7987" y="9327"/>
                </a:moveTo>
                <a:cubicBezTo>
                  <a:pt x="8004" y="9335"/>
                  <a:pt x="8020" y="9343"/>
                  <a:pt x="8037" y="9351"/>
                </a:cubicBezTo>
              </a:path>
              <a:path w="4119" h="1340">
                <a:moveTo>
                  <a:pt x="8310" y="9723"/>
                </a:moveTo>
                <a:cubicBezTo>
                  <a:pt x="8324" y="9853"/>
                  <a:pt x="8334" y="9968"/>
                  <a:pt x="8334" y="10096"/>
                </a:cubicBezTo>
                <a:cubicBezTo>
                  <a:pt x="8334" y="10112"/>
                  <a:pt x="8334" y="10129"/>
                  <a:pt x="8334" y="10145"/>
                </a:cubicBezTo>
                <a:cubicBezTo>
                  <a:pt x="8407" y="10145"/>
                  <a:pt x="8406" y="10146"/>
                  <a:pt x="8458" y="10046"/>
                </a:cubicBezTo>
                <a:cubicBezTo>
                  <a:pt x="8511" y="9945"/>
                  <a:pt x="8550" y="9849"/>
                  <a:pt x="8607" y="9748"/>
                </a:cubicBezTo>
                <a:cubicBezTo>
                  <a:pt x="8660" y="9653"/>
                  <a:pt x="8779" y="9506"/>
                  <a:pt x="8905" y="9500"/>
                </a:cubicBezTo>
                <a:cubicBezTo>
                  <a:pt x="8967" y="9497"/>
                  <a:pt x="9032" y="9609"/>
                  <a:pt x="9054" y="9649"/>
                </a:cubicBezTo>
                <a:cubicBezTo>
                  <a:pt x="9092" y="9718"/>
                  <a:pt x="9095" y="9843"/>
                  <a:pt x="9103" y="9922"/>
                </a:cubicBezTo>
                <a:cubicBezTo>
                  <a:pt x="9112" y="10010"/>
                  <a:pt x="9116" y="10035"/>
                  <a:pt x="9178" y="10096"/>
                </a:cubicBezTo>
                <a:cubicBezTo>
                  <a:pt x="9238" y="10155"/>
                  <a:pt x="9316" y="10079"/>
                  <a:pt x="9376" y="10046"/>
                </a:cubicBezTo>
              </a:path>
              <a:path w="4119" h="1340">
                <a:moveTo>
                  <a:pt x="10120" y="9773"/>
                </a:moveTo>
                <a:cubicBezTo>
                  <a:pt x="10225" y="9766"/>
                  <a:pt x="10315" y="9733"/>
                  <a:pt x="10418" y="9723"/>
                </a:cubicBezTo>
                <a:cubicBezTo>
                  <a:pt x="10509" y="9714"/>
                  <a:pt x="10602" y="9704"/>
                  <a:pt x="10691" y="9699"/>
                </a:cubicBezTo>
                <a:cubicBezTo>
                  <a:pt x="10740" y="9699"/>
                  <a:pt x="10757" y="9699"/>
                  <a:pt x="10790" y="9699"/>
                </a:cubicBezTo>
              </a:path>
              <a:path w="4119" h="1340">
                <a:moveTo>
                  <a:pt x="10468" y="9922"/>
                </a:moveTo>
                <a:cubicBezTo>
                  <a:pt x="10547" y="9900"/>
                  <a:pt x="10635" y="9860"/>
                  <a:pt x="10716" y="9847"/>
                </a:cubicBezTo>
                <a:cubicBezTo>
                  <a:pt x="10785" y="9836"/>
                  <a:pt x="10877" y="9827"/>
                  <a:pt x="10939" y="9798"/>
                </a:cubicBezTo>
                <a:cubicBezTo>
                  <a:pt x="10947" y="9790"/>
                  <a:pt x="10956" y="9781"/>
                  <a:pt x="10964" y="9773"/>
                </a:cubicBezTo>
              </a:path>
              <a:path w="4119" h="1340">
                <a:moveTo>
                  <a:pt x="9500" y="9649"/>
                </a:moveTo>
                <a:cubicBezTo>
                  <a:pt x="9553" y="9761"/>
                  <a:pt x="9609" y="9822"/>
                  <a:pt x="9674" y="9922"/>
                </a:cubicBezTo>
                <a:cubicBezTo>
                  <a:pt x="9703" y="9966"/>
                  <a:pt x="9793" y="10078"/>
                  <a:pt x="9847" y="10096"/>
                </a:cubicBezTo>
                <a:cubicBezTo>
                  <a:pt x="9869" y="10103"/>
                  <a:pt x="9964" y="10090"/>
                  <a:pt x="9971" y="10071"/>
                </a:cubicBezTo>
                <a:cubicBezTo>
                  <a:pt x="9971" y="10054"/>
                  <a:pt x="9971" y="10038"/>
                  <a:pt x="9971" y="10021"/>
                </a:cubicBezTo>
              </a:path>
              <a:path w="4119" h="1340">
                <a:moveTo>
                  <a:pt x="9723" y="9674"/>
                </a:moveTo>
                <a:cubicBezTo>
                  <a:pt x="9687" y="9800"/>
                  <a:pt x="9643" y="9940"/>
                  <a:pt x="9624" y="10071"/>
                </a:cubicBezTo>
                <a:cubicBezTo>
                  <a:pt x="9612" y="10157"/>
                  <a:pt x="9624" y="10256"/>
                  <a:pt x="9624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60880" y="3446640"/>
            <a:ext cx="1019160" cy="384120"/>
          </a:xfrm>
          <a:custGeom>
            <a:avLst/>
            <a:gdLst/>
            <a:ahLst/>
            <a:rect l="l" t="t" r="r" b="b"/>
            <a:pathLst>
              <a:path w="2829" h="1067">
                <a:moveTo>
                  <a:pt x="11782" y="9624"/>
                </a:moveTo>
                <a:cubicBezTo>
                  <a:pt x="11726" y="9624"/>
                  <a:pt x="11709" y="9647"/>
                  <a:pt x="11658" y="9674"/>
                </a:cubicBezTo>
                <a:cubicBezTo>
                  <a:pt x="11599" y="9706"/>
                  <a:pt x="11566" y="9727"/>
                  <a:pt x="11559" y="9798"/>
                </a:cubicBezTo>
                <a:cubicBezTo>
                  <a:pt x="11551" y="9875"/>
                  <a:pt x="11594" y="9904"/>
                  <a:pt x="11658" y="9947"/>
                </a:cubicBezTo>
                <a:cubicBezTo>
                  <a:pt x="11730" y="9995"/>
                  <a:pt x="11827" y="10012"/>
                  <a:pt x="11906" y="10046"/>
                </a:cubicBezTo>
                <a:cubicBezTo>
                  <a:pt x="11962" y="10070"/>
                  <a:pt x="12047" y="10124"/>
                  <a:pt x="12030" y="10195"/>
                </a:cubicBezTo>
                <a:cubicBezTo>
                  <a:pt x="12013" y="10264"/>
                  <a:pt x="11963" y="10310"/>
                  <a:pt x="11906" y="10344"/>
                </a:cubicBezTo>
                <a:cubicBezTo>
                  <a:pt x="11875" y="10363"/>
                  <a:pt x="11811" y="10394"/>
                  <a:pt x="11807" y="10344"/>
                </a:cubicBezTo>
                <a:cubicBezTo>
                  <a:pt x="11807" y="10299"/>
                  <a:pt x="11804" y="10286"/>
                  <a:pt x="11832" y="10269"/>
                </a:cubicBezTo>
              </a:path>
              <a:path w="2829" h="1067">
                <a:moveTo>
                  <a:pt x="12402" y="10145"/>
                </a:moveTo>
                <a:cubicBezTo>
                  <a:pt x="12420" y="10206"/>
                  <a:pt x="12427" y="10281"/>
                  <a:pt x="12427" y="10195"/>
                </a:cubicBezTo>
              </a:path>
              <a:path w="2829" h="1067">
                <a:moveTo>
                  <a:pt x="12378" y="9575"/>
                </a:moveTo>
                <a:cubicBezTo>
                  <a:pt x="12385" y="9604"/>
                  <a:pt x="12395" y="9620"/>
                  <a:pt x="12402" y="9649"/>
                </a:cubicBezTo>
              </a:path>
              <a:path w="2829" h="1067">
                <a:moveTo>
                  <a:pt x="12874" y="9847"/>
                </a:moveTo>
                <a:cubicBezTo>
                  <a:pt x="12893" y="10038"/>
                  <a:pt x="12885" y="10068"/>
                  <a:pt x="12874" y="10220"/>
                </a:cubicBezTo>
                <a:cubicBezTo>
                  <a:pt x="12874" y="10244"/>
                  <a:pt x="12874" y="10253"/>
                  <a:pt x="12874" y="10269"/>
                </a:cubicBezTo>
                <a:cubicBezTo>
                  <a:pt x="12918" y="10213"/>
                  <a:pt x="12941" y="10139"/>
                  <a:pt x="12948" y="10071"/>
                </a:cubicBezTo>
                <a:cubicBezTo>
                  <a:pt x="12962" y="9938"/>
                  <a:pt x="12989" y="9815"/>
                  <a:pt x="13097" y="9723"/>
                </a:cubicBezTo>
                <a:cubicBezTo>
                  <a:pt x="13148" y="9680"/>
                  <a:pt x="13249" y="9656"/>
                  <a:pt x="13295" y="9723"/>
                </a:cubicBezTo>
                <a:cubicBezTo>
                  <a:pt x="13353" y="9808"/>
                  <a:pt x="13345" y="9930"/>
                  <a:pt x="13370" y="10021"/>
                </a:cubicBezTo>
                <a:cubicBezTo>
                  <a:pt x="13389" y="10089"/>
                  <a:pt x="13430" y="10186"/>
                  <a:pt x="13469" y="10220"/>
                </a:cubicBezTo>
                <a:cubicBezTo>
                  <a:pt x="13511" y="10256"/>
                  <a:pt x="13537" y="10243"/>
                  <a:pt x="13568" y="10195"/>
                </a:cubicBezTo>
                <a:cubicBezTo>
                  <a:pt x="13576" y="10178"/>
                  <a:pt x="13585" y="10162"/>
                  <a:pt x="13593" y="10145"/>
                </a:cubicBezTo>
              </a:path>
              <a:path w="2829" h="1067">
                <a:moveTo>
                  <a:pt x="13742" y="9699"/>
                </a:moveTo>
                <a:cubicBezTo>
                  <a:pt x="13742" y="9861"/>
                  <a:pt x="13749" y="10012"/>
                  <a:pt x="13791" y="10170"/>
                </a:cubicBezTo>
                <a:cubicBezTo>
                  <a:pt x="13813" y="10254"/>
                  <a:pt x="13880" y="10360"/>
                  <a:pt x="13965" y="10393"/>
                </a:cubicBezTo>
                <a:cubicBezTo>
                  <a:pt x="14052" y="10426"/>
                  <a:pt x="14103" y="10359"/>
                  <a:pt x="14163" y="10319"/>
                </a:cubicBezTo>
                <a:cubicBezTo>
                  <a:pt x="14257" y="10257"/>
                  <a:pt x="14297" y="10204"/>
                  <a:pt x="14337" y="10096"/>
                </a:cubicBezTo>
                <a:cubicBezTo>
                  <a:pt x="14362" y="10021"/>
                  <a:pt x="14370" y="9997"/>
                  <a:pt x="14387" y="9947"/>
                </a:cubicBezTo>
              </a:path>
              <a:path w="2829" h="1067">
                <a:moveTo>
                  <a:pt x="14263" y="9575"/>
                </a:moveTo>
                <a:cubicBezTo>
                  <a:pt x="14108" y="9729"/>
                  <a:pt x="14030" y="9863"/>
                  <a:pt x="13915" y="10046"/>
                </a:cubicBezTo>
                <a:cubicBezTo>
                  <a:pt x="13828" y="10185"/>
                  <a:pt x="13753" y="10328"/>
                  <a:pt x="13667" y="10468"/>
                </a:cubicBezTo>
                <a:cubicBezTo>
                  <a:pt x="13624" y="10538"/>
                  <a:pt x="13578" y="10582"/>
                  <a:pt x="13519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48160" y="2803680"/>
            <a:ext cx="216000" cy="241200"/>
          </a:xfrm>
          <a:custGeom>
            <a:avLst/>
            <a:gdLst/>
            <a:ahLst/>
            <a:rect l="l" t="t" r="r" b="b"/>
            <a:pathLst>
              <a:path w="596" h="670">
                <a:moveTo>
                  <a:pt x="14858" y="7838"/>
                </a:moveTo>
                <a:cubicBezTo>
                  <a:pt x="14925" y="7972"/>
                  <a:pt x="14987" y="8094"/>
                  <a:pt x="15081" y="8210"/>
                </a:cubicBezTo>
                <a:cubicBezTo>
                  <a:pt x="15129" y="8269"/>
                  <a:pt x="15202" y="8342"/>
                  <a:pt x="15280" y="8359"/>
                </a:cubicBezTo>
                <a:cubicBezTo>
                  <a:pt x="15350" y="8375"/>
                  <a:pt x="15401" y="8352"/>
                  <a:pt x="15453" y="8310"/>
                </a:cubicBezTo>
              </a:path>
              <a:path w="596" h="670">
                <a:moveTo>
                  <a:pt x="15379" y="7789"/>
                </a:moveTo>
                <a:cubicBezTo>
                  <a:pt x="15261" y="7930"/>
                  <a:pt x="15129" y="8077"/>
                  <a:pt x="15032" y="8235"/>
                </a:cubicBezTo>
                <a:cubicBezTo>
                  <a:pt x="14988" y="8307"/>
                  <a:pt x="14949" y="8384"/>
                  <a:pt x="14908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8760" y="4313160"/>
            <a:ext cx="1874520" cy="1116000"/>
          </a:xfrm>
          <a:custGeom>
            <a:avLst/>
            <a:gdLst/>
            <a:ahLst/>
            <a:rect l="l" t="t" r="r" b="b"/>
            <a:pathLst>
              <a:path w="5210" h="3101">
                <a:moveTo>
                  <a:pt x="12254" y="13469"/>
                </a:moveTo>
                <a:cubicBezTo>
                  <a:pt x="12375" y="13282"/>
                  <a:pt x="12422" y="13126"/>
                  <a:pt x="12427" y="12898"/>
                </a:cubicBezTo>
                <a:cubicBezTo>
                  <a:pt x="12431" y="12731"/>
                  <a:pt x="12413" y="12590"/>
                  <a:pt x="12378" y="12427"/>
                </a:cubicBezTo>
                <a:cubicBezTo>
                  <a:pt x="12352" y="12307"/>
                  <a:pt x="12337" y="12176"/>
                  <a:pt x="12254" y="12080"/>
                </a:cubicBezTo>
                <a:cubicBezTo>
                  <a:pt x="12078" y="11876"/>
                  <a:pt x="11865" y="12035"/>
                  <a:pt x="11708" y="12154"/>
                </a:cubicBezTo>
                <a:cubicBezTo>
                  <a:pt x="11510" y="12303"/>
                  <a:pt x="11400" y="12534"/>
                  <a:pt x="11286" y="12750"/>
                </a:cubicBezTo>
                <a:cubicBezTo>
                  <a:pt x="11126" y="13053"/>
                  <a:pt x="11055" y="13333"/>
                  <a:pt x="10988" y="13667"/>
                </a:cubicBezTo>
                <a:cubicBezTo>
                  <a:pt x="10922" y="14000"/>
                  <a:pt x="10929" y="14304"/>
                  <a:pt x="11013" y="14635"/>
                </a:cubicBezTo>
                <a:cubicBezTo>
                  <a:pt x="11056" y="14803"/>
                  <a:pt x="11097" y="14971"/>
                  <a:pt x="11261" y="15056"/>
                </a:cubicBezTo>
                <a:cubicBezTo>
                  <a:pt x="11379" y="15117"/>
                  <a:pt x="11453" y="15029"/>
                  <a:pt x="11534" y="14957"/>
                </a:cubicBezTo>
                <a:cubicBezTo>
                  <a:pt x="11715" y="14796"/>
                  <a:pt x="11789" y="14525"/>
                  <a:pt x="11881" y="14312"/>
                </a:cubicBezTo>
                <a:cubicBezTo>
                  <a:pt x="11982" y="14077"/>
                  <a:pt x="12022" y="13833"/>
                  <a:pt x="12105" y="13593"/>
                </a:cubicBezTo>
                <a:cubicBezTo>
                  <a:pt x="12180" y="13378"/>
                  <a:pt x="12270" y="13170"/>
                  <a:pt x="12328" y="12948"/>
                </a:cubicBezTo>
                <a:cubicBezTo>
                  <a:pt x="12359" y="12828"/>
                  <a:pt x="12393" y="12688"/>
                  <a:pt x="12452" y="12576"/>
                </a:cubicBezTo>
                <a:cubicBezTo>
                  <a:pt x="12460" y="12568"/>
                  <a:pt x="12469" y="12559"/>
                  <a:pt x="12477" y="12551"/>
                </a:cubicBezTo>
                <a:cubicBezTo>
                  <a:pt x="12448" y="12639"/>
                  <a:pt x="12419" y="12730"/>
                  <a:pt x="12402" y="12824"/>
                </a:cubicBezTo>
                <a:cubicBezTo>
                  <a:pt x="12356" y="13073"/>
                  <a:pt x="12307" y="13316"/>
                  <a:pt x="12278" y="13568"/>
                </a:cubicBezTo>
                <a:cubicBezTo>
                  <a:pt x="12248" y="13832"/>
                  <a:pt x="12213" y="14074"/>
                  <a:pt x="12254" y="14337"/>
                </a:cubicBezTo>
                <a:cubicBezTo>
                  <a:pt x="12272" y="14455"/>
                  <a:pt x="12295" y="14511"/>
                  <a:pt x="12353" y="14610"/>
                </a:cubicBezTo>
                <a:cubicBezTo>
                  <a:pt x="12459" y="14525"/>
                  <a:pt x="12467" y="14549"/>
                  <a:pt x="12526" y="14412"/>
                </a:cubicBezTo>
                <a:cubicBezTo>
                  <a:pt x="12577" y="14284"/>
                  <a:pt x="12596" y="14240"/>
                  <a:pt x="12650" y="14163"/>
                </a:cubicBezTo>
              </a:path>
              <a:path w="5210" h="3101">
                <a:moveTo>
                  <a:pt x="13221" y="13146"/>
                </a:moveTo>
                <a:cubicBezTo>
                  <a:pt x="13276" y="13091"/>
                  <a:pt x="13301" y="13093"/>
                  <a:pt x="13295" y="13047"/>
                </a:cubicBezTo>
                <a:cubicBezTo>
                  <a:pt x="13211" y="13099"/>
                  <a:pt x="13154" y="13177"/>
                  <a:pt x="13072" y="13246"/>
                </a:cubicBezTo>
                <a:cubicBezTo>
                  <a:pt x="12983" y="13321"/>
                  <a:pt x="12929" y="13389"/>
                  <a:pt x="12874" y="13494"/>
                </a:cubicBezTo>
                <a:cubicBezTo>
                  <a:pt x="12827" y="13583"/>
                  <a:pt x="12844" y="13589"/>
                  <a:pt x="12898" y="13643"/>
                </a:cubicBezTo>
                <a:cubicBezTo>
                  <a:pt x="12950" y="13695"/>
                  <a:pt x="13054" y="13677"/>
                  <a:pt x="13122" y="13692"/>
                </a:cubicBezTo>
                <a:cubicBezTo>
                  <a:pt x="13232" y="13717"/>
                  <a:pt x="13315" y="13764"/>
                  <a:pt x="13395" y="13841"/>
                </a:cubicBezTo>
                <a:cubicBezTo>
                  <a:pt x="13492" y="13934"/>
                  <a:pt x="13518" y="13952"/>
                  <a:pt x="13444" y="14064"/>
                </a:cubicBezTo>
                <a:cubicBezTo>
                  <a:pt x="13371" y="14174"/>
                  <a:pt x="13285" y="14245"/>
                  <a:pt x="13171" y="14312"/>
                </a:cubicBezTo>
                <a:cubicBezTo>
                  <a:pt x="13090" y="14360"/>
                  <a:pt x="13029" y="14352"/>
                  <a:pt x="12948" y="14337"/>
                </a:cubicBezTo>
                <a:cubicBezTo>
                  <a:pt x="12955" y="14252"/>
                  <a:pt x="12966" y="14170"/>
                  <a:pt x="12998" y="14089"/>
                </a:cubicBezTo>
                <a:cubicBezTo>
                  <a:pt x="13047" y="13967"/>
                  <a:pt x="13129" y="13854"/>
                  <a:pt x="13196" y="13742"/>
                </a:cubicBezTo>
              </a:path>
              <a:path w="5210" h="3101">
                <a:moveTo>
                  <a:pt x="13791" y="12774"/>
                </a:moveTo>
                <a:cubicBezTo>
                  <a:pt x="13867" y="12672"/>
                  <a:pt x="13898" y="12630"/>
                  <a:pt x="13965" y="12551"/>
                </a:cubicBezTo>
                <a:cubicBezTo>
                  <a:pt x="13958" y="12655"/>
                  <a:pt x="13937" y="12746"/>
                  <a:pt x="13915" y="12849"/>
                </a:cubicBezTo>
                <a:cubicBezTo>
                  <a:pt x="13873" y="13041"/>
                  <a:pt x="13809" y="13228"/>
                  <a:pt x="13767" y="13419"/>
                </a:cubicBezTo>
                <a:cubicBezTo>
                  <a:pt x="13725" y="13610"/>
                  <a:pt x="13684" y="13799"/>
                  <a:pt x="13643" y="13990"/>
                </a:cubicBezTo>
                <a:cubicBezTo>
                  <a:pt x="13620" y="14097"/>
                  <a:pt x="13595" y="14207"/>
                  <a:pt x="13568" y="14312"/>
                </a:cubicBezTo>
                <a:cubicBezTo>
                  <a:pt x="13622" y="14199"/>
                  <a:pt x="13660" y="14076"/>
                  <a:pt x="13717" y="13965"/>
                </a:cubicBezTo>
                <a:cubicBezTo>
                  <a:pt x="13808" y="13785"/>
                  <a:pt x="13901" y="13603"/>
                  <a:pt x="14015" y="13444"/>
                </a:cubicBezTo>
                <a:cubicBezTo>
                  <a:pt x="14064" y="13376"/>
                  <a:pt x="14101" y="13334"/>
                  <a:pt x="14163" y="13295"/>
                </a:cubicBezTo>
                <a:cubicBezTo>
                  <a:pt x="14171" y="13295"/>
                  <a:pt x="14180" y="13295"/>
                  <a:pt x="14188" y="13295"/>
                </a:cubicBezTo>
                <a:cubicBezTo>
                  <a:pt x="14182" y="13371"/>
                  <a:pt x="14175" y="13444"/>
                  <a:pt x="14163" y="13519"/>
                </a:cubicBezTo>
                <a:cubicBezTo>
                  <a:pt x="14139" y="13674"/>
                  <a:pt x="14056" y="13807"/>
                  <a:pt x="14039" y="13965"/>
                </a:cubicBezTo>
                <a:cubicBezTo>
                  <a:pt x="14026" y="14089"/>
                  <a:pt x="14039" y="14136"/>
                  <a:pt x="14089" y="14213"/>
                </a:cubicBezTo>
                <a:cubicBezTo>
                  <a:pt x="14097" y="14221"/>
                  <a:pt x="14106" y="14230"/>
                  <a:pt x="14114" y="14238"/>
                </a:cubicBezTo>
                <a:cubicBezTo>
                  <a:pt x="14249" y="14220"/>
                  <a:pt x="14321" y="14171"/>
                  <a:pt x="14436" y="14089"/>
                </a:cubicBezTo>
                <a:cubicBezTo>
                  <a:pt x="14556" y="14003"/>
                  <a:pt x="14686" y="13879"/>
                  <a:pt x="14784" y="13767"/>
                </a:cubicBezTo>
                <a:cubicBezTo>
                  <a:pt x="14888" y="13647"/>
                  <a:pt x="14940" y="13529"/>
                  <a:pt x="15007" y="13395"/>
                </a:cubicBezTo>
                <a:cubicBezTo>
                  <a:pt x="15059" y="13290"/>
                  <a:pt x="15058" y="13309"/>
                  <a:pt x="15032" y="13221"/>
                </a:cubicBezTo>
                <a:cubicBezTo>
                  <a:pt x="15024" y="13213"/>
                  <a:pt x="15015" y="13204"/>
                  <a:pt x="15007" y="13196"/>
                </a:cubicBezTo>
                <a:cubicBezTo>
                  <a:pt x="14936" y="13238"/>
                  <a:pt x="14840" y="13269"/>
                  <a:pt x="14784" y="13345"/>
                </a:cubicBezTo>
                <a:cubicBezTo>
                  <a:pt x="14665" y="13507"/>
                  <a:pt x="14571" y="13674"/>
                  <a:pt x="14511" y="13866"/>
                </a:cubicBezTo>
                <a:cubicBezTo>
                  <a:pt x="14473" y="13986"/>
                  <a:pt x="14468" y="13986"/>
                  <a:pt x="14511" y="14089"/>
                </a:cubicBezTo>
                <a:cubicBezTo>
                  <a:pt x="14635" y="14050"/>
                  <a:pt x="14631" y="14089"/>
                  <a:pt x="14759" y="13965"/>
                </a:cubicBezTo>
                <a:cubicBezTo>
                  <a:pt x="14838" y="13889"/>
                  <a:pt x="14933" y="13767"/>
                  <a:pt x="14982" y="13667"/>
                </a:cubicBezTo>
                <a:cubicBezTo>
                  <a:pt x="15018" y="13593"/>
                  <a:pt x="15025" y="13523"/>
                  <a:pt x="15032" y="13444"/>
                </a:cubicBezTo>
                <a:cubicBezTo>
                  <a:pt x="14969" y="13507"/>
                  <a:pt x="14953" y="13526"/>
                  <a:pt x="14908" y="13618"/>
                </a:cubicBezTo>
                <a:cubicBezTo>
                  <a:pt x="14849" y="13741"/>
                  <a:pt x="14837" y="13805"/>
                  <a:pt x="14833" y="13940"/>
                </a:cubicBezTo>
                <a:cubicBezTo>
                  <a:pt x="14830" y="14047"/>
                  <a:pt x="14902" y="14131"/>
                  <a:pt x="15007" y="14163"/>
                </a:cubicBezTo>
                <a:cubicBezTo>
                  <a:pt x="15132" y="14201"/>
                  <a:pt x="15320" y="14142"/>
                  <a:pt x="15429" y="14089"/>
                </a:cubicBezTo>
                <a:cubicBezTo>
                  <a:pt x="15589" y="14011"/>
                  <a:pt x="15784" y="13903"/>
                  <a:pt x="15900" y="13767"/>
                </a:cubicBezTo>
                <a:cubicBezTo>
                  <a:pt x="16013" y="13634"/>
                  <a:pt x="16135" y="13472"/>
                  <a:pt x="16148" y="13295"/>
                </a:cubicBezTo>
                <a:cubicBezTo>
                  <a:pt x="16157" y="13176"/>
                  <a:pt x="16152" y="13144"/>
                  <a:pt x="16073" y="13072"/>
                </a:cubicBezTo>
                <a:cubicBezTo>
                  <a:pt x="16010" y="13014"/>
                  <a:pt x="15973" y="13020"/>
                  <a:pt x="15900" y="13047"/>
                </a:cubicBezTo>
                <a:cubicBezTo>
                  <a:pt x="15846" y="13067"/>
                  <a:pt x="15836" y="13114"/>
                  <a:pt x="15801" y="13146"/>
                </a:cubicBezTo>
              </a:path>
              <a:path w="5210" h="3101">
                <a:moveTo>
                  <a:pt x="15081" y="12303"/>
                </a:moveTo>
                <a:cubicBezTo>
                  <a:pt x="15041" y="12283"/>
                  <a:pt x="15025" y="12285"/>
                  <a:pt x="15032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3:48Z</dcterms:created>
  <dc:creator>jnewman</dc:creator>
  <dc:description/>
  <dc:language>en-US</dc:language>
  <cp:lastModifiedBy>abeason</cp:lastModifiedBy>
  <dcterms:modified xsi:type="dcterms:W3CDTF">2008-11-25T15:27:34Z</dcterms:modified>
  <cp:revision>14</cp:revision>
  <dc:subject/>
  <dc:title>Lesson 5.2 part two</dc:title>
</cp:coreProperties>
</file>